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8AAA-E2CA-4B27-96F0-1D8A4C3D2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F799-38DA-4425-95F2-A83349939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5099-177D-4A60-B892-3B38DA49B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EA21-5146-46CA-9852-2E61768D6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er, Norah T.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he Art of Floral Design Second Edi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elmar 2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BB90-70C5-474E-B2C0-C56E5181B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9656-7C05-491F-9136-4CA42807B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5D7B-B85D-432F-BF62-2B20A1553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4F28-D132-401A-AFEA-01BE42FBD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0521-62FA-481C-8FDF-C737E79B3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1B92-38DA-4415-8935-716D7A2CE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34DE-FB7E-424F-89E8-F1BCAA0EE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er, Norah T.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he Art of Floral Design Second Edi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elmar 2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C531-8C22-4887-A666-F48059E61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DA6B-F661-463B-80A7-2B0E3A241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er, Norah T.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he Art of Floral Design Second Edi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elmar 2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8EAF-E5B0-41B8-BF68-B100D648D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318C-DD83-44FB-B564-0DA14E00E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5E65-F4AD-4885-BAD6-5B25AA81B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er, Norah T.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he Art of Floral Design Second Edi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elmar 2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487C-EC6C-4141-A1AA-4EE9BDE90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1745-C829-4E9C-A004-D73E0BD84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E526-ED62-4A91-AA70-8DA882BAA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A530-3F83-40B9-93A8-4B5BF5B02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3A02-274B-4E3E-873A-DD7EB75DE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Institute of Floral Designer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IFD Guide to Floral Design.  Terms, Techniques, and Tra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Intelvid Group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5CD6-640D-46DD-9F21-FB72F4281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E80E-8DBE-44B9-9209-F7D59C79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C720-FF11-47E5-B5B1-659EE8E9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9D72-4A3B-4B95-AB6E-E2499467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A836-8BE4-448F-BF88-8C9054DD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C135-69F2-4AB8-BFD5-8EAE2698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08B7-7E39-48F8-8AD5-EC82AAC8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B881-E385-4C6D-B433-A16818AA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8B5F-7EDA-420D-BD2B-46026008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450D-9CFB-467F-8C3D-B6B13C5B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044E-CB41-4F9D-AFDD-C30081D6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F301-000A-4DE2-B644-3D624E48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95E1-F0A4-4F16-9836-4C2B3F66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0667-B4CE-478E-9766-C647216D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A760-B4B3-4805-B0ED-F73A9010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2911-C189-421C-842F-1AA17287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3354-9797-43FC-AC59-68A791D2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7997-9A71-4FCA-836E-989A29B9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868-293D-4635-B08F-9103C450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4E2D-919A-4CAA-9A05-8EA3447B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DCCB-17E8-4872-AE75-896576F9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AD8-69EB-447C-9130-76E2B0C4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8A1-069D-46BC-9320-BB6CA474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375E-DB9C-45C0-9ED3-5F243BC1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EB28-3804-411F-B429-C0DB71D3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6B64-667D-4EDC-9013-5C97C56B23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4BC7-D178-47EE-B25C-FF23247E76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sh Flow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e &amp; Handl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gin re-cutting and conditioning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properly sanitized bu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cteria shortens the lifespan of cut flowers and foliage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nitize knives, cutters, work surfaces, coolers &amp; bucke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l the buckets with six to eight inches of clean, lukewarm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00-110 Degrees 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rm water will encourage the development and opening of the plant material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a correctly measured amount of the appropriate floral preservative to clean water and make sure that it is well dissol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loral preservative doubles the vase life of cut flower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loral preservative ingredi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rbohydrates to nouris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c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hibits the growth of microorganis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ifi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wers pH leve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regul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increase the vase life of some flow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tting ag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aid in water absor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ve any foliage that will be below the wat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courages bacterial grow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oid damaging the stem’s skin when stripp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uices from stem causes extra bacterial grow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t 1-3 inches off the bottoms of the 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cutting exposes fresh, healthy tissue to better uptak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us—outer cells surrounding cut that dry out-preventing up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d cutting under the same water can pollute with accumulating debris and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the plant stem at a 45-degree slant using a knif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ses a maximum area of clean, open cel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s the bottom of the stem from resting flat on the bottom of the bucket, further impeding water upta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a product has not been pre-treated, do so by placing or dipping into an appropriate hydrating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e flowers into buckets containing warm, pre-mixed nutrient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ent unnecessary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t or salt and sweat on the hands can easily stain and leave permanent damage on delicate plant surfa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tion th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ave product to recover and acclimatize for several hou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t becomes fully hydra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courages bud develop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re product at the right temperature and hum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lower temperature slows the respiration rate of cut plant materi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orage temperature--36-38 degrees 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opical plant materials—store 55-60 degrees F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umidity--minimum of 80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tate st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practice the ‘First In, First Out’ r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tain proper care and handling practices at the design b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plant material sensibly and pay attention to its needs and its dest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ak floral foam and bouquet holders in clean water with nutrien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 cut flowers in water rather than laying them on the be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 a packet of floral preservative with wrapped flowers and hand tied bouqu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 care instructions with flowers that are deliv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re and Handl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e Life-length of time flowers remain beauti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escence-flower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ep up with regular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dead f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empty buckets and clean care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water in the buckets and replace with the correct cut flower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stock partly filled buckets from flower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re and Handling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f Floral Arrange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enish water preservativ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wilted and re-cut or dis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way from ethylen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out of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warm sources (TV, microwa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draf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s of Care and Handling Experi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e and Handling Experiments—week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F:\photos\Floral Curriculum\Care and handling\P1050815.JPG"/>
          <p:cNvPicPr/>
          <p:nvPr/>
        </p:nvPicPr>
        <p:blipFill>
          <a:blip r:embed="rId1"/>
          <a:stretch/>
        </p:blipFill>
        <p:spPr>
          <a:xfrm>
            <a:off x="1550880" y="1600200"/>
            <a:ext cx="690732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e and Handling Experiments—week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F:\photos\Floral Curriculum\Care and handling\P1050861.JPG"/>
          <p:cNvPicPr/>
          <p:nvPr/>
        </p:nvPicPr>
        <p:blipFill>
          <a:blip r:embed="rId1"/>
          <a:stretch/>
        </p:blipFill>
        <p:spPr>
          <a:xfrm>
            <a:off x="3987720" y="1600200"/>
            <a:ext cx="4775400" cy="3581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F:\photos\Floral Curriculum\Care and handling\P1050866.JPG"/>
          <p:cNvPicPr/>
          <p:nvPr/>
        </p:nvPicPr>
        <p:blipFill>
          <a:blip r:embed="rId2"/>
          <a:stretch/>
        </p:blipFill>
        <p:spPr>
          <a:xfrm>
            <a:off x="304920" y="1523880"/>
            <a:ext cx="339876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e and Handling Experi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home remedies added to the water w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leach and lemon-lime sod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ster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gar and vineg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mon juice, sugar, blea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pirin and a penn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r wa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e and Handling Experi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preservative solutions added to the water w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loralife preservative sol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utriflo preservative sol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qualplus preservative sol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e and Handling Experi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methods of cutting the stems w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derwa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the ai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ushing st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utting with sciss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utting with knif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utting with prun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re-cutting the st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e and Handling Experi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ethods of storing plant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oler vs. room tem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y variable temperatu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ore on a microwave or T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y flowers wilt and die prematurel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em diameter and thickn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ability of the stem to absorb wa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ck of carbohydr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cessive transpir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cterial growth and disea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thylene g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roper surrounding condi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he Chain of Lif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in of Li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 long chain of handlers involved in moving the floral product from the greenhouse/field to the design b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er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rvest flowers and ship them to an a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ker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large quantities from foreign countries and domestic gr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ipper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ps by air or truck to wholesa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lesaler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flowers from brokers and growers; conditions flowers and sells to retail flor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rist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flowers from wholesalers and local growers; conditions flowers and sells and delivers flowers to 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flowers as a gift or purchases them for personal enj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he Chain of Lif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lesa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F:\photos\Floral Curriculum\DWF 09\0006\P1040310.JPG"/>
          <p:cNvPicPr/>
          <p:nvPr/>
        </p:nvPicPr>
        <p:blipFill>
          <a:blip r:embed="rId1"/>
          <a:stretch/>
        </p:blipFill>
        <p:spPr>
          <a:xfrm>
            <a:off x="1066680" y="19810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F:\photos\Floral Curriculum\DWF 09\0006\P1040316.JPG"/>
          <p:cNvPicPr/>
          <p:nvPr/>
        </p:nvPicPr>
        <p:blipFill>
          <a:blip r:embed="rId2"/>
          <a:stretch/>
        </p:blipFill>
        <p:spPr>
          <a:xfrm>
            <a:off x="4952880" y="411480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F:\photos\Floral Curriculum\DWF 09\0006\P1040332.JPG"/>
          <p:cNvPicPr/>
          <p:nvPr/>
        </p:nvPicPr>
        <p:blipFill>
          <a:blip r:embed="rId3"/>
          <a:stretch/>
        </p:blipFill>
        <p:spPr>
          <a:xfrm>
            <a:off x="4648320" y="21337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F:\photos\Floral Curriculum\DWF 09\0006\P1040322.JPG"/>
          <p:cNvPicPr/>
          <p:nvPr/>
        </p:nvPicPr>
        <p:blipFill>
          <a:blip r:embed="rId4"/>
          <a:stretch/>
        </p:blipFill>
        <p:spPr>
          <a:xfrm>
            <a:off x="1447920" y="4572000"/>
            <a:ext cx="2590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hemical Treat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hydr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d hydrating solution to water after harvesting plant materi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courages water absorption and maintains turgidit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peat if cut flowers transported out of wa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hydrate with clean, good quality wa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a biocide and or an acidifi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hemical Treat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sing-method of conditioning in which fresh cut plant material is in a particular solution for a certai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ains sugars like sucro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ven with growth regulat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d to inhibit bacterial grow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rove product quality during shipping &amp; storage to extend the ultimate vase life of the flow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ortant to know about how the product has been cared for along its journ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hemical Treat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ng the effects of ethylene gas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thylen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aturally occurring plant horm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volved in the aging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leased as an odorless, colorless g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remely harmful to cut flow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duced by ripening fruit &amp; vegetables, decomposing plant material, bacteria, and burning of gasoline, diesel fuel, firewood, and tobac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eatment-silver thiosufate sol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Guidelines on Care and Hand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receiving cut plant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en and unpack immediate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w the produce to breath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eck name, quantity, &amp; price against invo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ember correct plant &amp; variety name for future refer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eck quality and look for dam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8T20:18:12Z</dcterms:created>
  <dc:creator>Justin Patten</dc:creator>
  <dc:description/>
  <dc:language>en-US</dc:language>
  <cp:lastModifiedBy>PattJust</cp:lastModifiedBy>
  <dcterms:modified xsi:type="dcterms:W3CDTF">2009-06-15T04:19:47Z</dcterms:modified>
  <cp:revision>35</cp:revision>
  <dc:subject/>
  <dc:title>Care and Handling</dc:title>
</cp:coreProperties>
</file>