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108-8C2A-4B73-A499-BBA42112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160-6ADA-41E8-9014-89E681D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388-3A24-4A5E-AB9E-7F2DF1F1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D81-071B-4B65-A01F-6B5D24DD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7183-C64C-4493-803C-0644B946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C186-943E-4147-B912-CAA9E90D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9419-9E1F-4C03-B66E-BDF25751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38E-06EC-4270-A689-7E10C455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61D2-9AE4-4209-993A-9C73A2A0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E87-F5DB-4081-959A-AEDF9A00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77B8-F4AC-4123-AFCA-3D66D42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4BE-7435-42FA-9352-2FAED254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AB1B-533B-403D-8B35-C400DDC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792F-A8FD-43AE-A585-8DD31AC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1434-E262-42D1-8083-50B92FC8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658D-E286-443A-B650-485C4259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578-0B2A-4F45-B547-AA8B49A4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2E8-D166-416A-AC6B-9D1724CA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B4D-0001-4C32-BD02-CCBC239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253-FF72-46C3-9E8E-BA25A92B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DEC-9BD2-4CE3-9C83-4DD834F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8EF-67FE-48BC-8088-544D93FC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F48-D99D-4D26-924B-8B00AF2E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460-9ECB-408A-916D-E08E1B7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1FBA-9ADD-41A8-A0DA-C4EFC52AF0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959C-AC08-4E4E-B0F9-9E2A5CFDB2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assification of Plants and Floral Material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Father of Taxonomy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us Linnaeus (1707-177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ish bota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f binomial nomencl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wo n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533520"/>
          <a:ext cx="8458200" cy="5715000"/>
        </p:xfrm>
        <a:graphic>
          <a:graphicData uri="http://schemas.openxmlformats.org/drawingml/2006/table">
            <a:tbl>
              <a:tblPr/>
              <a:tblGrid>
                <a:gridCol w="3065760"/>
                <a:gridCol w="5392440"/>
              </a:tblGrid>
              <a:tr h="571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xonomic Hierarchy Ch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ae (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(Phylu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rmatophyta (seed bearing 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di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spermae (flowering plants with covered seed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liopsida (monoco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giberales (ginger fami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aceae (banan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lit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n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 of Parad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ientific Nam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s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s--capit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--not capit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italics or under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denotes a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 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ote a cultivar--man mad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—naturally occurring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s of Scientific Name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litzia reg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dra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cus benjami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Golden Princes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phrolepis exal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 x domestic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0:07:06Z</dcterms:created>
  <dc:creator>Snake River</dc:creator>
  <dc:description/>
  <dc:language>en-US</dc:language>
  <cp:lastModifiedBy>PattJust</cp:lastModifiedBy>
  <dcterms:modified xsi:type="dcterms:W3CDTF">2009-06-11T14:55:40Z</dcterms:modified>
  <cp:revision>9</cp:revision>
  <dc:subject/>
  <dc:title>The Classification of Plant and Floral Materials</dc:title>
</cp:coreProperties>
</file>