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5505-58CD-45C5-B745-31048A251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209-B1D8-4BCB-84DD-1B670C18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606D-CB44-4C5C-A3B6-3CB5927F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75C-951D-4EB9-9A4F-A45AF588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0A72-ABD8-42D2-AE9B-44EC5B10F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3BB-D20C-42A0-B984-6B9A6B77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06D-C186-4CB0-843E-1FF9CCCB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E80A-4CF2-4A2B-A423-F175C532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1E05-07F8-4988-BD65-70882029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794-D2C3-4222-B85C-D7A3CB65E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346C-6ADB-4A9A-947E-C5F1EC54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1522-C6C6-4162-A314-7A5351F6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DDE2-4828-49A4-8DC1-A3C357AF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52C-C6F0-45E9-8E85-B5124989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81F2-1B6C-4A34-81DD-31AE4BA4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EB73-865C-4DC1-81A9-51BCD0B2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7A0-0998-4B2E-B1E4-A50F5CD1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F00-96F0-4AF4-9F9F-31440949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9E3-C2BD-4A89-8DD1-F770854B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7FB-1765-49AD-9774-8AA59C54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316D-638F-4C2C-8585-147F4508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2C4-2D35-4001-AC9F-4512EDD6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6E8-7480-4C53-B07C-E3803EAB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845-97D6-43C5-99C4-C8F2CB2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DCE-997E-4E98-80C6-F5047A5E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014-9557-4E41-926A-80B6F723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EC7-09E6-413F-B5F5-6E99E64A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6937-D571-4185-95EE-9DB3AB01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3B1-671C-46A4-9D0E-A18D4E24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2612-587D-4DAE-9D1D-D86DE087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044D-EE99-4241-A50A-462CC586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73C0-F517-47B3-94D4-44EE8FB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B7F-AD1B-4FC5-B75E-96E145D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6EB-7341-47E3-AD95-23D090E9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8CF-562D-4B98-8AD5-CEDFD78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AF3-E9A4-4DBE-9886-93543A7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274-E5E3-4139-962C-95650FE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3362-F9AC-4F7F-B595-22EE2149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933E-8772-43D7-BEF4-3393B045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57F-01E8-47BD-9755-6F0D73A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990-AECF-4612-A7F7-E042BCDF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FD0-BC84-4931-8231-C0C9E0C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06E-F57C-44B8-A02D-7EC09262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390-0253-46CA-80DD-83969B5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A27-DF2E-40E5-A806-62CDAC2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7AC-E95C-4497-9AAB-1566DF3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265-9808-47B1-882D-42EB3A1FF4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409-0B69-44A8-9EDC-599DC15863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Flow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&amp; Hand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gin re-cutting and conditioning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properly sanitized bu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teria shortens the lifespan of cut flowers and foliag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nitize knives, cutters, work surfaces, coolers &amp; bucke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the buckets with six to eight inches of clean, lukewarm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0-110 Degrees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rm water will encourage the development and opening of the plant material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a correctly measured amount of the appropriate floral preservative to clean water and make sure that it is well dis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oral preservative doubles the vase life of cut flower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loral preservative ingredi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bohydrates to nour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hibits the growth of microorganis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f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ers pH lev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egu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ncrease the vase life of some fl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ting ag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aid in water absor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any foliage that will be below the wat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ourages bacterial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damaging the stem’s skin when strip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uices from stem causes extra bacterial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1-3 inches off the bottoms of the 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cutting exposes fresh, healthy tissue to better uptak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us—outer cells surrounding cut that dry out-preventing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cutting under the same water can pollute with accumulating debris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e plant stem at a 45-degree slant using a knif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es a maximum area of clean, open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s the bottom of the stem from resting flat on the bottom of the bucket, further impeding water up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product has not been pre-treated, do so by placing or dipping into an appropriate hydrating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flowers into buckets containing warm, pre-mixed nutrient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unnecessary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t or salt and sweat on the hands can easily stain and leave permanent damage on delicate plant surf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ve product to recover and acclimatize for several h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t becomes fully hydr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courages bud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e product at the right temperature and 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ower temperature slows the respiration rate of cut plant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 temperature--36-38 degrees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opical plant materials—store 55-60 degrees 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umidity--minimum of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tate st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actice the ‘First In, First Out’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proper care and handling practices at the design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plant material sensibly and pay attention to its needs and its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k floral foam and bouquet holders in clean water with nutrien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cut flowers in water rather than laying them on the b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a packet of floral preservative with wrapped flowers and hand tied bouqu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care instructions with flowers that are deli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e and Hand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e Life-length of time flowers remain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escence-flow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up with regular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dead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empty buckets and clean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water in the buckets and replace with the correct cut flowe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tock partly filled buckets from flower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e and Handling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f Floral Arrang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enish water preservativ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wilted and re-cut or dis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way from ethylen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ut of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warm sources (TV, micro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s of 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—week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photos\Floral Curriculum\Care and handling\P1050815.JPG"/>
          <p:cNvPicPr/>
          <p:nvPr/>
        </p:nvPicPr>
        <p:blipFill>
          <a:blip r:embed="rId1"/>
          <a:stretch/>
        </p:blipFill>
        <p:spPr>
          <a:xfrm>
            <a:off x="1550880" y="1600200"/>
            <a:ext cx="69073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—week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photos\Floral Curriculum\Care and handling\P1050861.JPG"/>
          <p:cNvPicPr/>
          <p:nvPr/>
        </p:nvPicPr>
        <p:blipFill>
          <a:blip r:embed="rId1"/>
          <a:stretch/>
        </p:blipFill>
        <p:spPr>
          <a:xfrm>
            <a:off x="3987720" y="1600200"/>
            <a:ext cx="477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F:\photos\Floral Curriculum\Care and handling\P1050866.JPG"/>
          <p:cNvPicPr/>
          <p:nvPr/>
        </p:nvPicPr>
        <p:blipFill>
          <a:blip r:embed="rId2"/>
          <a:stretch/>
        </p:blipFill>
        <p:spPr>
          <a:xfrm>
            <a:off x="304920" y="1523880"/>
            <a:ext cx="3398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home remedies added to the water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each and lemon-lime s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e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gar and vineg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mon juice, sugar, bl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pirin and a pen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r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reservative solutions added to the water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oralife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utriflo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alplus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ethods of cutting the stems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a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ushing 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sciss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knif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pru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re-cutting the 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thods of storing plant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oler vs. room tem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y variable tempera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on a microwave or T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flowers wilt and die premature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diameter and thick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ability of the stem to absorb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carbohyd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essive transpi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terial growth and dis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ylene g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per surround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 long chain of handlers involved in moving the floral product from the greenhouse/field to the design b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vest flowers and ship them to an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k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large quantities from foreign countries and domestic g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p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ps by air or truck to wholes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from brokers and growers; conditions flowers and sells to retail fl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rist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from wholesalers and local growers; conditions flowers and sells and delivers flowers to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as a gift or purchases them for personal enj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F:\photos\Floral Curriculum\DWF 09\0006\P1040310.JPG"/>
          <p:cNvPicPr/>
          <p:nvPr/>
        </p:nvPicPr>
        <p:blipFill>
          <a:blip r:embed="rId1"/>
          <a:stretch/>
        </p:blipFill>
        <p:spPr>
          <a:xfrm>
            <a:off x="1066680" y="1981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:\photos\Floral Curriculum\DWF 09\0006\P1040316.JPG"/>
          <p:cNvPicPr/>
          <p:nvPr/>
        </p:nvPicPr>
        <p:blipFill>
          <a:blip r:embed="rId2"/>
          <a:stretch/>
        </p:blipFill>
        <p:spPr>
          <a:xfrm>
            <a:off x="4952880" y="4114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F:\photos\Floral Curriculum\DWF 09\0006\P1040332.JPG"/>
          <p:cNvPicPr/>
          <p:nvPr/>
        </p:nvPicPr>
        <p:blipFill>
          <a:blip r:embed="rId3"/>
          <a:stretch/>
        </p:blipFill>
        <p:spPr>
          <a:xfrm>
            <a:off x="464832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F:\photos\Floral Curriculum\DWF 09\0006\P1040322.JPG"/>
          <p:cNvPicPr/>
          <p:nvPr/>
        </p:nvPicPr>
        <p:blipFill>
          <a:blip r:embed="rId4"/>
          <a:stretch/>
        </p:blipFill>
        <p:spPr>
          <a:xfrm>
            <a:off x="1447920" y="45720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yd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hydrating solution to water after harvesting plant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courages water absorption and maintains turgid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 if cut flowers transported out of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hydrate with clean, good quality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biocide and or an acidif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ing-method of conditioning in which fresh cut plant material is in a particular solution for a certa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sugars like sucr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with growth regula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inhibit bacterial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product quality during shipping &amp; storage to extend the ultimate vase life of th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ortant to know about how the product has been cared for along its jour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ng the effects of ethylene gas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yle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urally occurring plant horm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olved in the ag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eased as an odorless, colorless g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emely harmful to cut fl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ed by ripening fruit &amp; vegetables, decomposing plant material, bacteria, and burning of gasoline, diesel fuel, firewood, and tobac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atment-silver thiosufat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receiving cut plant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 and unpack immediate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the produce to brea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name, quantity, &amp; price against invo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correct plant &amp; variety name for future re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quality and look for da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20:18:12Z</dcterms:created>
  <dc:creator>Justin Patten</dc:creator>
  <dc:description/>
  <dc:language>en-US</dc:language>
  <cp:lastModifiedBy>PattJust</cp:lastModifiedBy>
  <dcterms:modified xsi:type="dcterms:W3CDTF">2009-06-15T04:19:47Z</dcterms:modified>
  <cp:revision>35</cp:revision>
  <dc:subject/>
  <dc:title>Care and Handling</dc:title>
</cp:coreProperties>
</file>