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753-B81F-4B74-8D4C-117F1405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03F-29C3-4D40-A20A-0BFBD9A1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667-A5AF-4BDB-8A0D-15CEF68E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7A1-4B9C-45A2-8A14-59958AE3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246A-C4AD-4DF8-9684-E536CCD5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BF5E-7AE2-4D49-B8CF-EA5DF4E7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1255-0133-4E8D-AE49-B60598C7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3BA5-CA31-42AC-975D-F4DF61B6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A80D-5CCE-47DC-A85F-DA6C68E1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4976-5DC8-4552-869C-472127BF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BA36-B91D-41FC-A473-DB3CE443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5ED-D79B-4DF7-82D1-88C4ACD9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BFF1-85E0-4FBE-8A85-9A264C16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E83B-CB2E-4E23-A79D-06EB6935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1BFA-1798-45B9-887D-CAE5D199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7966-DFBF-4C41-AA27-4B23538E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FCDC-1ABD-46EF-BDE6-371D8791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A3E-4755-425D-8941-0C877266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91D-6EC4-4726-AB9B-AD7E471C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59D-1BC6-43B8-939C-2D91986A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EC8-E9BD-4892-9772-2B67C66A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44BF-3F0E-458E-8363-A68294CD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CD5-3735-4ED1-87E7-858BD5EA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FFC-7AE6-44ED-9011-C7F4AC6F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1568-75AC-446C-A966-AA517AF26D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C902-214D-4CF6-9A3B-0C2DE4AB15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lassification of Plants and Floral Materials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Father of Taxonomy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us Linnaeus (1707-1778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dish bota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of binomial nomencl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wo na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0880" y="533520"/>
          <a:ext cx="8458200" cy="5715000"/>
        </p:xfrm>
        <a:graphic>
          <a:graphicData uri="http://schemas.openxmlformats.org/drawingml/2006/table">
            <a:tbl>
              <a:tblPr/>
              <a:tblGrid>
                <a:gridCol w="3065760"/>
                <a:gridCol w="5392440"/>
              </a:tblGrid>
              <a:tr h="571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xonomic Hierarchy Ch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gd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ae (pla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 (Phylu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rmatophyta (seed bearing pla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div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ospermae (flowering plants with covered seed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liopsida (monoco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giberales (ginger famil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aceae (banan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litz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n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d of Parad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cientific Name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us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us--capit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--not capit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in italics or underl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denotes a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 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ote a cultivar--man mad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—naturally occurring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s of Scientific Name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litzia regi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dra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cus benjami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Golden Princes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phrolepis exal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largonium x domestic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0:07:06Z</dcterms:created>
  <dc:creator>Snake River</dc:creator>
  <dc:description/>
  <dc:language>en-US</dc:language>
  <cp:lastModifiedBy>PattJust</cp:lastModifiedBy>
  <dcterms:modified xsi:type="dcterms:W3CDTF">2009-06-11T14:55:40Z</dcterms:modified>
  <cp:revision>9</cp:revision>
  <dc:subject/>
  <dc:title>The Classification of Plant and Floral Materials</dc:title>
</cp:coreProperties>
</file>