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3.png" ContentType="image/png"/>
  <Override PartName="/ppt/media/image37.jpeg" ContentType="image/jpeg"/>
  <Override PartName="/ppt/media/image50.png" ContentType="image/png"/>
  <Override PartName="/ppt/media/image36.png" ContentType="image/png"/>
  <Override PartName="/ppt/media/image44.png" ContentType="image/png"/>
  <Override PartName="/ppt/media/image45.jpeg" ContentType="image/jpeg"/>
  <Override PartName="/ppt/media/image12.jpeg" ContentType="image/jpeg"/>
  <Override PartName="/ppt/media/image34.png" ContentType="image/png"/>
  <Override PartName="/ppt/media/image46.png" ContentType="image/png"/>
  <Override PartName="/ppt/media/image48.png" ContentType="image/png"/>
  <Override PartName="/ppt/media/image11.png" ContentType="image/png"/>
  <Override PartName="/ppt/media/image30.jpeg" ContentType="image/jpeg"/>
  <Override PartName="/ppt/media/image47.jpeg" ContentType="image/jpeg"/>
  <Override PartName="/ppt/media/image49.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89A3-705D-4AC2-98F4-9FF25C098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8D8B-7E40-47E2-B681-ABA1876F8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EDCA-05E3-4B51-B5A1-BBA259929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london.co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BEE3-EFD6-4FB2-9EE9-A728684BD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ave-on-crafts.co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pgmag.co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photoarchive.co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p.co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B35C-D6CA-4095-ACC1-6E231B7BA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928D-1E7C-4E8F-90D3-60DF8E8E8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13AC-4F6B-44D0-9248-BFEA61761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CD6D-2719-4433-8A11-571C14FF4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521E-6003-4BB9-A5F9-ADF12FE34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2D76-1866-48CD-8D34-79244889D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049E-8C46-496F-8BF4-A1934BC4C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oncrafts.com</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5709-8C46-40E4-8D63-D59DAD465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panaramastock.com</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CB92-C40D-4B99-A0B6-AD37BD89B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8509-9FF4-48ED-81C3-27D3556A4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075D-C883-4971-BE0B-EFD8798FF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A814-7839-4268-9780-9FFF2BCAB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B896-961C-48D8-B812-80363B3BA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E782-14CF-46F7-B29A-E50A2A54C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centralamerica.about.co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C97B-4AA2-4A3C-A76D-295B048D4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A418-BD94-4954-B1C7-54C50E87A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stock.co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C83A-E528-4EFC-AD10-4DDF8AFB1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E40C-2E48-4FA0-B80C-58FF6D6E7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D030-0C5F-4BBE-A7C0-D9A8CFEBB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461B-B283-44FC-B526-2848FBC47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6A67-E4E1-4AD7-8328-D9EA40C54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amibeach411.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34FC-2B14-45EA-B16F-B520E40E7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E2716-2B72-45DA-94D2-4702018FB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AAA58-75A7-408B-BA9F-C457D1F1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D7232-DFBC-4BC2-9DEF-A8A1C1B69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A0FD2-C929-49C7-A227-12F796409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7D903-385C-4DF0-89AF-1AFA366F6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A5A44-970C-478D-8833-5AAD1733D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90FC0-21CC-4D65-B361-8D8E0D582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4E6F-F57E-4354-A7D0-83FAA9645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340E9-519D-4926-B8B7-8D397A87F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E59F7-93D7-4941-9868-F3C9D7552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71C74-DC92-4FCA-91F9-74FD62F88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2ADE4-C07C-4AEE-A882-62ED6D8E6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F80B3-92D7-414B-A635-0D5057530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0E80F-2554-4EE1-B15A-2B45ADCB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0369E-DD71-45D1-A31F-5BA951B77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590F9-4B32-4181-9844-028BE8934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2BA49-9BBF-46A1-A6E2-331FAF104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5D486A-181B-4841-A54D-D09763DDF5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FF7E6-D04C-4B0D-8F41-F9C8C1730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B4F19-6BF3-4939-9AF2-2F93C5652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6C8B6-B919-4E75-B4BF-698585E66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65C43-8723-46C3-98A7-6687C49D9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3821-2FEA-487A-9079-92C00F1A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6866E-36F1-4140-965F-E21476B2B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3A3FB-102D-4110-91AE-606B78510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B6FBB-EBC7-4E2F-9616-2FA3A500C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77CDE-26E4-4010-871A-AE5F6897B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162AD-1E01-40FA-A3EF-4F2BAAEDD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62D4C-1A6E-4455-A1A2-CD7DDFFFE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89133-936A-4697-B7A5-010539615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1721C7-BFB9-4F61-A2A7-3EE029815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E3A33-B906-4233-A3A7-C134F513F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3E655-EDB7-4A48-BC3B-8DD59F9CF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536DF-4037-42FF-8C3C-D34C81B9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E3532-8968-4105-AF07-EEC6A4041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805C3-3BAD-4E5F-96BF-186CE47F2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69B9D-4CD3-4AAC-A89B-242DBC177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B9F1E-74B9-41C2-9261-43BC8D72C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067F2-8417-4F5C-91E3-5BEEA0B28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86A7B-F0CB-4829-A550-7C61EE495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66588-C798-49A4-AA34-39525F4C3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CA8DC-A9AD-4826-9AAA-491B7E587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E01D6-1320-4D61-B875-B0FFF12E5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05133-BCC3-4DE8-8C60-CCE2160D3E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2498-E4BF-4AB0-BC6E-031F5A0F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1FAF4-8758-45F2-AF1B-5106DDBC7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11BE2-EAC2-4A62-8774-3C00C3283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B4BF4-8A70-4B87-9357-480EB8323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5CE92-53AC-460B-951E-61491B6C8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E7A61-6176-425D-9965-08CEDCB84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03172-41F4-480F-9E44-5C3B69EE6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4CC06-E8B3-48E4-AC46-EEB2E3DE2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2A886-B9C2-40FD-879F-BDCF94906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ED553-98FA-445C-90A8-84724BE6D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F29363-2649-4C2B-812C-6C515C8832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E90D-F33A-45D8-8BD1-4FAFA2886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A524A9-A1FA-44C0-AF7C-78664F609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2019-B1AC-4602-8261-05657C068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A965-27AC-498A-B9DF-47163EC8E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0A15-3D3B-4E92-AAD5-16C70A15A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1640-8AE7-43C4-A6A3-E71632E3369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7721-D378-4DF4-B69F-C07FA61900A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C3AA-862D-4AA1-BD73-0D7F52181E6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C524-3740-4602-A19A-485E0792B6D7}"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8A54-43F2-4414-A35E-2E5FA23772A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z.about.com/d/phoenix/1/0/N/M/2/tempemarketplace06.jp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z.about.com/d/gocentralamerica/1/0/c/K/-/-/Fake_Flowers.JPG" TargetMode="External"/><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59160" y="530280"/>
            <a:ext cx="5535720" cy="2878200"/>
          </a:xfrm>
          <a:prstGeom prst="rect">
            <a:avLst/>
          </a:prstGeom>
          <a:ln w="0">
            <a:noFill/>
          </a:ln>
        </p:spPr>
      </p:pic>
      <p:pic>
        <p:nvPicPr>
          <p:cNvPr id="228" name="Picture 5" descr="Portland flower shop Valentine Flowers and Cupid's Arrow.Bybee"/>
          <p:cNvPicPr/>
          <p:nvPr/>
        </p:nvPicPr>
        <p:blipFill>
          <a:blip r:embed="rId2"/>
          <a:stretch/>
        </p:blipFill>
        <p:spPr>
          <a:xfrm>
            <a:off x="380880" y="762120"/>
            <a:ext cx="2041560" cy="2819160"/>
          </a:xfrm>
          <a:prstGeom prst="rect">
            <a:avLst/>
          </a:prstGeom>
          <a:ln w="0">
            <a:noFill/>
          </a:ln>
        </p:spPr>
      </p:pic>
      <p:pic>
        <p:nvPicPr>
          <p:cNvPr id="229" name="Picture 7" descr="bevfabriccrafts_2056_144716404"/>
          <p:cNvPicPr/>
          <p:nvPr/>
        </p:nvPicPr>
        <p:blipFill>
          <a:blip r:embed="rId3"/>
          <a:stretch/>
        </p:blipFill>
        <p:spPr>
          <a:xfrm>
            <a:off x="380880" y="3809880"/>
            <a:ext cx="2057400" cy="185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4" descr=""/>
          <p:cNvPicPr/>
          <p:nvPr/>
        </p:nvPicPr>
        <p:blipFill>
          <a:blip r:embed="rId1"/>
          <a:stretch/>
        </p:blipFill>
        <p:spPr>
          <a:xfrm>
            <a:off x="212760" y="317520"/>
            <a:ext cx="7493040" cy="1150920"/>
          </a:xfrm>
          <a:prstGeom prst="rect">
            <a:avLst/>
          </a:prstGeom>
          <a:ln w="0">
            <a:noFill/>
          </a:ln>
        </p:spPr>
      </p:pic>
      <p:pic>
        <p:nvPicPr>
          <p:cNvPr id="247" name="Picture 5" descr="Killeen, TX - Florist located in Killeen, Texas"/>
          <p:cNvPicPr/>
          <p:nvPr/>
        </p:nvPicPr>
        <p:blipFill>
          <a:blip r:embed="rId2"/>
          <a:stretch/>
        </p:blipFill>
        <p:spPr>
          <a:xfrm>
            <a:off x="762120" y="2133720"/>
            <a:ext cx="5572080" cy="246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212760" y="317520"/>
            <a:ext cx="7493040" cy="1150920"/>
          </a:xfrm>
          <a:prstGeom prst="rect">
            <a:avLst/>
          </a:prstGeom>
          <a:ln w="0">
            <a:noFill/>
          </a:ln>
        </p:spPr>
      </p:pic>
      <p:pic>
        <p:nvPicPr>
          <p:cNvPr id="249" name="Picture 5" descr="Tempe Marketplace">
            <a:hlinkClick r:id="rId2"/>
          </p:cNvPr>
          <p:cNvPicPr/>
          <p:nvPr/>
        </p:nvPicPr>
        <p:blipFill>
          <a:blip r:embed="rId3"/>
          <a:stretch/>
        </p:blipFill>
        <p:spPr>
          <a:xfrm>
            <a:off x="533520" y="1676520"/>
            <a:ext cx="7186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pic>
        <p:nvPicPr>
          <p:cNvPr id="251" name="Picture 5" descr="mallsfs01"/>
          <p:cNvPicPr/>
          <p:nvPr/>
        </p:nvPicPr>
        <p:blipFill>
          <a:blip r:embed="rId2"/>
          <a:stretch/>
        </p:blipFill>
        <p:spPr>
          <a:xfrm>
            <a:off x="762120" y="1600200"/>
            <a:ext cx="3429000" cy="51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212760" y="317520"/>
            <a:ext cx="7493040" cy="1150920"/>
          </a:xfrm>
          <a:prstGeom prst="rect">
            <a:avLst/>
          </a:prstGeom>
          <a:ln w="0">
            <a:noFill/>
          </a:ln>
        </p:spPr>
      </p:pic>
      <p:pic>
        <p:nvPicPr>
          <p:cNvPr id="253" name="Picture 5" descr="A Flower Shop on the Victoria Station Concourse photo"/>
          <p:cNvPicPr/>
          <p:nvPr/>
        </p:nvPicPr>
        <p:blipFill>
          <a:blip r:embed="rId2"/>
          <a:stretch/>
        </p:blipFill>
        <p:spPr>
          <a:xfrm>
            <a:off x="990720" y="2057400"/>
            <a:ext cx="63291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44440" y="317520"/>
            <a:ext cx="7461360" cy="11509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siness complex:  often combine the full-service features needed by business accounts with merchandising loose fresh flowers for personal, office, and home use.  Clearly defined customer base determined by immediate tenant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wntown location:  usually long-established businesses, building adjoin each other, but have own store fro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5" descr=""/>
          <p:cNvPicPr/>
          <p:nvPr/>
        </p:nvPicPr>
        <p:blipFill>
          <a:blip r:embed="rId1"/>
          <a:stretch/>
        </p:blipFill>
        <p:spPr>
          <a:xfrm>
            <a:off x="212760" y="317520"/>
            <a:ext cx="7493040" cy="1150920"/>
          </a:xfrm>
          <a:prstGeom prst="rect">
            <a:avLst/>
          </a:prstGeom>
          <a:ln w="0">
            <a:noFill/>
          </a:ln>
        </p:spPr>
      </p:pic>
      <p:pic>
        <p:nvPicPr>
          <p:cNvPr id="257" name="Picture 5" descr="bevfabriccrafts_2056_140337912"/>
          <p:cNvPicPr/>
          <p:nvPr/>
        </p:nvPicPr>
        <p:blipFill>
          <a:blip r:embed="rId2"/>
          <a:stretch/>
        </p:blipFill>
        <p:spPr>
          <a:xfrm>
            <a:off x="457200" y="2133720"/>
            <a:ext cx="745164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4" descr=""/>
          <p:cNvPicPr/>
          <p:nvPr/>
        </p:nvPicPr>
        <p:blipFill>
          <a:blip r:embed="rId1"/>
          <a:stretch/>
        </p:blipFill>
        <p:spPr>
          <a:xfrm>
            <a:off x="212760" y="317520"/>
            <a:ext cx="7493040" cy="1150920"/>
          </a:xfrm>
          <a:prstGeom prst="rect">
            <a:avLst/>
          </a:prstGeom>
          <a:ln w="0">
            <a:noFill/>
          </a:ln>
        </p:spPr>
      </p:pic>
      <p:pic>
        <p:nvPicPr>
          <p:cNvPr id="259" name="Picture 5" descr="French Flower Shop"/>
          <p:cNvPicPr/>
          <p:nvPr/>
        </p:nvPicPr>
        <p:blipFill>
          <a:blip r:embed="rId2"/>
          <a:stretch/>
        </p:blipFill>
        <p:spPr>
          <a:xfrm>
            <a:off x="1143000" y="1752480"/>
            <a:ext cx="6267600" cy="417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4" descr=""/>
          <p:cNvPicPr/>
          <p:nvPr/>
        </p:nvPicPr>
        <p:blipFill>
          <a:blip r:embed="rId1"/>
          <a:stretch/>
        </p:blipFill>
        <p:spPr>
          <a:xfrm>
            <a:off x="212760" y="317520"/>
            <a:ext cx="7493040" cy="1150920"/>
          </a:xfrm>
          <a:prstGeom prst="rect">
            <a:avLst/>
          </a:prstGeom>
          <a:ln w="0">
            <a:noFill/>
          </a:ln>
        </p:spPr>
      </p:pic>
      <p:pic>
        <p:nvPicPr>
          <p:cNvPr id="261" name="Picture 5" descr="Portland flower shop Valentine Flowers and Cupid's Arrow.Bybee"/>
          <p:cNvPicPr/>
          <p:nvPr/>
        </p:nvPicPr>
        <p:blipFill>
          <a:blip r:embed="rId2"/>
          <a:stretch/>
        </p:blipFill>
        <p:spPr>
          <a:xfrm>
            <a:off x="2438280" y="1752480"/>
            <a:ext cx="34768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4" descr=""/>
          <p:cNvPicPr/>
          <p:nvPr/>
        </p:nvPicPr>
        <p:blipFill>
          <a:blip r:embed="rId1"/>
          <a:stretch/>
        </p:blipFill>
        <p:spPr>
          <a:xfrm>
            <a:off x="212760" y="317520"/>
            <a:ext cx="7493040" cy="1150920"/>
          </a:xfrm>
          <a:prstGeom prst="rect">
            <a:avLst/>
          </a:prstGeom>
          <a:ln w="0">
            <a:noFill/>
          </a:ln>
        </p:spPr>
      </p:pic>
      <p:pic>
        <p:nvPicPr>
          <p:cNvPr id="263" name="Picture 5" descr="Carriage Flower Shop"/>
          <p:cNvPicPr/>
          <p:nvPr/>
        </p:nvPicPr>
        <p:blipFill>
          <a:blip r:embed="rId2"/>
          <a:stretch/>
        </p:blipFill>
        <p:spPr>
          <a:xfrm>
            <a:off x="838080" y="1447920"/>
            <a:ext cx="6667560" cy="44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244440" y="317520"/>
            <a:ext cx="7461360" cy="11509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department:  supermarkets and mass merchandisers with aggressive flower merchandising programs.  Usually prepackaged assortments.  Some may have complete floral servi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s merchandiser:  a retail enterprise that seeks to sell large quantities of goods quickly by means of discounting, customer self-service or unadorned display and packaging.</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87000"/>
          </a:bodyPr>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industry: a collective term for the people and business entities engaged in the production, promotion, and sale of floral products and related merchandise.  Aspects of the floral industry include growers, wholesalers, retailers, transportation, product-development, manufacturing, freelance designers, educators, allied associations, publications, wire services, etc.</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ist: a person or business entity associated with the sale of flowers, plants and other related products. </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pic>
        <p:nvPicPr>
          <p:cNvPr id="267" name="Picture 7" descr="Flowers">
            <a:hlinkClick r:id="rId2"/>
          </p:cNvPr>
          <p:cNvPicPr/>
          <p:nvPr/>
        </p:nvPicPr>
        <p:blipFill>
          <a:blip r:embed="rId3"/>
          <a:stretch/>
        </p:blipFill>
        <p:spPr>
          <a:xfrm>
            <a:off x="2895480" y="1828800"/>
            <a:ext cx="3124440" cy="472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4" descr=""/>
          <p:cNvPicPr/>
          <p:nvPr/>
        </p:nvPicPr>
        <p:blipFill>
          <a:blip r:embed="rId1"/>
          <a:stretch/>
        </p:blipFill>
        <p:spPr>
          <a:xfrm>
            <a:off x="212760" y="317520"/>
            <a:ext cx="7493040" cy="115092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play area:  purpose is to capture attention and motivate people to buy.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ur primary goals:  </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 attention</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interest</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n interest into desi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sale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4"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ndow display:  communicate visually with people who pass by the shop.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right and bol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ble to communicate a message in a split seco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ame of shop prominent and easily rea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fluence viewer to stop and then to entice this prospective buyer to come into the flower shop</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4" descr=""/>
          <p:cNvPicPr/>
          <p:nvPr/>
        </p:nvPicPr>
        <p:blipFill>
          <a:blip r:embed="rId1"/>
          <a:stretch/>
        </p:blipFill>
        <p:spPr>
          <a:xfrm>
            <a:off x="212760" y="317520"/>
            <a:ext cx="7493040" cy="1150920"/>
          </a:xfrm>
          <a:prstGeom prst="rect">
            <a:avLst/>
          </a:prstGeom>
          <a:ln w="0">
            <a:noFill/>
          </a:ln>
        </p:spPr>
      </p:pic>
      <p:pic>
        <p:nvPicPr>
          <p:cNvPr id="273" name="Picture 5" descr="winterwonderlandwindowmorguefile-main_Full"/>
          <p:cNvPicPr/>
          <p:nvPr/>
        </p:nvPicPr>
        <p:blipFill>
          <a:blip r:embed="rId2"/>
          <a:stretch/>
        </p:blipFill>
        <p:spPr>
          <a:xfrm>
            <a:off x="1143000" y="182880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4" descr=""/>
          <p:cNvPicPr/>
          <p:nvPr/>
        </p:nvPicPr>
        <p:blipFill>
          <a:blip r:embed="rId1"/>
          <a:stretch/>
        </p:blipFill>
        <p:spPr>
          <a:xfrm>
            <a:off x="212760" y="317520"/>
            <a:ext cx="7493040" cy="1150920"/>
          </a:xfrm>
          <a:prstGeom prst="rect">
            <a:avLst/>
          </a:prstGeom>
          <a:ln w="0">
            <a:noFill/>
          </a:ln>
        </p:spPr>
      </p:pic>
      <p:pic>
        <p:nvPicPr>
          <p:cNvPr id="275" name="Picture 5" descr="winterwonderlanddeviationzmorguefile_Full"/>
          <p:cNvPicPr/>
          <p:nvPr/>
        </p:nvPicPr>
        <p:blipFill>
          <a:blip r:embed="rId2"/>
          <a:stretch/>
        </p:blipFill>
        <p:spPr>
          <a:xfrm>
            <a:off x="1219320" y="175248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store display:  product presentation should move the customer through the store in a preplanned sequ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osition the display refrigerator with fresh flowers at the back of the store</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ion pulls the customer through the sto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w full range of services offered by the floris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ignette:  refers to displaying or grouping similar types of merchandise for maximum visual appea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4" descr=""/>
          <p:cNvPicPr/>
          <p:nvPr/>
        </p:nvPicPr>
        <p:blipFill>
          <a:blip r:embed="rId1"/>
          <a:stretch/>
        </p:blipFill>
        <p:spPr>
          <a:xfrm>
            <a:off x="212760" y="317520"/>
            <a:ext cx="7493040" cy="1150920"/>
          </a:xfrm>
          <a:prstGeom prst="rect">
            <a:avLst/>
          </a:prstGeom>
          <a:ln w="0">
            <a:noFill/>
          </a:ln>
        </p:spPr>
      </p:pic>
      <p:pic>
        <p:nvPicPr>
          <p:cNvPr id="279" name="Picture 5" descr="Flowers and more flowers. A picture of our retail flower stand in the shop."/>
          <p:cNvPicPr/>
          <p:nvPr/>
        </p:nvPicPr>
        <p:blipFill>
          <a:blip r:embed="rId2"/>
          <a:stretch/>
        </p:blipFill>
        <p:spPr>
          <a:xfrm>
            <a:off x="2381400" y="1676520"/>
            <a:ext cx="3714480" cy="495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4" descr=""/>
          <p:cNvPicPr/>
          <p:nvPr/>
        </p:nvPicPr>
        <p:blipFill>
          <a:blip r:embed="rId1"/>
          <a:stretch/>
        </p:blipFill>
        <p:spPr>
          <a:xfrm>
            <a:off x="212760" y="317520"/>
            <a:ext cx="7493040" cy="1150920"/>
          </a:xfrm>
          <a:prstGeom prst="rect">
            <a:avLst/>
          </a:prstGeom>
          <a:ln w="0">
            <a:noFill/>
          </a:ln>
        </p:spPr>
      </p:pic>
      <p:pic>
        <p:nvPicPr>
          <p:cNvPr id="281" name="Picture 5" descr="Picture taken from the front three quarters up the shop looking towards the chiller doors."/>
          <p:cNvPicPr/>
          <p:nvPr/>
        </p:nvPicPr>
        <p:blipFill>
          <a:blip r:embed="rId2"/>
          <a:stretch/>
        </p:blipFill>
        <p:spPr>
          <a:xfrm>
            <a:off x="1066680" y="1905120"/>
            <a:ext cx="606744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212760" y="317520"/>
            <a:ext cx="7493040" cy="1150920"/>
          </a:xfrm>
          <a:prstGeom prst="rect">
            <a:avLst/>
          </a:prstGeom>
          <a:ln w="0">
            <a:noFill/>
          </a:ln>
        </p:spPr>
      </p:pic>
      <p:pic>
        <p:nvPicPr>
          <p:cNvPr id="283" name="Picture 7" descr="bevfabriccrafts_2056_144716404"/>
          <p:cNvPicPr/>
          <p:nvPr/>
        </p:nvPicPr>
        <p:blipFill>
          <a:blip r:embed="rId2"/>
          <a:stretch/>
        </p:blipFill>
        <p:spPr>
          <a:xfrm>
            <a:off x="1295280" y="1523880"/>
            <a:ext cx="5486400" cy="495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3" descr=""/>
          <p:cNvPicPr/>
          <p:nvPr/>
        </p:nvPicPr>
        <p:blipFill>
          <a:blip r:embed="rId1"/>
          <a:stretch/>
        </p:blipFill>
        <p:spPr>
          <a:xfrm>
            <a:off x="244440" y="291960"/>
            <a:ext cx="7461360" cy="1176480"/>
          </a:xfrm>
          <a:prstGeom prst="rect">
            <a:avLst/>
          </a:prstGeom>
          <a:ln w="0">
            <a:noFill/>
          </a:ln>
        </p:spPr>
      </p:pic>
      <p:pic>
        <p:nvPicPr>
          <p:cNvPr id="285" name="Picture 5" descr="watermark2"/>
          <p:cNvPicPr/>
          <p:nvPr/>
        </p:nvPicPr>
        <p:blipFill>
          <a:blip r:embed="rId2"/>
          <a:stretch/>
        </p:blipFill>
        <p:spPr>
          <a:xfrm>
            <a:off x="380880" y="2286000"/>
            <a:ext cx="863928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17520"/>
            <a:ext cx="7493040" cy="11509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tailing: the business of selling goods obtained from a wholesaler or other supplier to the consum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olesaling: one who buys flowers, plants, and/or related products from growers, brokers, and manufacturer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stomer service area:  sales counter and consultation spa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elp customers make selections and purchas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cludes space for telephone sales, fax, and computer order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4" descr=""/>
          <p:cNvPicPr/>
          <p:nvPr/>
        </p:nvPicPr>
        <p:blipFill>
          <a:blip r:embed="rId1"/>
          <a:stretch/>
        </p:blipFill>
        <p:spPr>
          <a:xfrm>
            <a:off x="212760" y="317520"/>
            <a:ext cx="7493040" cy="1150920"/>
          </a:xfrm>
          <a:prstGeom prst="rect">
            <a:avLst/>
          </a:prstGeom>
          <a:ln w="0">
            <a:noFill/>
          </a:ln>
        </p:spPr>
      </p:pic>
      <p:pic>
        <p:nvPicPr>
          <p:cNvPr id="289" name="Picture 9" descr="Flower shop">
            <a:hlinkClick r:id="rId2"/>
          </p:cNvPr>
          <p:cNvPicPr/>
          <p:nvPr/>
        </p:nvPicPr>
        <p:blipFill>
          <a:blip r:embed="rId3"/>
          <a:stretch/>
        </p:blipFill>
        <p:spPr>
          <a:xfrm>
            <a:off x="838080" y="1981080"/>
            <a:ext cx="6350040" cy="421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work area:  area within the floral shop where designers make arrangemen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ust be with tools and supplies organized and at hand</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4" descr=""/>
          <p:cNvPicPr/>
          <p:nvPr/>
        </p:nvPicPr>
        <p:blipFill>
          <a:blip r:embed="rId1"/>
          <a:stretch/>
        </p:blipFill>
        <p:spPr>
          <a:xfrm>
            <a:off x="212760" y="317520"/>
            <a:ext cx="7493040" cy="1150920"/>
          </a:xfrm>
          <a:prstGeom prst="rect">
            <a:avLst/>
          </a:prstGeom>
          <a:ln w="0">
            <a:noFill/>
          </a:ln>
        </p:spPr>
      </p:pic>
      <p:pic>
        <p:nvPicPr>
          <p:cNvPr id="293" name="Picture 5" descr="Flower shop easy style"/>
          <p:cNvPicPr/>
          <p:nvPr/>
        </p:nvPicPr>
        <p:blipFill>
          <a:blip r:embed="rId2"/>
          <a:stretch/>
        </p:blipFill>
        <p:spPr>
          <a:xfrm>
            <a:off x="1905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orage area:  area where seasonal and extra supplies are stor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ventory:  the items available for sale by a business at a given time, including the raw materials on hand used to produce completed items for sal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erishables:  items such as fresh cut flowers or living plants that are subject to spoilage or deca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rd goods: nonperishable staples, supplies, or inventory items, such as baskets, vases, ribbon, etc</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4" descr=""/>
          <p:cNvPicPr/>
          <p:nvPr/>
        </p:nvPicPr>
        <p:blipFill>
          <a:blip r:embed="rId1"/>
          <a:stretch/>
        </p:blipFill>
        <p:spPr>
          <a:xfrm>
            <a:off x="212760" y="317520"/>
            <a:ext cx="7493040" cy="1150920"/>
          </a:xfrm>
          <a:prstGeom prst="rect">
            <a:avLst/>
          </a:prstGeom>
          <a:ln w="0">
            <a:noFill/>
          </a:ln>
        </p:spPr>
      </p:pic>
      <p:pic>
        <p:nvPicPr>
          <p:cNvPr id="297" name="Picture 5" descr="Fake Flowers">
            <a:hlinkClick r:id="rId2"/>
          </p:cNvPr>
          <p:cNvPicPr/>
          <p:nvPr/>
        </p:nvPicPr>
        <p:blipFill>
          <a:blip r:embed="rId3"/>
          <a:stretch/>
        </p:blipFill>
        <p:spPr>
          <a:xfrm>
            <a:off x="1905120" y="1523880"/>
            <a:ext cx="3886200" cy="518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rigeration area:  fresh cut flowers and foliage are stored before and after designing</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orage refrigeration: large walk-in storage coolers hold flowers in buckets of preservative solution for use in arrangements, store boxes of fresh greenery, and keep arrangements cool and fresh while awaiting deliver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splay refrigeration:  form of visual merchandising.  Exhibit flowers by the stem, floral arrangements ready for sale, and floral arrangements ready for deliver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4" descr=""/>
          <p:cNvPicPr/>
          <p:nvPr/>
        </p:nvPicPr>
        <p:blipFill>
          <a:blip r:embed="rId1"/>
          <a:stretch/>
        </p:blipFill>
        <p:spPr>
          <a:xfrm>
            <a:off x="212760" y="317520"/>
            <a:ext cx="7493040" cy="1150920"/>
          </a:xfrm>
          <a:prstGeom prst="rect">
            <a:avLst/>
          </a:prstGeom>
          <a:ln w="0">
            <a:noFill/>
          </a:ln>
        </p:spPr>
      </p:pic>
      <p:pic>
        <p:nvPicPr>
          <p:cNvPr id="301" name="Picture 5" descr="Inside the flower chiller looking at all the flowers."/>
          <p:cNvPicPr/>
          <p:nvPr/>
        </p:nvPicPr>
        <p:blipFill>
          <a:blip r:embed="rId2"/>
          <a:stretch/>
        </p:blipFill>
        <p:spPr>
          <a:xfrm>
            <a:off x="1371600" y="1905120"/>
            <a:ext cx="6067440" cy="4066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4" descr=""/>
          <p:cNvPicPr/>
          <p:nvPr/>
        </p:nvPicPr>
        <p:blipFill>
          <a:blip r:embed="rId1"/>
          <a:stretch/>
        </p:blipFill>
        <p:spPr>
          <a:xfrm>
            <a:off x="212760" y="317520"/>
            <a:ext cx="7493040" cy="1150920"/>
          </a:xfrm>
          <a:prstGeom prst="rect">
            <a:avLst/>
          </a:prstGeom>
          <a:ln w="0">
            <a:noFill/>
          </a:ln>
        </p:spPr>
      </p:pic>
      <p:pic>
        <p:nvPicPr>
          <p:cNvPr id="303" name="Picture 5" descr="Oakland, CA - Flower Shop"/>
          <p:cNvPicPr/>
          <p:nvPr/>
        </p:nvPicPr>
        <p:blipFill>
          <a:blip r:embed="rId2"/>
          <a:stretch/>
        </p:blipFill>
        <p:spPr>
          <a:xfrm>
            <a:off x="1371600" y="1828800"/>
            <a:ext cx="5572080" cy="418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Business area:  space designated for paying bills, ordering flowers, paying wages, sales planning, etc.</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go: a graphic representation of a name, brand, symbol or trademark, designed for easy and definite identification and recogn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4" descr=""/>
          <p:cNvPicPr/>
          <p:nvPr/>
        </p:nvPicPr>
        <p:blipFill>
          <a:blip r:embed="rId1"/>
          <a:stretch/>
        </p:blipFill>
        <p:spPr>
          <a:xfrm>
            <a:off x="212760" y="317520"/>
            <a:ext cx="7493040" cy="1150920"/>
          </a:xfrm>
          <a:prstGeom prst="rect">
            <a:avLst/>
          </a:prstGeom>
          <a:ln w="0">
            <a:noFill/>
          </a:ln>
        </p:spPr>
      </p:pic>
      <p:pic>
        <p:nvPicPr>
          <p:cNvPr id="307" name="Picture 5" descr="Woman Working at Flower Shop (1555R-307808 / bxp212009 © Brand X)"/>
          <p:cNvPicPr/>
          <p:nvPr/>
        </p:nvPicPr>
        <p:blipFill>
          <a:blip r:embed="rId2"/>
          <a:stretch/>
        </p:blipFill>
        <p:spPr>
          <a:xfrm>
            <a:off x="2376360" y="1539720"/>
            <a:ext cx="3338640" cy="501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244440" y="291960"/>
            <a:ext cx="7564320" cy="1176480"/>
          </a:xfrm>
          <a:prstGeom prst="rect">
            <a:avLst/>
          </a:prstGeom>
          <a:ln w="0">
            <a:noFill/>
          </a:ln>
        </p:spPr>
      </p:pic>
      <p:sp>
        <p:nvSpPr>
          <p:cNvPr id="30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wner: may or may not work in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ager: oversees day to day operations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ales:  customer service, sell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design arrangements for delivery or sa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livery:  deliver floral arrangement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  take care of paperwork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Flower shop easy style"/>
          <p:cNvPicPr/>
          <p:nvPr/>
        </p:nvPicPr>
        <p:blipFill>
          <a:blip r:embed="rId1"/>
          <a:stretch/>
        </p:blipFill>
        <p:spPr>
          <a:xfrm>
            <a:off x="457200" y="2286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re service:  a commercial organization whose primary function is to administer the handling of wire orders between member florists.  Referring to the transfer of floral design orders from one shop for delivery by another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17520"/>
            <a:ext cx="7493040" cy="115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ull-Service flower shop:  a floral shop that provides every floral product and service needed by customers, including delivery and wire serv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ecialty flower shops:  a floral shop that targets particular floral needs, such as weddings, high style designs, or everlasting design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317520"/>
            <a:ext cx="7493040" cy="1150920"/>
          </a:xfrm>
          <a:prstGeom prst="rect">
            <a:avLst/>
          </a:prstGeom>
          <a:ln w="0">
            <a:noFill/>
          </a:ln>
        </p:spPr>
      </p:pic>
      <p:sp>
        <p:nvSpPr>
          <p:cNvPr id="24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mited-service flower shops:  a flower shop characterized by little or no added service and products; for example, a floral department in a grocery sto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wer merchandisers:  a retailer specializing in loose cut flowers sold by the stem or bunch who generally does not provide design or delivery servic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44440" y="317520"/>
            <a:ext cx="7461360" cy="11509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ree-standing flower shop:  a shop in a single unit build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rip-center flower shop:  combines several businesses that adjoin one another and make up a small shopping complex.</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pping mall:  floral shop found within a shopping mal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317520"/>
            <a:ext cx="7493040" cy="1150920"/>
          </a:xfrm>
          <a:prstGeom prst="rect">
            <a:avLst/>
          </a:prstGeom>
          <a:ln w="0">
            <a:noFill/>
          </a:ln>
        </p:spPr>
      </p:pic>
      <p:pic>
        <p:nvPicPr>
          <p:cNvPr id="245" name="Picture 4" descr="Flower Shop in Key West"/>
          <p:cNvPicPr/>
          <p:nvPr/>
        </p:nvPicPr>
        <p:blipFill>
          <a:blip r:embed="rId2"/>
          <a:stretch/>
        </p:blipFill>
        <p:spPr>
          <a:xfrm>
            <a:off x="528480" y="1371600"/>
            <a:ext cx="6710400" cy="503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20:19:53Z</dcterms:created>
  <dc:creator>Justin Patten</dc:creator>
  <dc:description/>
  <dc:language>en-US</dc:language>
  <cp:lastModifiedBy>PattJust</cp:lastModifiedBy>
  <dcterms:modified xsi:type="dcterms:W3CDTF">2009-06-14T00:09:01Z</dcterms:modified>
  <cp:revision>17</cp:revision>
  <dc:subject/>
  <dc:title>Floral Industry</dc:title>
</cp:coreProperties>
</file>