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A7A-A2E3-4C98-8BE4-95F50FEF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478-FA98-4BEF-BF37-3F792524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55D7-E901-4888-87E9-260D9AA7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5D7-9686-4B30-B9A8-74D3FCA5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C4D7-8B75-4DC8-9279-B57EDD53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39A-B674-4895-8F61-DB90FC9B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787D-D120-45DD-AB4D-AD5AD3AD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2C6-423A-42D4-9FA7-F74A0E34F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D9B-5C92-4B9D-9EB7-9A0DA16A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2D5-1C19-40DE-81FE-E253B1791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C4B-D1A2-400E-9BE5-ED6DB23D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ECAC-C47E-4509-B8ED-EB2F5D37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343-0437-41FC-83AA-9DCC0090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8F4-46EE-4C5B-8F58-5BC871CB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4E51-F6E0-4A0F-8C6C-19BF38F20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9AC-D2CD-4FB1-9FD3-FCE69284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249-F0CA-41C5-9B21-EC2E9BC8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B48-792A-4351-BF9F-0E3232FB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FEC-D956-4716-8550-45015C08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2AB-8911-4B9B-B324-A89FBAC0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016F-9B1F-4B04-AC5F-12A2D1A1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973B-507B-4610-94C0-E0515B60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89B-8DF1-4D51-9B8B-4EA2EBF1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DDE-2FC9-47CE-8E70-2D85C01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575-211E-4ABB-BB36-E8A4C529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E17-E13B-41C8-B696-11E030C5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72B4-0FD1-44CD-A42F-628329D8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4DD-8286-4404-A0A0-D72D744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86E1-5F0D-4CCE-A2C1-CE8A5B4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F8FB-8A7B-4D63-981E-DD6EAB8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2F1-7192-4D6C-983A-CBA2447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69E-0354-41F1-8502-D5E5B7D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0258-6668-46D2-BBE2-8637A36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391-5B02-473C-B2D4-6DDDC98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AC6D-35C7-449C-B168-0B6319C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2AF-AC42-418C-A448-D8772E8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CDC0-61C0-4CC1-BAED-F34B57CD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9B50-D144-490C-8860-03363AAC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B0E-FAD8-4800-AF7C-98D03957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660-D815-4749-A3C3-5EE10E21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B7D-C2A2-42EA-9ECD-9459036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47-FAC0-48B6-825F-8B17E67B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DF4-74C3-46D1-B488-87AE520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62C-591D-4203-B76E-CBAEBE8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F51-D8CD-45DB-864C-560F027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2C7-F2A9-47AA-9151-92AD43B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6137-ED04-4E0E-9D98-3F2FBB5287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6665-D59C-4AC0-8612-2EA0A6E34A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Flow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&amp; Hand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gin re-cutting and conditioning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properly sanitized bu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 shortens the lifespan of cut flowers and foliag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nitize knives, cutters, work surfaces, coolers &amp; bucke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the buckets with six to eight inches of clean, lukewarm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0-110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rm water will encourage the development and opening of the plant material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a correctly measured amount of the appropriate floral preservative to clean water and make sure that it is well dis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 preservative doubles the vase life of cut flower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loral preservative ingredi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bohydrates to nour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ibits the growth of microorganis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f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ers pH lev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egu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ncrease the vase life of some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ting ag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aid in water absor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any foliage that will be below the wat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ourages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damaging the stem’s skin when strip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ices from stem causes extra bacterial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1-3 inches off the bottoms of the 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cutting exposes fresh, healthy tissue to better uptak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us—outer cells surrounding cut that dry out-preventing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cutting under the same water can pollute with accumulating debris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e plant stem at a 45-degree slant using a knif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es a maximum area of clean, open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s the bottom of the stem from resting flat on the bottom of the bucket, further impeding water up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product has not been pre-treated, do so by placing or dipping into an appropriate hydrating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flowers into buckets containing warm, pre-mixed nutrient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unnecessa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t or salt and sweat on the hands can easily stain and leave permanent damage on delicate plant surf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ve product to recover and acclimatize for several h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t becomes fully hydr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courages bud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e product at the right temperature and 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ower temperature slows the respiration rate of cut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 temperature--36-38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opical plant materials—store 55-60 degrees 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idity--minimum of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ate st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actice the ‘First In, First Out’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proper care and handling practices at the design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plant material sensibly and pay attention to its needs and its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k floral foam and bouquet holders in clean water with nutrien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cut flowers in water rather than laying them on the b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a packet of floral preservative with wrapped flowers and hand tied bouqu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care instructions with flowers that are deli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e Life-length of time flowers remain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escence-flow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up with regular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dead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empty buckets and clean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water in the buckets and replace with the correct cut flowe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tock partly filled buckets from flower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f Floral Arrang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enish water preservat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wilted and re-cut or dis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way from ethylen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ut of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warm sources (TV, micro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photos\Floral Curriculum\Care and handling\P1050815.JPG"/>
          <p:cNvPicPr/>
          <p:nvPr/>
        </p:nvPicPr>
        <p:blipFill>
          <a:blip r:embed="rId1"/>
          <a:stretch/>
        </p:blipFill>
        <p:spPr>
          <a:xfrm>
            <a:off x="1550880" y="1600200"/>
            <a:ext cx="69073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photos\Floral Curriculum\Care and handling\P1050861.JPG"/>
          <p:cNvPicPr/>
          <p:nvPr/>
        </p:nvPicPr>
        <p:blipFill>
          <a:blip r:embed="rId1"/>
          <a:stretch/>
        </p:blipFill>
        <p:spPr>
          <a:xfrm>
            <a:off x="3987720" y="1600200"/>
            <a:ext cx="477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F:\photos\Floral Curriculum\Care and handling\P1050866.JPG"/>
          <p:cNvPicPr/>
          <p:nvPr/>
        </p:nvPicPr>
        <p:blipFill>
          <a:blip r:embed="rId2"/>
          <a:stretch/>
        </p:blipFill>
        <p:spPr>
          <a:xfrm>
            <a:off x="304920" y="1523880"/>
            <a:ext cx="3398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home remedie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each and lemon-lime s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e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gar and vineg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mon juice, sugar, bl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pirin and a pen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r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reservative solution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ife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utriflo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alplus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ethods of cutting the stems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ushing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sciss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knif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pru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re-cutting the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hods of storing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oler vs. room tem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 variable temper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on a microwave or T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flowers wilt and die premature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diameter and thick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ability of the stem to absorb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carbohyd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essive tra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l growth and dis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g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per surround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long chain of handlers involved in moving the floral product from the greenhouse/field to the design b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vest flowers and ship them to an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k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large quantities from foreign countries and domestic g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ps by air or truck to wholes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brokers and growers; conditions flowers and sells to retail fl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rist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wholesalers and local growers; conditions flowers and sells and delivers flowers to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as a gift or purchases them for personal enj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:\photos\Floral Curriculum\DWF 09\0006\P1040310.JPG"/>
          <p:cNvPicPr/>
          <p:nvPr/>
        </p:nvPicPr>
        <p:blipFill>
          <a:blip r:embed="rId1"/>
          <a:stretch/>
        </p:blipFill>
        <p:spPr>
          <a:xfrm>
            <a:off x="1066680" y="1981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:\photos\Floral Curriculum\DWF 09\0006\P1040316.JPG"/>
          <p:cNvPicPr/>
          <p:nvPr/>
        </p:nvPicPr>
        <p:blipFill>
          <a:blip r:embed="rId2"/>
          <a:stretch/>
        </p:blipFill>
        <p:spPr>
          <a:xfrm>
            <a:off x="4952880" y="4114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photos\Floral Curriculum\DWF 09\0006\P1040332.JPG"/>
          <p:cNvPicPr/>
          <p:nvPr/>
        </p:nvPicPr>
        <p:blipFill>
          <a:blip r:embed="rId3"/>
          <a:stretch/>
        </p:blipFill>
        <p:spPr>
          <a:xfrm>
            <a:off x="464832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:\photos\Floral Curriculum\DWF 09\0006\P1040322.JPG"/>
          <p:cNvPicPr/>
          <p:nvPr/>
        </p:nvPicPr>
        <p:blipFill>
          <a:blip r:embed="rId4"/>
          <a:stretch/>
        </p:blipFill>
        <p:spPr>
          <a:xfrm>
            <a:off x="1447920" y="45720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yd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hydrating solution to water after harvesting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courages water absorption and maintains turgid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if cut flowers transported out of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hydrate with clean, good quality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biocide and or an acidif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ing-method of conditioning in which fresh cut plant material is in a particular solution for a certa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sugars like sucr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with growth regula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inhibit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product quality during shipping &amp; storage to extend the ultimate vase life of th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ortant to know about how the product has been cared for along its jour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ng the effects of ethylene gas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urally occurring plant horm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olved in the ag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eased as an odorless, colorless g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emely harmful to cut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ed by ripening fruit &amp; vegetables, decomposing plant material, bacteria, and burning of gasoline, diesel fuel, firewood, and tobac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atment-silver thiosufat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receiving cut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 and unpack immediate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the produce to brea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name, quantity, &amp; price against invo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correct plant &amp; variety name for future re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quality and look for da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20:18:12Z</dcterms:created>
  <dc:creator>Justin Patten</dc:creator>
  <dc:description/>
  <dc:language>en-US</dc:language>
  <cp:lastModifiedBy>PattJust</cp:lastModifiedBy>
  <dcterms:modified xsi:type="dcterms:W3CDTF">2009-06-15T04:19:47Z</dcterms:modified>
  <cp:revision>35</cp:revision>
  <dc:subject/>
  <dc:title>Care and Handling</dc:title>
</cp:coreProperties>
</file>