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D13-A3ED-48AE-AD23-760619EA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AE2-4E2E-4C09-9F5E-E6408E81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DE3-BF02-4C75-8E48-B7DB1190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E47-8765-497E-A21B-CB20FE00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F95B-5168-4F32-A153-91F65AB8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F725-1DD4-402B-8FA5-00B04B1E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0062-5B7B-44F4-8B5D-A012CE12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9C7A-DD86-4FA9-9DD6-235FA81C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3444-D717-4A96-BACA-08E7229E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C7E8-3A24-4635-92CD-ABA2083E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69A3-DB81-44BF-B982-38136891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216-0B69-488C-A920-E719D30B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B0D4-5971-4B50-9982-2472DEF9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46B4-78BA-4342-B479-922AE6F6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EC90-1DDD-45E0-8519-F624B400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99E9-E856-4424-84D0-471AB191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F60D-2FD4-4B2A-B7E8-FA26AEC4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AA0-633A-46A6-922D-815AB52D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C58-7B87-44D3-B6B9-2738456C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4E5-034C-427D-92AD-0A820398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9DE-7B5D-47BF-A307-FD9A4D26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11D-1B10-4749-A87B-FAFA96F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AC6-5B56-4B78-9B57-2E8BFCF5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569-C5B8-40AA-96F8-2ADBD234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CF25-80C7-49F8-AFDE-1BF6D69080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17B8-36C1-47AE-AC38-E41338006B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lassification of Plants and Floral Materials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Father of Taxonomy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us Linnaeus (1707-1778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dish bota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of binomial nomencl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wo na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0880" y="533520"/>
          <a:ext cx="8458200" cy="5715000"/>
        </p:xfrm>
        <a:graphic>
          <a:graphicData uri="http://schemas.openxmlformats.org/drawingml/2006/table">
            <a:tbl>
              <a:tblPr/>
              <a:tblGrid>
                <a:gridCol w="3065760"/>
                <a:gridCol w="5392440"/>
              </a:tblGrid>
              <a:tr h="571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xonomic Hierarchy Ch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gd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ae (pla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 (Phylu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rmatophyta (seed bearing pla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div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ospermae (flowering plants with covered seed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liopsida (monoco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giberales (ginger famil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aceae (banan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litz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n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d of Parad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cientific Name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us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us--capit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--not capit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in italics or underl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denotes a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 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ote a cultivar--man mad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—naturally occurring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s of Scientific Name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litzia regi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dra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cus benjami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Golden Princes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phrolepis exal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largonium x domestic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0:07:06Z</dcterms:created>
  <dc:creator>Snake River</dc:creator>
  <dc:description/>
  <dc:language>en-US</dc:language>
  <cp:lastModifiedBy>PattJust</cp:lastModifiedBy>
  <dcterms:modified xsi:type="dcterms:W3CDTF">2009-06-11T14:55:40Z</dcterms:modified>
  <cp:revision>9</cp:revision>
  <dc:subject/>
  <dc:title>The Classification of Plant and Floral Materials</dc:title>
</cp:coreProperties>
</file>