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E90E-D734-4353-8FAB-9BDDB8CB2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57D8-6750-460A-9A39-DACD31294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diseflowers.com</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E8F4-3F4C-4B9C-9137-D3912A2D6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1C66-0E32-4464-9F3D-B1EAECB4B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B738-AF9F-4EEF-AA7E-4124C97CF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1436-0C5D-4AAC-A200-395431A9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2A8D-DA23-458E-B3BE-34CD703DD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1A87-9FB5-4E65-9663-DA5797CE8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5159-0F3B-43C6-820A-4ED1711F7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356B-8132-4658-8E89-8C4D193A2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rall, Julia S. </a:t>
            </a:r>
            <a:r>
              <a:rPr b="0" lang="en-US" sz="1200" spc="-1" strike="noStrike" u="sng">
                <a:solidFill>
                  <a:srgbClr val="000000"/>
                </a:solidFill>
                <a:uFillTx/>
                <a:latin typeface="Calibri"/>
              </a:rPr>
              <a:t>A History of Flower Arrangement.  </a:t>
            </a:r>
            <a:r>
              <a:rPr b="0" lang="en-US" sz="1200" spc="-1" strike="noStrike">
                <a:solidFill>
                  <a:srgbClr val="000000"/>
                </a:solidFill>
                <a:latin typeface="Calibri"/>
              </a:rPr>
              <a:t> Viking Press, Inc. 19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zone.co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DCAA-1D1B-4DC7-8838-60DE26D3A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8DB3-193E-44F4-A695-23E0C8645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2A3B-4345-4445-9E8D-AC1B57432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C79F-D44B-49A0-A332-B2EB23284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AC5E-C59F-455A-8E60-D2B823F5C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16F9-510E-468A-A210-4F255BB34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4B15-7066-49A2-A872-6C7FFD316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69A4-4483-434C-BF14-5DF019029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18E0-B039-4EBD-85DE-E05B0CFBA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4401-9F01-44EF-BB5E-9AA36D512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8917-55F7-4EEF-A570-842F65FD3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F194-2A51-405C-948D-BD5AB009F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778F-27D7-4C6A-8960-06ECCF871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A474-22E0-43AE-AFF6-ACD20F344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2C17-9F52-45FD-8229-969A9E40D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95AF-5B6F-41DF-8D70-9FC4A7AD4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com</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E2EB-29C3-4ACE-92F8-867418B3D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BC7CE-7CEB-4FF0-9E93-9200B4027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78F7F-8476-45D5-A5AF-B014A9A4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33BCC-F8A7-470F-A5DB-DCD7F5733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E38AF-C0FF-4581-A429-6C9FAF149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0A8B8-C553-4E89-B163-C5204D63E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A4BA8-1408-4F58-95B8-05D7D24AA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5C057-8F91-4DF1-86AB-971E5223E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F0977-E98B-4311-A556-8A7BB3421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7C6AF-DC14-412E-ABB5-98011FE41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E25CA-8E93-4D34-865F-B7540F7C1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E8B95-29C5-479A-A0BA-43E72EA3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1E053-15FF-415A-8F55-43B12792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18B0-F40D-48A3-BBF8-CADCB3C31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97AB-B9C4-461F-B2C3-B55FE175C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04C27-5A8F-45A9-9ED8-760309859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C6EE9-D820-492C-BE71-8D6D136A6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08F39-751B-4820-9AA2-6E9485E01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A93B18-FA7E-4C82-B6D4-5D46F9F144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611230-9DE0-46D4-81FC-2C96AA25A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11ECFE-2B06-468B-B23D-B43EA6CC2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2DE131-A57E-47B3-B80A-E7312EE08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2B6E54-DE79-4EFB-860C-1F802A0C3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C63BD-3713-45EE-BD93-3EC596B6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8814A0-DDAB-4295-8ABB-415023DC4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D7D6A0-2263-4185-B682-5ACBCAFE5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3962AB-BA23-4583-AC1B-1A929C7A2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B06292-C8A1-48E9-8E31-7870E61BA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F6C94A-B491-4EAD-88E4-3C48EA88D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2426848-5C0C-4EA6-9278-0CB2D3606F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D007EAB-6302-4B18-BDD9-180579832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0D2916-AEDC-4022-A416-0A8E933A3D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A338F0-6D59-4CEF-9A48-06CCE2DDF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3FF1B4-EFBB-486E-AF0A-B21034A28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3436-2A82-4D81-BBCE-859EE4C7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D4165A-DE17-457D-B875-94D99EF91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E74EE2-A97C-48BE-9A80-AEB8BB493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0F2082-8AF1-4F82-B1D9-2281F4B1B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DC77E1-BE4D-4C5E-959B-0749B644C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E6F7E4-7C00-4BA0-BCBB-93954694D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1C3FFB-5D0B-42B6-8468-92F2B522C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0DC625-4AB3-4350-99A1-908F63408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C5F12B3-01A3-4B05-B551-1F63A7795C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A800E1-9ACD-434A-9434-FAE8A79D0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AD6F90-75AC-4499-8E87-54E2BB17B6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01585-3FEB-4313-BB5C-2474D34A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CA3B41-D31D-4870-A9C0-FF79B034F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A2AA1F-F501-448A-A7E9-25E8858A4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A10341-8611-47E4-9998-350B3FAA5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057357-7ADF-4671-A6D6-35ED7230F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46DBB5-2ED4-49E6-A16F-8D4FBE0DE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BCC8D0-A888-400F-87D3-0A845927B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F5A764-E687-4ED1-991E-4FABCDC7D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97723E-CD7D-4328-98A5-9D6FBA8D7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A597CC-A7D0-4C87-A394-351E020E8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FC86313-A524-4CAB-993A-64BB45057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2191-1F5C-4687-A82E-10A22A65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2D4F55-7370-4AD8-A90E-2AAB81529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28B26-D92D-446D-B460-3493FC42C8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C9140-00C8-4CE7-9634-041CA69C0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BA341-2193-434A-AA25-1EB2FE2FB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733A4F-E68F-457B-A5C3-0C99C2908A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0F578-F96C-4F10-9249-C4F677B73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9CB7E-53EE-4A1C-A081-B741941D0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29E74-D379-4EDE-AD35-1FDF84B86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42D80-5428-4A85-8A7A-444A5A1F4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13EAC-98B2-41FF-BBAD-9D38A7083E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5366-16E9-464D-9489-910C9A00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77D76-CB8C-44A2-9E86-AE3A4DEA3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E237EE-3E91-42D0-9DDA-B1802352D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B7EF7-6CB5-4BA3-AA89-A794D33B7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0A4D95E-E7AC-4C54-B6DA-F71C33F819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53FA9C-BE4A-461A-95EA-526ECAC93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E1C4BC-5512-48A6-94E4-0D1E779B0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52892B-48AB-4F07-BD92-042DCD4A6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940EA49-2B8D-4006-A64C-0F28802C8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DDED84-55DC-4E1C-86C9-234C01F46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B8BE1A-237D-4789-878E-99518DF24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C56A-D630-4F11-B788-0F7A861CA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845E4D-F51F-4158-9213-8C2BB9CE9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205324-D1C0-4B3B-9E0B-9A5F57C9D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D772D6-E9EC-4837-9BF4-08856DA69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F57179D-9B98-4BED-B5EE-8D7A63351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6C3EEE-D871-4448-93AA-D47171E204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BACE46-C926-4364-B310-8AC6CBF6C3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AD1AD-EF4E-4310-B156-70065DE083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896544-EDAA-4B30-A397-381150D2C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CFC59-F780-4D47-B5DF-2C84A2FD5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32DD5-A620-40A1-890E-8FE607A21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30DC-0AD3-4DB1-918A-2951E935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4423A3-7D93-4685-8200-8040717E6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1CCC3-2866-4460-B2CF-AC9E5366C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E76C6-6A9B-4547-9A7E-73D7430FD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9ABA7-8FA2-40FB-A938-5CFC449AB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DF866E-742F-4F2F-9123-84E1FEB35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1BBC5A-F3CD-4BE7-8895-ACE20EA242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57FC4E-908A-4CFA-A946-EA595568944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6617-42D3-4557-8895-4AF039CE20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74E7-3D91-42BE-B95D-64F5FC3A2CF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3BCD-4E5B-4649-8C51-34E18C15F42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21EA-61E7-45CC-8DB3-5AB8CCE7CE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733F-5D21-4444-A686-F147FE51A6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CA97-85FB-4455-92B0-D3B6E855EE3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5B4A-DAC6-46E6-87ED-E550A5843BE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8DD0-E604-4E4D-8549-09182E51FE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6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6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RRANGEMENTS</a:t>
            </a:r>
            <a:endParaRPr b="0" lang="en-US" sz="4400" spc="-1" strike="noStrike">
              <a:solidFill>
                <a:srgbClr val="ebddc3"/>
              </a:solidFill>
              <a:latin typeface="Tw Cen MT"/>
            </a:endParaRPr>
          </a:p>
        </p:txBody>
      </p:sp>
      <p:pic>
        <p:nvPicPr>
          <p:cNvPr id="358" name="Picture 2" descr="F:\FA53_330x370[1].jpg"/>
          <p:cNvPicPr/>
          <p:nvPr/>
        </p:nvPicPr>
        <p:blipFill>
          <a:blip r:embed="rId1"/>
          <a:stretch/>
        </p:blipFill>
        <p:spPr>
          <a:xfrm>
            <a:off x="685800" y="228600"/>
            <a:ext cx="42130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6" name="Picture 2" descr="F:\photos\Floral Photos\curriculum 09\0004\P1050487.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quilateral triangle arrangement</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 (one sid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of foam in gripper.  Cover foam with greenery.  Place outer perimeter flowers in triangle shape.  Add in rest of flowers to fill inside triangle.  Add statice to fill in hole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0" name="Picture 4" descr="F:\photos\Floral Curriculum\flower arr by steps\P1050859.JPG"/>
          <p:cNvPicPr/>
          <p:nvPr/>
        </p:nvPicPr>
        <p:blipFill>
          <a:blip r:embed="rId1"/>
          <a:stretch/>
        </p:blipFill>
        <p:spPr>
          <a:xfrm>
            <a:off x="380880" y="1981080"/>
            <a:ext cx="4165560" cy="3124440"/>
          </a:xfrm>
          <a:prstGeom prst="rect">
            <a:avLst/>
          </a:prstGeom>
          <a:ln w="0">
            <a:noFill/>
          </a:ln>
        </p:spPr>
      </p:pic>
      <p:pic>
        <p:nvPicPr>
          <p:cNvPr id="381" name="Picture 5" descr="F:\photos\Floral Curriculum\flower arr by steps\P1050857.JPG"/>
          <p:cNvPicPr/>
          <p:nvPr/>
        </p:nvPicPr>
        <p:blipFill>
          <a:blip r:embed="rId2"/>
          <a:stretch/>
        </p:blipFill>
        <p:spPr>
          <a:xfrm>
            <a:off x="4724280" y="20574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8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riangle arrangement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5" name="Picture 2" descr="F:\rainforest_splendor[1].jpg"/>
          <p:cNvPicPr/>
          <p:nvPr/>
        </p:nvPicPr>
        <p:blipFill>
          <a:blip r:embed="rId1"/>
          <a:stretch/>
        </p:blipFill>
        <p:spPr>
          <a:xfrm>
            <a:off x="380880" y="1752480"/>
            <a:ext cx="3660840" cy="4496040"/>
          </a:xfrm>
          <a:prstGeom prst="rect">
            <a:avLst/>
          </a:prstGeom>
          <a:ln w="0">
            <a:noFill/>
          </a:ln>
        </p:spPr>
      </p:pic>
      <p:pic>
        <p:nvPicPr>
          <p:cNvPr id="386" name="Picture 3" descr="F:\haleakala_splendor[1].jpg"/>
          <p:cNvPicPr/>
          <p:nvPr/>
        </p:nvPicPr>
        <p:blipFill>
          <a:blip r:embed="rId2"/>
          <a:stretch/>
        </p:blipFill>
        <p:spPr>
          <a:xfrm>
            <a:off x="4191120" y="1676520"/>
            <a:ext cx="481320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8" name="Picture 2" descr="F:\C22-4171_330x370[1].jpg"/>
          <p:cNvPicPr/>
          <p:nvPr/>
        </p:nvPicPr>
        <p:blipFill>
          <a:blip r:embed="rId1"/>
          <a:stretch/>
        </p:blipFill>
        <p:spPr>
          <a:xfrm>
            <a:off x="457200" y="1676520"/>
            <a:ext cx="4038480" cy="4527360"/>
          </a:xfrm>
          <a:prstGeom prst="rect">
            <a:avLst/>
          </a:prstGeom>
          <a:ln w="0">
            <a:noFill/>
          </a:ln>
        </p:spPr>
      </p:pic>
      <p:pic>
        <p:nvPicPr>
          <p:cNvPr id="389" name="Picture 3" descr="F:\FA68_200x225[1].jpg"/>
          <p:cNvPicPr/>
          <p:nvPr/>
        </p:nvPicPr>
        <p:blipFill>
          <a:blip r:embed="rId2"/>
          <a:stretch/>
        </p:blipFill>
        <p:spPr>
          <a:xfrm>
            <a:off x="4800600" y="1752480"/>
            <a:ext cx="386064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1" name="Picture 4" descr="F:\photos\Floral Photos\curriculum 09\0004\P1050489.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und centerpiece</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foam in gripper.  Cover foam with greenery.  Place 5 outer perimeter flowers in circle shape.  Place 5 more flowers in between first 5 but at an angle.  Place one flower in center.  Fill in with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5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5" name="Picture 2" descr="F:\floral pic spring 09\P1060143.JPG"/>
          <p:cNvPicPr/>
          <p:nvPr/>
        </p:nvPicPr>
        <p:blipFill>
          <a:blip r:embed="rId1"/>
          <a:stretch/>
        </p:blipFill>
        <p:spPr>
          <a:xfrm>
            <a:off x="1523880" y="1828800"/>
            <a:ext cx="2743200" cy="2057400"/>
          </a:xfrm>
          <a:prstGeom prst="rect">
            <a:avLst/>
          </a:prstGeom>
          <a:ln w="0">
            <a:noFill/>
          </a:ln>
        </p:spPr>
      </p:pic>
      <p:pic>
        <p:nvPicPr>
          <p:cNvPr id="396" name="Picture 3" descr="F:\floral pic spring 09\P1060144.JPG"/>
          <p:cNvPicPr/>
          <p:nvPr/>
        </p:nvPicPr>
        <p:blipFill>
          <a:blip r:embed="rId2"/>
          <a:stretch/>
        </p:blipFill>
        <p:spPr>
          <a:xfrm>
            <a:off x="1752480" y="4191120"/>
            <a:ext cx="2438640" cy="1828800"/>
          </a:xfrm>
          <a:prstGeom prst="rect">
            <a:avLst/>
          </a:prstGeom>
          <a:ln w="0">
            <a:noFill/>
          </a:ln>
        </p:spPr>
      </p:pic>
      <p:pic>
        <p:nvPicPr>
          <p:cNvPr id="397" name="Picture 4" descr="F:\floral pic spring 09\P1060145.JPG"/>
          <p:cNvPicPr/>
          <p:nvPr/>
        </p:nvPicPr>
        <p:blipFill>
          <a:blip r:embed="rId3"/>
          <a:stretch/>
        </p:blipFill>
        <p:spPr>
          <a:xfrm>
            <a:off x="5334120" y="4038480"/>
            <a:ext cx="2743200" cy="2057400"/>
          </a:xfrm>
          <a:prstGeom prst="rect">
            <a:avLst/>
          </a:prstGeom>
          <a:ln w="0">
            <a:noFill/>
          </a:ln>
        </p:spPr>
      </p:pic>
      <p:pic>
        <p:nvPicPr>
          <p:cNvPr id="398" name="Picture 6" descr="F:\floral pic spring 09\P1060153.JPG"/>
          <p:cNvPicPr/>
          <p:nvPr/>
        </p:nvPicPr>
        <p:blipFill>
          <a:blip r:embed="rId4"/>
          <a:stretch/>
        </p:blipFill>
        <p:spPr>
          <a:xfrm>
            <a:off x="5334120" y="16765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0" name="Picture 2" descr="F:\floral pic spring 09\P1060147.JPG"/>
          <p:cNvPicPr/>
          <p:nvPr/>
        </p:nvPicPr>
        <p:blipFill>
          <a:blip r:embed="rId1"/>
          <a:stretch/>
        </p:blipFill>
        <p:spPr>
          <a:xfrm>
            <a:off x="1676520" y="4114800"/>
            <a:ext cx="2539800" cy="1905120"/>
          </a:xfrm>
          <a:prstGeom prst="rect">
            <a:avLst/>
          </a:prstGeom>
          <a:ln w="0">
            <a:noFill/>
          </a:ln>
        </p:spPr>
      </p:pic>
      <p:pic>
        <p:nvPicPr>
          <p:cNvPr id="401" name="Picture 3" descr="F:\floral pic spring 09\P1060148.JPG"/>
          <p:cNvPicPr/>
          <p:nvPr/>
        </p:nvPicPr>
        <p:blipFill>
          <a:blip r:embed="rId2"/>
          <a:stretch/>
        </p:blipFill>
        <p:spPr>
          <a:xfrm>
            <a:off x="5181480" y="1752480"/>
            <a:ext cx="2743200" cy="2057400"/>
          </a:xfrm>
          <a:prstGeom prst="rect">
            <a:avLst/>
          </a:prstGeom>
          <a:ln w="0">
            <a:noFill/>
          </a:ln>
        </p:spPr>
      </p:pic>
      <p:pic>
        <p:nvPicPr>
          <p:cNvPr id="402" name="Picture 4" descr="F:\floral pic spring 09\P1060150.JPG"/>
          <p:cNvPicPr/>
          <p:nvPr/>
        </p:nvPicPr>
        <p:blipFill>
          <a:blip r:embed="rId3"/>
          <a:stretch/>
        </p:blipFill>
        <p:spPr>
          <a:xfrm>
            <a:off x="5105520" y="4038480"/>
            <a:ext cx="2844720" cy="2133720"/>
          </a:xfrm>
          <a:prstGeom prst="rect">
            <a:avLst/>
          </a:prstGeom>
          <a:ln w="0">
            <a:noFill/>
          </a:ln>
        </p:spPr>
      </p:pic>
      <p:pic>
        <p:nvPicPr>
          <p:cNvPr id="403" name="Picture 5" descr="F:\floral pic spring 09\P1060146.JPG"/>
          <p:cNvPicPr/>
          <p:nvPr/>
        </p:nvPicPr>
        <p:blipFill>
          <a:blip r:embed="rId4"/>
          <a:stretch/>
        </p:blipFill>
        <p:spPr>
          <a:xfrm>
            <a:off x="1600200" y="1752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eneral Floral Design Rul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per dimensions for floral designs are 1 1/2 to 2 times the greatest dimension of the container (height or width, whichever is grea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s and smaller flowers should be at the top and outer edge of the arrangement.  Larger flowers should be placed lower and more toward the cen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ghter colors should be placed towards the top and darker colors toward the base.</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en using 12 flowers or less, use an uneven number of flowers to achieve visual balance (not including filler material).</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ultimate size of an arrangement is limited by the size of stems, flowers, and surrounding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ver let the mechanical aids of the arrangement show (wires, tape, foam, or any other support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gin an arrangement with the shape in mind.  Place outer perimeter flowers to establish shape.  Fill in cent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0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enterpiec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7" name="Picture 4" descr="F:\SMRB_200x225[1].jpg"/>
          <p:cNvPicPr/>
          <p:nvPr/>
        </p:nvPicPr>
        <p:blipFill>
          <a:blip r:embed="rId1"/>
          <a:stretch/>
        </p:blipFill>
        <p:spPr>
          <a:xfrm>
            <a:off x="380880" y="1828800"/>
            <a:ext cx="3861000" cy="4343400"/>
          </a:xfrm>
          <a:prstGeom prst="rect">
            <a:avLst/>
          </a:prstGeom>
          <a:ln w="0">
            <a:noFill/>
          </a:ln>
        </p:spPr>
      </p:pic>
      <p:pic>
        <p:nvPicPr>
          <p:cNvPr id="408" name="Picture 5" descr="F:\T582_330x370[1].jpg"/>
          <p:cNvPicPr/>
          <p:nvPr/>
        </p:nvPicPr>
        <p:blipFill>
          <a:blip r:embed="rId2"/>
          <a:stretch/>
        </p:blipFill>
        <p:spPr>
          <a:xfrm>
            <a:off x="4495680" y="1752480"/>
            <a:ext cx="401004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0" name="Picture 2" descr="F:\FU88_200x225[1].jpg"/>
          <p:cNvPicPr/>
          <p:nvPr/>
        </p:nvPicPr>
        <p:blipFill>
          <a:blip r:embed="rId1"/>
          <a:stretch/>
        </p:blipFill>
        <p:spPr>
          <a:xfrm>
            <a:off x="1143000" y="1676520"/>
            <a:ext cx="3792600" cy="4267080"/>
          </a:xfrm>
          <a:prstGeom prst="rect">
            <a:avLst/>
          </a:prstGeom>
          <a:ln w="0">
            <a:noFill/>
          </a:ln>
        </p:spPr>
      </p:pic>
      <p:pic>
        <p:nvPicPr>
          <p:cNvPr id="411" name="Picture 3" descr="F:\W35-4295_200x225[1].jpg"/>
          <p:cNvPicPr/>
          <p:nvPr/>
        </p:nvPicPr>
        <p:blipFill>
          <a:blip r:embed="rId2"/>
          <a:stretch/>
        </p:blipFill>
        <p:spPr>
          <a:xfrm>
            <a:off x="5029200" y="1752480"/>
            <a:ext cx="37814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T613_c[1]"/>
          <p:cNvPicPr/>
          <p:nvPr/>
        </p:nvPicPr>
        <p:blipFill>
          <a:blip r:embed="rId1"/>
          <a:stretch/>
        </p:blipFill>
        <p:spPr>
          <a:xfrm>
            <a:off x="213372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08-T3_c[1]"/>
          <p:cNvPicPr/>
          <p:nvPr/>
        </p:nvPicPr>
        <p:blipFill>
          <a:blip r:embed="rId1"/>
          <a:stretch/>
        </p:blipFill>
        <p:spPr>
          <a:xfrm>
            <a:off x="2590920" y="304920"/>
            <a:ext cx="5368680" cy="60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D5-4043_c[1]"/>
          <p:cNvPicPr/>
          <p:nvPr/>
        </p:nvPicPr>
        <p:blipFill>
          <a:blip r:embed="rId1"/>
          <a:stretch/>
        </p:blipFill>
        <p:spPr>
          <a:xfrm>
            <a:off x="2362320" y="457200"/>
            <a:ext cx="523224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ne (Heaven, man, earth)</a:t>
            </a:r>
            <a:endParaRPr b="0" lang="en-US" sz="4400" spc="-1" strike="noStrike">
              <a:solidFill>
                <a:srgbClr val="775f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ak floral foam.  Place 1/3 brick foam in gripper.  Place flowers in Heaven, man, earth positions.  Place a few pieces of leather leaf.  Cover foam with wet sheet moss.  Use greening pins to hold sheet moss in plac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t floral foam</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3 brick gripper</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rp floral knif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iri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et mos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reening pi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1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Line design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Floral Design History 033"/>
          <p:cNvPicPr/>
          <p:nvPr/>
        </p:nvPicPr>
        <p:blipFill>
          <a:blip r:embed="rId1"/>
          <a:stretch/>
        </p:blipFill>
        <p:spPr>
          <a:xfrm>
            <a:off x="2666880" y="55440"/>
            <a:ext cx="3733920" cy="5735880"/>
          </a:xfrm>
          <a:prstGeom prst="rect">
            <a:avLst/>
          </a:prstGeom>
          <a:ln w="0">
            <a:noFill/>
          </a:ln>
        </p:spPr>
      </p:pic>
      <p:sp>
        <p:nvSpPr>
          <p:cNvPr id="420" name="Rectangle 3"/>
          <p:cNvSpPr/>
          <p:nvPr/>
        </p:nvSpPr>
        <p:spPr>
          <a:xfrm>
            <a:off x="2209680" y="5911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ka arran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en man ea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ven, Man, Earth</a:t>
            </a:r>
            <a:endParaRPr b="0" lang="en-US" sz="4400" spc="-1" strike="noStrike">
              <a:solidFill>
                <a:srgbClr val="775f55"/>
              </a:solidFill>
              <a:latin typeface="Tw Cen MT"/>
            </a:endParaRPr>
          </a:p>
        </p:txBody>
      </p:sp>
      <p:sp>
        <p:nvSpPr>
          <p:cNvPr id="422" name="PlaceHolder 2"/>
          <p:cNvSpPr>
            <a:spLocks noGrp="1"/>
          </p:cNvSpPr>
          <p:nvPr>
            <p:ph/>
          </p:nvPr>
        </p:nvSpPr>
        <p:spPr>
          <a:xfrm>
            <a:off x="457200" y="18288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akeizu for the arrangement shown on the left</a:t>
            </a:r>
            <a:br>
              <a:rPr sz="2900"/>
            </a:br>
            <a:r>
              <a:rPr b="0" lang="en-US" sz="2900" spc="-1" strike="noStrike">
                <a:solidFill>
                  <a:srgbClr val="000000"/>
                </a:solidFill>
                <a:latin typeface="Tw Cen MT"/>
              </a:rPr>
              <a:t>(copyright Sogetsukai Foundation). The photo shows the frontal view as in the illustration. </a:t>
            </a:r>
            <a:endParaRPr b="0" lang="en-US" sz="2900" spc="-1" strike="noStrike">
              <a:solidFill>
                <a:srgbClr val="000000"/>
              </a:solidFill>
              <a:latin typeface="Tw Cen MT"/>
            </a:endParaRPr>
          </a:p>
        </p:txBody>
      </p:sp>
      <p:pic>
        <p:nvPicPr>
          <p:cNvPr id="423" name="Picture 5" descr="Kakeizu"/>
          <p:cNvPicPr/>
          <p:nvPr/>
        </p:nvPicPr>
        <p:blipFill>
          <a:blip r:embed="rId1"/>
          <a:stretch/>
        </p:blipFill>
        <p:spPr>
          <a:xfrm>
            <a:off x="4648320" y="3505320"/>
            <a:ext cx="2895480" cy="2868480"/>
          </a:xfrm>
          <a:prstGeom prst="rect">
            <a:avLst/>
          </a:prstGeom>
          <a:ln w="0">
            <a:noFill/>
          </a:ln>
        </p:spPr>
      </p:pic>
      <p:pic>
        <p:nvPicPr>
          <p:cNvPr id="424" name="Picture 7" descr="Ikebana"/>
          <p:cNvPicPr/>
          <p:nvPr/>
        </p:nvPicPr>
        <p:blipFill>
          <a:blip r:embed="rId2"/>
          <a:stretch/>
        </p:blipFill>
        <p:spPr>
          <a:xfrm>
            <a:off x="1905120" y="3505320"/>
            <a:ext cx="2063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FLOWER WRAP</a:t>
            </a:r>
            <a:br>
              <a:rPr sz="3600"/>
            </a:br>
            <a:r>
              <a:rPr b="0" lang="en-US" sz="3600" spc="-1" strike="noStrike">
                <a:solidFill>
                  <a:srgbClr val="ebddc3"/>
                </a:solidFill>
                <a:latin typeface="Tw Cen MT"/>
              </a:rPr>
              <a:t>BUD VASE</a:t>
            </a:r>
            <a:br>
              <a:rPr sz="3600"/>
            </a:br>
            <a:r>
              <a:rPr b="0" lang="en-US" sz="3600" spc="-1" strike="noStrike">
                <a:solidFill>
                  <a:srgbClr val="ebddc3"/>
                </a:solidFill>
                <a:latin typeface="Tw Cen MT"/>
              </a:rPr>
              <a:t>EQUILATERAL TRIANGLE </a:t>
            </a:r>
            <a:br>
              <a:rPr sz="3600"/>
            </a:br>
            <a:r>
              <a:rPr b="0" lang="en-US" sz="3600" spc="-1" strike="noStrike">
                <a:solidFill>
                  <a:srgbClr val="ebddc3"/>
                </a:solidFill>
                <a:latin typeface="Tw Cen MT"/>
              </a:rPr>
              <a:t>ROUND CENTERPIECE</a:t>
            </a:r>
            <a:br>
              <a:rPr sz="3600"/>
            </a:br>
            <a:r>
              <a:rPr b="0" lang="en-US" sz="3600" spc="-1" strike="noStrike">
                <a:solidFill>
                  <a:srgbClr val="ebddc3"/>
                </a:solidFill>
                <a:latin typeface="Tw Cen MT"/>
              </a:rPr>
              <a:t>LINE (HEAVEN, MAN, EARTH)</a:t>
            </a:r>
            <a:br>
              <a:rPr sz="3600"/>
            </a:br>
            <a:endParaRPr b="0" lang="en-US" sz="36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DESIGN IDEAS</a:t>
            </a:r>
            <a:endParaRPr b="0" lang="en-US" sz="4400" spc="-1" strike="noStrike">
              <a:solidFill>
                <a:srgbClr val="ebddc3"/>
              </a:solidFill>
              <a:latin typeface="Tw Cen MT"/>
            </a:endParaRPr>
          </a:p>
        </p:txBody>
      </p:sp>
      <p:sp>
        <p:nvSpPr>
          <p:cNvPr id="42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ALL ARRANGEMENTS</a:t>
            </a:r>
            <a:endParaRPr b="0" lang="en-US" sz="4400" spc="-1" strike="noStrike">
              <a:solidFill>
                <a:srgbClr val="ebddc3"/>
              </a:solidFill>
              <a:latin typeface="Tw Cen MT"/>
            </a:endParaRPr>
          </a:p>
        </p:txBody>
      </p:sp>
      <p:sp>
        <p:nvSpPr>
          <p:cNvPr id="43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08-T2_c[1]"/>
          <p:cNvPicPr/>
          <p:nvPr/>
        </p:nvPicPr>
        <p:blipFill>
          <a:blip r:embed="rId1"/>
          <a:stretch/>
        </p:blipFill>
        <p:spPr>
          <a:xfrm>
            <a:off x="2286000" y="228600"/>
            <a:ext cx="550404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TB64_c[1]"/>
          <p:cNvPicPr/>
          <p:nvPr/>
        </p:nvPicPr>
        <p:blipFill>
          <a:blip r:embed="rId1"/>
          <a:stretch/>
        </p:blipFill>
        <p:spPr>
          <a:xfrm>
            <a:off x="251460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ORSAGES &amp; BOUTONNIERES</a:t>
            </a:r>
            <a:endParaRPr b="0" lang="en-US" sz="4400" spc="-1" strike="noStrike">
              <a:solidFill>
                <a:srgbClr val="ebddc3"/>
              </a:solidFill>
              <a:latin typeface="Tw Cen MT"/>
            </a:endParaRPr>
          </a:p>
        </p:txBody>
      </p:sp>
      <p:sp>
        <p:nvSpPr>
          <p:cNvPr id="43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D11-3904_c[1]"/>
          <p:cNvPicPr/>
          <p:nvPr/>
        </p:nvPicPr>
        <p:blipFill>
          <a:blip r:embed="rId1"/>
          <a:stretch/>
        </p:blipFill>
        <p:spPr>
          <a:xfrm>
            <a:off x="1981080" y="304920"/>
            <a:ext cx="5166000" cy="5790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W8-3453_c[1]"/>
          <p:cNvPicPr/>
          <p:nvPr/>
        </p:nvPicPr>
        <p:blipFill>
          <a:blip r:embed="rId1"/>
          <a:stretch/>
        </p:blipFill>
        <p:spPr>
          <a:xfrm>
            <a:off x="228600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W6-3829_c[1]"/>
          <p:cNvPicPr/>
          <p:nvPr/>
        </p:nvPicPr>
        <p:blipFill>
          <a:blip r:embed="rId1"/>
          <a:stretch/>
        </p:blipFill>
        <p:spPr>
          <a:xfrm>
            <a:off x="2133720" y="152280"/>
            <a:ext cx="5640120" cy="6324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4" descr="W3-4234_c[1]"/>
          <p:cNvPicPr/>
          <p:nvPr/>
        </p:nvPicPr>
        <p:blipFill>
          <a:blip r:embed="rId1"/>
          <a:stretch/>
        </p:blipFill>
        <p:spPr>
          <a:xfrm>
            <a:off x="2514600" y="457200"/>
            <a:ext cx="543708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ower wrap</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ce a 18” square piece of cellophane or waxed tissue paper on the design bench.  Place leather leaf diagonally on tissue paper.  Place carnation on top of leather leaf.  Add baby’s breath.  Roll tissue paper with flowers inside.  Finish off with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tem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carnation</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heet of cellophane or waxed tissu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ribbon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4 wire (bow)</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LANTS</a:t>
            </a:r>
            <a:endParaRPr b="0" lang="en-US" sz="4400" spc="-1" strike="noStrike">
              <a:solidFill>
                <a:srgbClr val="ebddc3"/>
              </a:solidFill>
              <a:latin typeface="Tw Cen MT"/>
            </a:endParaRPr>
          </a:p>
        </p:txBody>
      </p:sp>
      <p:sp>
        <p:nvSpPr>
          <p:cNvPr id="44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4" descr="TP08_c[1]"/>
          <p:cNvPicPr/>
          <p:nvPr/>
        </p:nvPicPr>
        <p:blipFill>
          <a:blip r:embed="rId1"/>
          <a:stretch/>
        </p:blipFill>
        <p:spPr>
          <a:xfrm>
            <a:off x="2133720" y="228600"/>
            <a:ext cx="5708520" cy="6400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TP49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TP52_c[1]"/>
          <p:cNvPicPr/>
          <p:nvPr/>
        </p:nvPicPr>
        <p:blipFill>
          <a:blip r:embed="rId1"/>
          <a:stretch/>
        </p:blipFill>
        <p:spPr>
          <a:xfrm>
            <a:off x="2209680" y="22860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TP74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DD-ONS</a:t>
            </a:r>
            <a:endParaRPr b="0" lang="en-US" sz="4400" spc="-1" strike="noStrike">
              <a:solidFill>
                <a:srgbClr val="ebddc3"/>
              </a:solidFill>
              <a:latin typeface="Tw Cen MT"/>
            </a:endParaRPr>
          </a:p>
        </p:txBody>
      </p:sp>
      <p:sp>
        <p:nvSpPr>
          <p:cNvPr id="44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4" descr="CT53_c[1]"/>
          <p:cNvPicPr/>
          <p:nvPr/>
        </p:nvPicPr>
        <p:blipFill>
          <a:blip r:embed="rId1"/>
          <a:stretch/>
        </p:blipFill>
        <p:spPr>
          <a:xfrm>
            <a:off x="2590920" y="609480"/>
            <a:ext cx="5165640" cy="579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TB02_c[1]"/>
          <p:cNvPicPr/>
          <p:nvPr/>
        </p:nvPicPr>
        <p:blipFill>
          <a:blip r:embed="rId1"/>
          <a:stretch/>
        </p:blipFill>
        <p:spPr>
          <a:xfrm>
            <a:off x="213372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BALLOONS</a:t>
            </a:r>
            <a:endParaRPr b="0" lang="en-US" sz="4400" spc="-1" strike="noStrike">
              <a:solidFill>
                <a:srgbClr val="ebddc3"/>
              </a:solidFill>
              <a:latin typeface="Tw Cen MT"/>
            </a:endParaRPr>
          </a:p>
        </p:txBody>
      </p:sp>
      <p:sp>
        <p:nvSpPr>
          <p:cNvPr id="45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EO-6033_c[1]"/>
          <p:cNvPicPr/>
          <p:nvPr/>
        </p:nvPicPr>
        <p:blipFill>
          <a:blip r:embed="rId1"/>
          <a:stretch/>
        </p:blipFill>
        <p:spPr>
          <a:xfrm>
            <a:off x="2209680" y="457200"/>
            <a:ext cx="515304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6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lower wrap</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EO-6101_c[1]"/>
          <p:cNvPicPr/>
          <p:nvPr/>
        </p:nvPicPr>
        <p:blipFill>
          <a:blip r:embed="rId1"/>
          <a:stretch/>
        </p:blipFill>
        <p:spPr>
          <a:xfrm>
            <a:off x="2209680" y="304920"/>
            <a:ext cx="5437440" cy="6095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SPECIALTY</a:t>
            </a:r>
            <a:endParaRPr b="0" lang="en-US" sz="4400" spc="-1" strike="noStrike">
              <a:solidFill>
                <a:srgbClr val="ebddc3"/>
              </a:solidFill>
              <a:latin typeface="Tw Cen MT"/>
            </a:endParaRPr>
          </a:p>
        </p:txBody>
      </p:sp>
      <p:sp>
        <p:nvSpPr>
          <p:cNvPr id="45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4" descr="T584_c[1]"/>
          <p:cNvPicPr/>
          <p:nvPr/>
        </p:nvPicPr>
        <p:blipFill>
          <a:blip r:embed="rId1"/>
          <a:stretch/>
        </p:blipFill>
        <p:spPr>
          <a:xfrm>
            <a:off x="1903320" y="38088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7" name="Picture 4" descr="F:\HTWB_200x225[1].jpg"/>
          <p:cNvPicPr/>
          <p:nvPr/>
        </p:nvPicPr>
        <p:blipFill>
          <a:blip r:embed="rId1"/>
          <a:stretch/>
        </p:blipFill>
        <p:spPr>
          <a:xfrm>
            <a:off x="4800600" y="1676520"/>
            <a:ext cx="4192560" cy="4716360"/>
          </a:xfrm>
          <a:prstGeom prst="rect">
            <a:avLst/>
          </a:prstGeom>
          <a:ln w="0">
            <a:noFill/>
          </a:ln>
        </p:spPr>
      </p:pic>
      <p:pic>
        <p:nvPicPr>
          <p:cNvPr id="368" name="Picture 5" descr="F:\F494_330x370[1].jpg"/>
          <p:cNvPicPr/>
          <p:nvPr/>
        </p:nvPicPr>
        <p:blipFill>
          <a:blip r:embed="rId2"/>
          <a:stretch/>
        </p:blipFill>
        <p:spPr>
          <a:xfrm>
            <a:off x="304920" y="1676520"/>
            <a:ext cx="4343400" cy="48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ud vase</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ll bud vase with water and preservative.  Cut leather leaf stems to fit in budvase up to first leaves.  Cut carnations—tall, medium, low.  Place in budvase.  Add baby’s breath.  Add bow at top of vase, bottom of flower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stems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oses or carnatio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stem baby’s breath</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esh flower preservativ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ibbon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4 wire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7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ud vas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4" name="Picture 2" descr="F:\1030RDz[1].jpg"/>
          <p:cNvPicPr/>
          <p:nvPr/>
        </p:nvPicPr>
        <p:blipFill>
          <a:blip r:embed="rId1"/>
          <a:stretch/>
        </p:blipFill>
        <p:spPr>
          <a:xfrm>
            <a:off x="2438280" y="1380960"/>
            <a:ext cx="4649760" cy="509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4:39:41Z</dcterms:created>
  <dc:creator>Snake River</dc:creator>
  <dc:description/>
  <dc:language>en-US</dc:language>
  <cp:lastModifiedBy>PattJust</cp:lastModifiedBy>
  <dcterms:modified xsi:type="dcterms:W3CDTF">2009-06-17T15:36:09Z</dcterms:modified>
  <cp:revision>13</cp:revision>
  <dc:subject/>
  <dc:title>Floral Arrangements</dc:title>
</cp:coreProperties>
</file>