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E7E8-E431-4E7A-870C-F58B4DD03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AF4F-6157-4BAD-B771-2295A4000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diseflowers.com</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5F4A-F737-4352-9B0B-E8056DB3E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BE42-01F1-46FB-8AA6-AE69BF7E7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9B85-FF59-49E6-BEC5-BD91E3A6B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217B-97ED-40F8-A480-0AC4E8DAF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0702-E6EA-4104-81A4-7E65034DF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1ABD-5D2D-4EED-BDAE-90E095D96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11D8-2E1D-480B-909C-E6BFA233A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EF56-03E7-45C3-BC83-257AE931C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rall, Julia S. </a:t>
            </a:r>
            <a:r>
              <a:rPr b="0" lang="en-US" sz="1200" spc="-1" strike="noStrike" u="sng">
                <a:solidFill>
                  <a:srgbClr val="000000"/>
                </a:solidFill>
                <a:uFillTx/>
                <a:latin typeface="Calibri"/>
              </a:rPr>
              <a:t>A History of Flower Arrangement.  </a:t>
            </a:r>
            <a:r>
              <a:rPr b="0" lang="en-US" sz="1200" spc="-1" strike="noStrike">
                <a:solidFill>
                  <a:srgbClr val="000000"/>
                </a:solidFill>
                <a:latin typeface="Calibri"/>
              </a:rPr>
              <a:t> Viking Press, Inc. 19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zone.co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62EE-1581-4F96-9BB6-A6963BBE1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87BB-3FA6-4553-9478-0A3FD871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2CAC-1937-47FF-AD9E-E0C4B33BD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E342-C890-4BBC-8908-8158E1D94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5A11-9BB8-4B91-9C7A-18A2A5977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52C7-B2E0-443D-9D8C-E098BFDBC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CEF2-5FB3-4818-9D69-F79F5480C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616C-4425-4E8C-9ED5-CFF4F16D6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A60C-99F8-4DFD-9E48-95A98FA73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4659-B82A-4D98-ADD5-6B7C24364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3473-5094-45D8-9AA1-584EB883A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07F5-CB33-47BF-800D-1D476C751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DD95-8BCA-4621-A8AC-3D9600AED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0529-2B1F-4B07-86A8-DB6F59493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BA76-374D-4B52-AEAB-BBAF8D62F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 Idea from F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D</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EE4B-9F2E-4AD9-AC1E-C618353B0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com</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914A-9982-48A3-A93B-0ADDE2F2C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08C2E-9EEC-45E2-8C77-0EA015DD6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A6F4-9123-4DE0-9485-2E4DFE2F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D2802-AFEF-4711-8D9F-57303F82D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2554D-A535-4CAB-9D35-DFF7C6611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F2A21-FD77-463A-B143-439D0A25D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8D965-869B-4332-AEC1-A41DE5924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3C58F-A0FC-4717-8119-644AA311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D80B6-6B68-4D3B-A6B1-BD5CDC622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A70F6-9517-41E6-ABFD-727712D3A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2C300-2AE8-4A2E-8DCD-87671DB89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C777-606D-4D65-BFC0-CDA2648DE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6E583-B01B-47CE-92AB-E59BCF4CF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95030-A6DB-4D22-9002-7FA86EB3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524C2-2314-4528-97E2-D2C81898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A75F0-91BF-4B07-8BA5-A457E1B38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3087A-F30D-4BB7-9C5E-1B74154A8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8296F-E485-458B-9FA2-BB5EFE1A7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14A5738-8588-49E1-A5D2-32703DFF5A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8BD1E5-DC93-480C-935F-99BB982CA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2B6207-E3CF-4D43-8049-6FA57A028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322A41-3D17-415C-BB8D-3F96EEFA8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1B7B70-CA87-4037-9F4B-4486D04D0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3307-32F3-4D6B-BC69-923A48ED3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DE4394-BF92-47C6-8F00-65AB54B57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65A8CB-E8D3-4B1C-81B8-DF82F38CE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D99DCB-06EF-4AE7-8FF6-23D05F8C0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BF9F75-6539-4FDF-9079-C4D6D6D38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B3441B-6634-4AFD-928C-939FE5756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CBF30C-BB01-47BD-956C-6908669305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2D1EA95-8F04-45D1-A6C8-4919EB2AC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84718FF-33DB-4702-BF8D-B7AF393C0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B04992-A80E-4610-8B2C-097AC8EAC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83E89D-004D-4437-B6E7-26F017821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095CA-4127-4B74-81C4-73B4671A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989840-92DC-4BBE-9BB9-50A547546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A57877-E7FE-4D75-95C8-7FA63703E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EA2A86-009C-4B91-B614-1B3115DB6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2D1F84-D5ED-486F-A3D6-DD4AA8903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172D34-EBFE-49B5-A2CC-DF005CEFB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F3433B-79BE-446D-90D3-B1BD23D27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779E823-8D3F-4810-943F-4C39684AF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17F19D-BBA3-49BE-A02F-D977E56876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FF5C6B-B06E-471C-B302-ED36AC12A5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63823F-A292-4446-9DAC-DD5848566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A1B32-F565-4F15-AE02-BDA4447E5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C9A2D8-15F2-4820-9493-062F6EB71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E76048-9146-4210-9674-27776FD69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4C7237-3BDF-474D-B4DD-80B8998AF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94B06C-F9EC-4B84-9694-ADDC9BAC5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034F16-8657-4001-9BF4-461616167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84F811-25A0-4C57-A7A3-C5AA9F586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DF9F90-79A2-4AF6-B522-B611CF084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7321C0-9BD4-4901-AD95-73F565930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67499E-6325-4DFF-8A76-CF6D1D512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58B4F1-63AC-47EE-8518-BD4C56D1A7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A3D89-9981-4097-9C8E-340874003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8141CC-064C-4C1E-8E25-C405E36D31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FAC8F-22CA-4E4E-A337-A5344FB68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CC9FC-C8E9-4A18-899B-F6E719226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02651-36A5-4D55-90E7-6ED6CB1FEC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4FBB0B-7414-4310-83B7-48B199326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F320C-A73F-4E42-91E4-4884BCE6D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FA85F6-CF72-403C-9B47-8103207A5A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4AABC-BAEB-4504-A9E9-E65B18E48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A4CFD-23CA-437C-B99C-5454F3BC0C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E4531-17DA-4921-A15D-0C6F806E1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D3535-BE3D-4C1A-9A4E-E2C431F0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9EDE99-968C-496B-B2E5-C5F2492C9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750243-5825-4DAD-8A39-BAC6B6E10C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0B645D-F72A-4C92-AE61-2F06FA5B9F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5A83B7-C2ED-4396-8D3C-21F97E1C86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2A330EA-255B-4238-BA34-B8153E78E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37D369-2544-4797-BBED-A87EABCFF9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6F38BE-9A2B-47FC-9ACA-BD8961D90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0836F0-61D2-4F19-B121-5F7715B13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912CAF-7BD6-4EDA-B245-7C61D49C1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42CE9E-0254-4305-9201-FC70778F1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52AD-7BED-413D-8538-AF79906A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FB809E-AE31-4541-BF71-2CDA6776D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4AB54E-D522-4DFA-8CB7-B50DE86E4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0DC100-FCFB-41D3-B723-AAFDEB2FF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EFA5C98-FBBD-473A-8FC8-163691EE9E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142E76B-BF77-4035-AC63-6D5E3CD396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97216-CCDC-49F5-9981-77C6E30E8A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2AEC94-AC2D-4408-97E9-4E75B71B28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C79EA-1ABE-4D81-B23D-0BBF48BD8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AF2C09-8C7D-4723-9446-1C4A27C48C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2CC5E-7E94-4C7C-9B00-53F9CFD9E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C8AD-A6FF-4B90-9A42-76F4A7E5B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BD615B-73F6-4A3D-ABA3-C4B7AAA91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08276-5880-4AE6-95B6-6629C7D95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08AB5-4963-4C73-AAAC-A2F3BDBD2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C80EC-1D11-4CAC-B9DE-D1665DB19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305C76-A48F-4938-A61F-2B916AFE2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2B163A-3DD8-43F2-8BEF-CF2E4E3D9D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92FAC3-95C5-4634-BB87-518F6CFE6D2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2962-5E95-42A1-947F-436C1CC102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7006-7AE3-4396-90B5-04955D8EE19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8197-FF4E-4A02-A261-8117D2D79CE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C7E1-95AA-4CF7-AAFF-082DD3C5CC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3A32-B7F6-4119-BD1E-195E923A65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BB58-5D29-4937-80CC-448FDEAB96B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734E-9300-4859-A738-71492ECBC03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5474-7B9C-4982-BBAC-F818696BFB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6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6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6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RRANGEMENTS</a:t>
            </a:r>
            <a:endParaRPr b="0" lang="en-US" sz="4400" spc="-1" strike="noStrike">
              <a:solidFill>
                <a:srgbClr val="ebddc3"/>
              </a:solidFill>
              <a:latin typeface="Tw Cen MT"/>
            </a:endParaRPr>
          </a:p>
        </p:txBody>
      </p:sp>
      <p:pic>
        <p:nvPicPr>
          <p:cNvPr id="358" name="Picture 2" descr="F:\FA53_330x370[1].jpg"/>
          <p:cNvPicPr/>
          <p:nvPr/>
        </p:nvPicPr>
        <p:blipFill>
          <a:blip r:embed="rId1"/>
          <a:stretch/>
        </p:blipFill>
        <p:spPr>
          <a:xfrm>
            <a:off x="685800" y="228600"/>
            <a:ext cx="42130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6" name="Picture 2" descr="F:\photos\Floral Photos\curriculum 09\0004\P1050487.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quilateral triangle arrangement</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 (one sided)</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of foam in gripper.  Cover foam with greenery.  Place outer perimeter flowers in triangle shape.  Add in rest of flowers to fill inside triangle.  Add statice to fill in hole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Equilateral triangle arrange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0" name="Picture 4" descr="F:\photos\Floral Curriculum\flower arr by steps\P1050859.JPG"/>
          <p:cNvPicPr/>
          <p:nvPr/>
        </p:nvPicPr>
        <p:blipFill>
          <a:blip r:embed="rId1"/>
          <a:stretch/>
        </p:blipFill>
        <p:spPr>
          <a:xfrm>
            <a:off x="380880" y="1981080"/>
            <a:ext cx="4165560" cy="3124440"/>
          </a:xfrm>
          <a:prstGeom prst="rect">
            <a:avLst/>
          </a:prstGeom>
          <a:ln w="0">
            <a:noFill/>
          </a:ln>
        </p:spPr>
      </p:pic>
      <p:pic>
        <p:nvPicPr>
          <p:cNvPr id="381" name="Picture 5" descr="F:\photos\Floral Curriculum\flower arr by steps\P1050857.JPG"/>
          <p:cNvPicPr/>
          <p:nvPr/>
        </p:nvPicPr>
        <p:blipFill>
          <a:blip r:embed="rId2"/>
          <a:stretch/>
        </p:blipFill>
        <p:spPr>
          <a:xfrm>
            <a:off x="4724280" y="20574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8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riangle arrangement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5" name="Picture 2" descr="F:\rainforest_splendor[1].jpg"/>
          <p:cNvPicPr/>
          <p:nvPr/>
        </p:nvPicPr>
        <p:blipFill>
          <a:blip r:embed="rId1"/>
          <a:stretch/>
        </p:blipFill>
        <p:spPr>
          <a:xfrm>
            <a:off x="380880" y="1752480"/>
            <a:ext cx="3660840" cy="4496040"/>
          </a:xfrm>
          <a:prstGeom prst="rect">
            <a:avLst/>
          </a:prstGeom>
          <a:ln w="0">
            <a:noFill/>
          </a:ln>
        </p:spPr>
      </p:pic>
      <p:pic>
        <p:nvPicPr>
          <p:cNvPr id="386" name="Picture 3" descr="F:\haleakala_splendor[1].jpg"/>
          <p:cNvPicPr/>
          <p:nvPr/>
        </p:nvPicPr>
        <p:blipFill>
          <a:blip r:embed="rId2"/>
          <a:stretch/>
        </p:blipFill>
        <p:spPr>
          <a:xfrm>
            <a:off x="4191120" y="1676520"/>
            <a:ext cx="481320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88" name="Picture 2" descr="F:\C22-4171_330x370[1].jpg"/>
          <p:cNvPicPr/>
          <p:nvPr/>
        </p:nvPicPr>
        <p:blipFill>
          <a:blip r:embed="rId1"/>
          <a:stretch/>
        </p:blipFill>
        <p:spPr>
          <a:xfrm>
            <a:off x="457200" y="1676520"/>
            <a:ext cx="4038480" cy="4527360"/>
          </a:xfrm>
          <a:prstGeom prst="rect">
            <a:avLst/>
          </a:prstGeom>
          <a:ln w="0">
            <a:noFill/>
          </a:ln>
        </p:spPr>
      </p:pic>
      <p:pic>
        <p:nvPicPr>
          <p:cNvPr id="389" name="Picture 3" descr="F:\FA68_200x225[1].jpg"/>
          <p:cNvPicPr/>
          <p:nvPr/>
        </p:nvPicPr>
        <p:blipFill>
          <a:blip r:embed="rId2"/>
          <a:stretch/>
        </p:blipFill>
        <p:spPr>
          <a:xfrm>
            <a:off x="4800600" y="1752480"/>
            <a:ext cx="386064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1" name="Picture 4" descr="F:\photos\Floral Photos\curriculum 09\0004\P1050489.JPG"/>
          <p:cNvPicPr/>
          <p:nvPr/>
        </p:nvPicPr>
        <p:blipFill>
          <a:blip r:embed="rId1"/>
          <a:stretch/>
        </p:blipFill>
        <p:spPr>
          <a:xfrm>
            <a:off x="3003480" y="160020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und centerpiece</a:t>
            </a:r>
            <a:endParaRPr b="0" lang="en-US" sz="44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oak floral foam.  Place 1/3 brick foam in gripper.  Cover foam with greenery.  Place 5 outer perimeter flowers in circle shape.  Place 5 more flowers in between first 5 but at an angle.  Place one flower in center.  Fill in with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Round centerpie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t floral fo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3 brick gripper</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harp floral knif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ems chrysanthemums</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5 stems of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stems of static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95" name="Picture 2" descr="F:\floral pic spring 09\P1060143.JPG"/>
          <p:cNvPicPr/>
          <p:nvPr/>
        </p:nvPicPr>
        <p:blipFill>
          <a:blip r:embed="rId1"/>
          <a:stretch/>
        </p:blipFill>
        <p:spPr>
          <a:xfrm>
            <a:off x="1523880" y="1828800"/>
            <a:ext cx="2743200" cy="2057400"/>
          </a:xfrm>
          <a:prstGeom prst="rect">
            <a:avLst/>
          </a:prstGeom>
          <a:ln w="0">
            <a:noFill/>
          </a:ln>
        </p:spPr>
      </p:pic>
      <p:pic>
        <p:nvPicPr>
          <p:cNvPr id="396" name="Picture 3" descr="F:\floral pic spring 09\P1060144.JPG"/>
          <p:cNvPicPr/>
          <p:nvPr/>
        </p:nvPicPr>
        <p:blipFill>
          <a:blip r:embed="rId2"/>
          <a:stretch/>
        </p:blipFill>
        <p:spPr>
          <a:xfrm>
            <a:off x="1752480" y="4191120"/>
            <a:ext cx="2438640" cy="1828800"/>
          </a:xfrm>
          <a:prstGeom prst="rect">
            <a:avLst/>
          </a:prstGeom>
          <a:ln w="0">
            <a:noFill/>
          </a:ln>
        </p:spPr>
      </p:pic>
      <p:pic>
        <p:nvPicPr>
          <p:cNvPr id="397" name="Picture 4" descr="F:\floral pic spring 09\P1060145.JPG"/>
          <p:cNvPicPr/>
          <p:nvPr/>
        </p:nvPicPr>
        <p:blipFill>
          <a:blip r:embed="rId3"/>
          <a:stretch/>
        </p:blipFill>
        <p:spPr>
          <a:xfrm>
            <a:off x="5334120" y="4038480"/>
            <a:ext cx="2743200" cy="2057400"/>
          </a:xfrm>
          <a:prstGeom prst="rect">
            <a:avLst/>
          </a:prstGeom>
          <a:ln w="0">
            <a:noFill/>
          </a:ln>
        </p:spPr>
      </p:pic>
      <p:pic>
        <p:nvPicPr>
          <p:cNvPr id="398" name="Picture 6" descr="F:\floral pic spring 09\P1060153.JPG"/>
          <p:cNvPicPr/>
          <p:nvPr/>
        </p:nvPicPr>
        <p:blipFill>
          <a:blip r:embed="rId4"/>
          <a:stretch/>
        </p:blipFill>
        <p:spPr>
          <a:xfrm>
            <a:off x="5334120" y="167652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0" name="Picture 2" descr="F:\floral pic spring 09\P1060147.JPG"/>
          <p:cNvPicPr/>
          <p:nvPr/>
        </p:nvPicPr>
        <p:blipFill>
          <a:blip r:embed="rId1"/>
          <a:stretch/>
        </p:blipFill>
        <p:spPr>
          <a:xfrm>
            <a:off x="1676520" y="4114800"/>
            <a:ext cx="2539800" cy="1905120"/>
          </a:xfrm>
          <a:prstGeom prst="rect">
            <a:avLst/>
          </a:prstGeom>
          <a:ln w="0">
            <a:noFill/>
          </a:ln>
        </p:spPr>
      </p:pic>
      <p:pic>
        <p:nvPicPr>
          <p:cNvPr id="401" name="Picture 3" descr="F:\floral pic spring 09\P1060148.JPG"/>
          <p:cNvPicPr/>
          <p:nvPr/>
        </p:nvPicPr>
        <p:blipFill>
          <a:blip r:embed="rId2"/>
          <a:stretch/>
        </p:blipFill>
        <p:spPr>
          <a:xfrm>
            <a:off x="5181480" y="1752480"/>
            <a:ext cx="2743200" cy="2057400"/>
          </a:xfrm>
          <a:prstGeom prst="rect">
            <a:avLst/>
          </a:prstGeom>
          <a:ln w="0">
            <a:noFill/>
          </a:ln>
        </p:spPr>
      </p:pic>
      <p:pic>
        <p:nvPicPr>
          <p:cNvPr id="402" name="Picture 4" descr="F:\floral pic spring 09\P1060150.JPG"/>
          <p:cNvPicPr/>
          <p:nvPr/>
        </p:nvPicPr>
        <p:blipFill>
          <a:blip r:embed="rId3"/>
          <a:stretch/>
        </p:blipFill>
        <p:spPr>
          <a:xfrm>
            <a:off x="5105520" y="4038480"/>
            <a:ext cx="2844720" cy="2133720"/>
          </a:xfrm>
          <a:prstGeom prst="rect">
            <a:avLst/>
          </a:prstGeom>
          <a:ln w="0">
            <a:noFill/>
          </a:ln>
        </p:spPr>
      </p:pic>
      <p:pic>
        <p:nvPicPr>
          <p:cNvPr id="403" name="Picture 5" descr="F:\floral pic spring 09\P1060146.JPG"/>
          <p:cNvPicPr/>
          <p:nvPr/>
        </p:nvPicPr>
        <p:blipFill>
          <a:blip r:embed="rId4"/>
          <a:stretch/>
        </p:blipFill>
        <p:spPr>
          <a:xfrm>
            <a:off x="1600200" y="1752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eneral Floral Design Rul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per dimensions for floral designs are 1 1/2 to 2 times the greatest dimension of the container (height or width, whichever is grea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s and smaller flowers should be at the top and outer edge of the arrangement.  Larger flowers should be placed lower and more toward the center.</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ghter colors should be placed towards the top and darker colors toward the base.</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en using 12 flowers or less, use an uneven number of flowers to achieve visual balance (not including filler material).</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ultimate size of an arrangement is limited by the size of stems, flowers, and surrounding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ver let the mechanical aids of the arrangement show (wires, tape, foam, or any other supports).</a:t>
            </a:r>
            <a:endParaRPr b="0" lang="en-US" sz="20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gin an arrangement with the shape in mind.  Place outer perimeter flowers to establish shape.  Fill in cent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0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enterpiec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07" name="Picture 4" descr="F:\SMRB_200x225[1].jpg"/>
          <p:cNvPicPr/>
          <p:nvPr/>
        </p:nvPicPr>
        <p:blipFill>
          <a:blip r:embed="rId1"/>
          <a:stretch/>
        </p:blipFill>
        <p:spPr>
          <a:xfrm>
            <a:off x="380880" y="1828800"/>
            <a:ext cx="3861000" cy="4343400"/>
          </a:xfrm>
          <a:prstGeom prst="rect">
            <a:avLst/>
          </a:prstGeom>
          <a:ln w="0">
            <a:noFill/>
          </a:ln>
        </p:spPr>
      </p:pic>
      <p:pic>
        <p:nvPicPr>
          <p:cNvPr id="408" name="Picture 5" descr="F:\T582_330x370[1].jpg"/>
          <p:cNvPicPr/>
          <p:nvPr/>
        </p:nvPicPr>
        <p:blipFill>
          <a:blip r:embed="rId2"/>
          <a:stretch/>
        </p:blipFill>
        <p:spPr>
          <a:xfrm>
            <a:off x="4495680" y="1752480"/>
            <a:ext cx="401004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0" name="Picture 2" descr="F:\FU88_200x225[1].jpg"/>
          <p:cNvPicPr/>
          <p:nvPr/>
        </p:nvPicPr>
        <p:blipFill>
          <a:blip r:embed="rId1"/>
          <a:stretch/>
        </p:blipFill>
        <p:spPr>
          <a:xfrm>
            <a:off x="1143000" y="1676520"/>
            <a:ext cx="3792600" cy="4267080"/>
          </a:xfrm>
          <a:prstGeom prst="rect">
            <a:avLst/>
          </a:prstGeom>
          <a:ln w="0">
            <a:noFill/>
          </a:ln>
        </p:spPr>
      </p:pic>
      <p:pic>
        <p:nvPicPr>
          <p:cNvPr id="411" name="Picture 3" descr="F:\W35-4295_200x225[1].jpg"/>
          <p:cNvPicPr/>
          <p:nvPr/>
        </p:nvPicPr>
        <p:blipFill>
          <a:blip r:embed="rId2"/>
          <a:stretch/>
        </p:blipFill>
        <p:spPr>
          <a:xfrm>
            <a:off x="5029200" y="1752480"/>
            <a:ext cx="37814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T613_c[1]"/>
          <p:cNvPicPr/>
          <p:nvPr/>
        </p:nvPicPr>
        <p:blipFill>
          <a:blip r:embed="rId1"/>
          <a:stretch/>
        </p:blipFill>
        <p:spPr>
          <a:xfrm>
            <a:off x="213372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08-T3_c[1]"/>
          <p:cNvPicPr/>
          <p:nvPr/>
        </p:nvPicPr>
        <p:blipFill>
          <a:blip r:embed="rId1"/>
          <a:stretch/>
        </p:blipFill>
        <p:spPr>
          <a:xfrm>
            <a:off x="2590920" y="304920"/>
            <a:ext cx="5368680" cy="60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D5-4043_c[1]"/>
          <p:cNvPicPr/>
          <p:nvPr/>
        </p:nvPicPr>
        <p:blipFill>
          <a:blip r:embed="rId1"/>
          <a:stretch/>
        </p:blipFill>
        <p:spPr>
          <a:xfrm>
            <a:off x="2362320" y="457200"/>
            <a:ext cx="5232240" cy="58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ne (Heaven, man, earth)</a:t>
            </a:r>
            <a:endParaRPr b="0" lang="en-US" sz="4400" spc="-1" strike="noStrike">
              <a:solidFill>
                <a:srgbClr val="775f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ak floral foam.  Place 1/3 brick foam in gripper.  Place flowers in Heaven, man, earth positions.  Place a few pieces of leather leaf.  Cover foam with wet sheet moss.  Use greening pins to hold sheet moss in plac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Line design</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t floral foam</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3 brick gripper</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rp floral knif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iri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et mos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reening pi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41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Line design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Floral Design History 033"/>
          <p:cNvPicPr/>
          <p:nvPr/>
        </p:nvPicPr>
        <p:blipFill>
          <a:blip r:embed="rId1"/>
          <a:stretch/>
        </p:blipFill>
        <p:spPr>
          <a:xfrm>
            <a:off x="2666880" y="55440"/>
            <a:ext cx="3733920" cy="5735880"/>
          </a:xfrm>
          <a:prstGeom prst="rect">
            <a:avLst/>
          </a:prstGeom>
          <a:ln w="0">
            <a:noFill/>
          </a:ln>
        </p:spPr>
      </p:pic>
      <p:sp>
        <p:nvSpPr>
          <p:cNvPr id="420" name="Rectangle 3"/>
          <p:cNvSpPr/>
          <p:nvPr/>
        </p:nvSpPr>
        <p:spPr>
          <a:xfrm>
            <a:off x="2209680" y="5911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ka arran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en man ea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ven, Man, Earth</a:t>
            </a:r>
            <a:endParaRPr b="0" lang="en-US" sz="4400" spc="-1" strike="noStrike">
              <a:solidFill>
                <a:srgbClr val="775f55"/>
              </a:solidFill>
              <a:latin typeface="Tw Cen MT"/>
            </a:endParaRPr>
          </a:p>
        </p:txBody>
      </p:sp>
      <p:sp>
        <p:nvSpPr>
          <p:cNvPr id="422" name="PlaceHolder 2"/>
          <p:cNvSpPr>
            <a:spLocks noGrp="1"/>
          </p:cNvSpPr>
          <p:nvPr>
            <p:ph/>
          </p:nvPr>
        </p:nvSpPr>
        <p:spPr>
          <a:xfrm>
            <a:off x="457200" y="18288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akeizu for the arrangement shown on the left</a:t>
            </a:r>
            <a:br>
              <a:rPr sz="2900"/>
            </a:br>
            <a:r>
              <a:rPr b="0" lang="en-US" sz="2900" spc="-1" strike="noStrike">
                <a:solidFill>
                  <a:srgbClr val="000000"/>
                </a:solidFill>
                <a:latin typeface="Tw Cen MT"/>
              </a:rPr>
              <a:t>(copyright Sogetsukai Foundation). The photo shows the frontal view as in the illustration. </a:t>
            </a:r>
            <a:endParaRPr b="0" lang="en-US" sz="2900" spc="-1" strike="noStrike">
              <a:solidFill>
                <a:srgbClr val="000000"/>
              </a:solidFill>
              <a:latin typeface="Tw Cen MT"/>
            </a:endParaRPr>
          </a:p>
        </p:txBody>
      </p:sp>
      <p:pic>
        <p:nvPicPr>
          <p:cNvPr id="423" name="Picture 5" descr="Kakeizu"/>
          <p:cNvPicPr/>
          <p:nvPr/>
        </p:nvPicPr>
        <p:blipFill>
          <a:blip r:embed="rId1"/>
          <a:stretch/>
        </p:blipFill>
        <p:spPr>
          <a:xfrm>
            <a:off x="4648320" y="3505320"/>
            <a:ext cx="2895480" cy="2868480"/>
          </a:xfrm>
          <a:prstGeom prst="rect">
            <a:avLst/>
          </a:prstGeom>
          <a:ln w="0">
            <a:noFill/>
          </a:ln>
        </p:spPr>
      </p:pic>
      <p:pic>
        <p:nvPicPr>
          <p:cNvPr id="424" name="Picture 7" descr="Ikebana"/>
          <p:cNvPicPr/>
          <p:nvPr/>
        </p:nvPicPr>
        <p:blipFill>
          <a:blip r:embed="rId2"/>
          <a:stretch/>
        </p:blipFill>
        <p:spPr>
          <a:xfrm>
            <a:off x="1905120" y="3505320"/>
            <a:ext cx="20635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rPr>
              <a:t>FLOWER WRAP</a:t>
            </a:r>
            <a:br>
              <a:rPr sz="3600"/>
            </a:br>
            <a:r>
              <a:rPr b="0" lang="en-US" sz="3600" spc="-1" strike="noStrike">
                <a:solidFill>
                  <a:srgbClr val="ebddc3"/>
                </a:solidFill>
                <a:latin typeface="Tw Cen MT"/>
              </a:rPr>
              <a:t>BUD VASE</a:t>
            </a:r>
            <a:br>
              <a:rPr sz="3600"/>
            </a:br>
            <a:r>
              <a:rPr b="0" lang="en-US" sz="3600" spc="-1" strike="noStrike">
                <a:solidFill>
                  <a:srgbClr val="ebddc3"/>
                </a:solidFill>
                <a:latin typeface="Tw Cen MT"/>
              </a:rPr>
              <a:t>EQUILATERAL TRIANGLE </a:t>
            </a:r>
            <a:br>
              <a:rPr sz="3600"/>
            </a:br>
            <a:r>
              <a:rPr b="0" lang="en-US" sz="3600" spc="-1" strike="noStrike">
                <a:solidFill>
                  <a:srgbClr val="ebddc3"/>
                </a:solidFill>
                <a:latin typeface="Tw Cen MT"/>
              </a:rPr>
              <a:t>ROUND CENTERPIECE</a:t>
            </a:r>
            <a:br>
              <a:rPr sz="3600"/>
            </a:br>
            <a:r>
              <a:rPr b="0" lang="en-US" sz="3600" spc="-1" strike="noStrike">
                <a:solidFill>
                  <a:srgbClr val="ebddc3"/>
                </a:solidFill>
                <a:latin typeface="Tw Cen MT"/>
              </a:rPr>
              <a:t>LINE (HEAVEN, MAN, EARTH)</a:t>
            </a:r>
            <a:br>
              <a:rPr sz="3600"/>
            </a:br>
            <a:endParaRPr b="0" lang="en-US" sz="36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DESIGN IDEAS</a:t>
            </a:r>
            <a:endParaRPr b="0" lang="en-US" sz="4400" spc="-1" strike="noStrike">
              <a:solidFill>
                <a:srgbClr val="ebddc3"/>
              </a:solidFill>
              <a:latin typeface="Tw Cen MT"/>
            </a:endParaRPr>
          </a:p>
        </p:txBody>
      </p:sp>
      <p:sp>
        <p:nvSpPr>
          <p:cNvPr id="42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ALL ARRANGEMENTS</a:t>
            </a:r>
            <a:endParaRPr b="0" lang="en-US" sz="4400" spc="-1" strike="noStrike">
              <a:solidFill>
                <a:srgbClr val="ebddc3"/>
              </a:solidFill>
              <a:latin typeface="Tw Cen MT"/>
            </a:endParaRPr>
          </a:p>
        </p:txBody>
      </p:sp>
      <p:sp>
        <p:nvSpPr>
          <p:cNvPr id="43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08-T2_c[1]"/>
          <p:cNvPicPr/>
          <p:nvPr/>
        </p:nvPicPr>
        <p:blipFill>
          <a:blip r:embed="rId1"/>
          <a:stretch/>
        </p:blipFill>
        <p:spPr>
          <a:xfrm>
            <a:off x="2286000" y="228600"/>
            <a:ext cx="550404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TB64_c[1]"/>
          <p:cNvPicPr/>
          <p:nvPr/>
        </p:nvPicPr>
        <p:blipFill>
          <a:blip r:embed="rId1"/>
          <a:stretch/>
        </p:blipFill>
        <p:spPr>
          <a:xfrm>
            <a:off x="251460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ORSAGES &amp; BOUTONNIERES</a:t>
            </a:r>
            <a:endParaRPr b="0" lang="en-US" sz="4400" spc="-1" strike="noStrike">
              <a:solidFill>
                <a:srgbClr val="ebddc3"/>
              </a:solidFill>
              <a:latin typeface="Tw Cen MT"/>
            </a:endParaRPr>
          </a:p>
        </p:txBody>
      </p:sp>
      <p:sp>
        <p:nvSpPr>
          <p:cNvPr id="43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D11-3904_c[1]"/>
          <p:cNvPicPr/>
          <p:nvPr/>
        </p:nvPicPr>
        <p:blipFill>
          <a:blip r:embed="rId1"/>
          <a:stretch/>
        </p:blipFill>
        <p:spPr>
          <a:xfrm>
            <a:off x="1981080" y="304920"/>
            <a:ext cx="5166000" cy="5790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W8-3453_c[1]"/>
          <p:cNvPicPr/>
          <p:nvPr/>
        </p:nvPicPr>
        <p:blipFill>
          <a:blip r:embed="rId1"/>
          <a:stretch/>
        </p:blipFill>
        <p:spPr>
          <a:xfrm>
            <a:off x="2286000" y="22860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W6-3829_c[1]"/>
          <p:cNvPicPr/>
          <p:nvPr/>
        </p:nvPicPr>
        <p:blipFill>
          <a:blip r:embed="rId1"/>
          <a:stretch/>
        </p:blipFill>
        <p:spPr>
          <a:xfrm>
            <a:off x="2133720" y="152280"/>
            <a:ext cx="5640120" cy="6324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4" descr="W3-4234_c[1]"/>
          <p:cNvPicPr/>
          <p:nvPr/>
        </p:nvPicPr>
        <p:blipFill>
          <a:blip r:embed="rId1"/>
          <a:stretch/>
        </p:blipFill>
        <p:spPr>
          <a:xfrm>
            <a:off x="2514600" y="457200"/>
            <a:ext cx="543708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lower wrap</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lace a 18” square piece of cellophane or waxed tissue paper on the design bench.  Place leather leaf diagonally on tissue paper.  Place carnation on top of leather leaf.  Add baby’s breath.  Roll tissue paper with flowers inside.  Finish off with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Equipment:</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Flower wrap</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tem leather leaf</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carnation</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sheet of cellophane or waxed tissue</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ribbon (bow)</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4 wire (bow)</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LANTS</a:t>
            </a:r>
            <a:endParaRPr b="0" lang="en-US" sz="4400" spc="-1" strike="noStrike">
              <a:solidFill>
                <a:srgbClr val="ebddc3"/>
              </a:solidFill>
              <a:latin typeface="Tw Cen MT"/>
            </a:endParaRPr>
          </a:p>
        </p:txBody>
      </p:sp>
      <p:sp>
        <p:nvSpPr>
          <p:cNvPr id="44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4" descr="TP08_c[1]"/>
          <p:cNvPicPr/>
          <p:nvPr/>
        </p:nvPicPr>
        <p:blipFill>
          <a:blip r:embed="rId1"/>
          <a:stretch/>
        </p:blipFill>
        <p:spPr>
          <a:xfrm>
            <a:off x="2133720" y="228600"/>
            <a:ext cx="5708520" cy="6400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TP49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TP52_c[1]"/>
          <p:cNvPicPr/>
          <p:nvPr/>
        </p:nvPicPr>
        <p:blipFill>
          <a:blip r:embed="rId1"/>
          <a:stretch/>
        </p:blipFill>
        <p:spPr>
          <a:xfrm>
            <a:off x="2209680" y="22860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4" descr="TP74_c[1]"/>
          <p:cNvPicPr/>
          <p:nvPr/>
        </p:nvPicPr>
        <p:blipFill>
          <a:blip r:embed="rId1"/>
          <a:stretch/>
        </p:blipFill>
        <p:spPr>
          <a:xfrm>
            <a:off x="2209680" y="304920"/>
            <a:ext cx="5640480" cy="6324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FLORAL ADD-ONS</a:t>
            </a:r>
            <a:endParaRPr b="0" lang="en-US" sz="4400" spc="-1" strike="noStrike">
              <a:solidFill>
                <a:srgbClr val="ebddc3"/>
              </a:solidFill>
              <a:latin typeface="Tw Cen MT"/>
            </a:endParaRPr>
          </a:p>
        </p:txBody>
      </p:sp>
      <p:sp>
        <p:nvSpPr>
          <p:cNvPr id="44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4" descr="CT53_c[1]"/>
          <p:cNvPicPr/>
          <p:nvPr/>
        </p:nvPicPr>
        <p:blipFill>
          <a:blip r:embed="rId1"/>
          <a:stretch/>
        </p:blipFill>
        <p:spPr>
          <a:xfrm>
            <a:off x="2590920" y="609480"/>
            <a:ext cx="5165640" cy="579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TB02_c[1]"/>
          <p:cNvPicPr/>
          <p:nvPr/>
        </p:nvPicPr>
        <p:blipFill>
          <a:blip r:embed="rId1"/>
          <a:stretch/>
        </p:blipFill>
        <p:spPr>
          <a:xfrm>
            <a:off x="2133720" y="304920"/>
            <a:ext cx="5572080" cy="624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BALLOONS</a:t>
            </a:r>
            <a:endParaRPr b="0" lang="en-US" sz="4400" spc="-1" strike="noStrike">
              <a:solidFill>
                <a:srgbClr val="ebddc3"/>
              </a:solidFill>
              <a:latin typeface="Tw Cen MT"/>
            </a:endParaRPr>
          </a:p>
        </p:txBody>
      </p:sp>
      <p:sp>
        <p:nvSpPr>
          <p:cNvPr id="450"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EO-6033_c[1]"/>
          <p:cNvPicPr/>
          <p:nvPr/>
        </p:nvPicPr>
        <p:blipFill>
          <a:blip r:embed="rId1"/>
          <a:stretch/>
        </p:blipFill>
        <p:spPr>
          <a:xfrm>
            <a:off x="2209680" y="457200"/>
            <a:ext cx="5153040" cy="57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6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lower wrap</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EO-6101_c[1]"/>
          <p:cNvPicPr/>
          <p:nvPr/>
        </p:nvPicPr>
        <p:blipFill>
          <a:blip r:embed="rId1"/>
          <a:stretch/>
        </p:blipFill>
        <p:spPr>
          <a:xfrm>
            <a:off x="2209680" y="304920"/>
            <a:ext cx="5437440" cy="6095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SPECIALTY</a:t>
            </a:r>
            <a:endParaRPr b="0" lang="en-US" sz="4400" spc="-1" strike="noStrike">
              <a:solidFill>
                <a:srgbClr val="ebddc3"/>
              </a:solidFill>
              <a:latin typeface="Tw Cen MT"/>
            </a:endParaRPr>
          </a:p>
        </p:txBody>
      </p:sp>
      <p:sp>
        <p:nvSpPr>
          <p:cNvPr id="45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4" descr="T584_c[1]"/>
          <p:cNvPicPr/>
          <p:nvPr/>
        </p:nvPicPr>
        <p:blipFill>
          <a:blip r:embed="rId1"/>
          <a:stretch/>
        </p:blipFill>
        <p:spPr>
          <a:xfrm>
            <a:off x="1903320" y="380880"/>
            <a:ext cx="557208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67" name="Picture 4" descr="F:\HTWB_200x225[1].jpg"/>
          <p:cNvPicPr/>
          <p:nvPr/>
        </p:nvPicPr>
        <p:blipFill>
          <a:blip r:embed="rId1"/>
          <a:stretch/>
        </p:blipFill>
        <p:spPr>
          <a:xfrm>
            <a:off x="4800600" y="1676520"/>
            <a:ext cx="4192560" cy="4716360"/>
          </a:xfrm>
          <a:prstGeom prst="rect">
            <a:avLst/>
          </a:prstGeom>
          <a:ln w="0">
            <a:noFill/>
          </a:ln>
        </p:spPr>
      </p:pic>
      <p:pic>
        <p:nvPicPr>
          <p:cNvPr id="368" name="Picture 5" descr="F:\F494_330x370[1].jpg"/>
          <p:cNvPicPr/>
          <p:nvPr/>
        </p:nvPicPr>
        <p:blipFill>
          <a:blip r:embed="rId2"/>
          <a:stretch/>
        </p:blipFill>
        <p:spPr>
          <a:xfrm>
            <a:off x="304920" y="1676520"/>
            <a:ext cx="4343400" cy="48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ud vase</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ll bud vase with water and preservative.  Cut leather leaf stems to fit in budvase up to first leaves.  Cut carnations—tall, medium, low.  Place in budvase.  Add baby’s breath.  Add bow at top of vase, bottom of flower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quipmen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stems leather leaf</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oses or carnation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stem baby’s breath</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d vas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esh flower preservativ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3 ribbon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4 wire (bow)</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XAMPLES </a:t>
            </a:r>
            <a:endParaRPr b="0" lang="en-US" sz="4400" spc="-1" strike="noStrike">
              <a:solidFill>
                <a:srgbClr val="ebddc3"/>
              </a:solidFill>
              <a:latin typeface="Tw Cen MT"/>
            </a:endParaRPr>
          </a:p>
        </p:txBody>
      </p:sp>
      <p:sp>
        <p:nvSpPr>
          <p:cNvPr id="37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ud vas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374" name="Picture 2" descr="F:\1030RDz[1].jpg"/>
          <p:cNvPicPr/>
          <p:nvPr/>
        </p:nvPicPr>
        <p:blipFill>
          <a:blip r:embed="rId1"/>
          <a:stretch/>
        </p:blipFill>
        <p:spPr>
          <a:xfrm>
            <a:off x="2438280" y="1380960"/>
            <a:ext cx="4649760" cy="509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4:39:41Z</dcterms:created>
  <dc:creator>Snake River</dc:creator>
  <dc:description/>
  <dc:language>en-US</dc:language>
  <cp:lastModifiedBy>PattJust</cp:lastModifiedBy>
  <dcterms:modified xsi:type="dcterms:W3CDTF">2009-06-17T15:36:09Z</dcterms:modified>
  <cp:revision>13</cp:revision>
  <dc:subject/>
  <dc:title>Floral Arrangements</dc:title>
</cp:coreProperties>
</file>