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52.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4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1.jpeg" ContentType="image/jpeg"/>
  <Override PartName="/ppt/media/image9.jpeg" ContentType="image/jpeg"/>
  <Override PartName="/ppt/media/image45.jpeg" ContentType="image/jpeg"/>
  <Override PartName="/ppt/media/image46.jpeg" ContentType="image/jpeg"/>
  <Override PartName="/ppt/media/image30.jpeg" ContentType="image/jpeg"/>
  <Override PartName="/ppt/media/image31.png" ContentType="image/png"/>
  <Override PartName="/ppt/media/image4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CDE1-355F-4265-903B-15B916027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TD</a:t>
            </a: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4852A-5616-4679-BE6E-38B8D97DE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diseflowers.com</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D94C-17C9-494E-A005-7910010F2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TD</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687C-92D4-4044-B258-853EEAF4F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TD</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1738-0D75-4B20-A1E4-BCAA3F312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TD</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DC87-1106-477B-B7AB-E156065A8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E81B-D308-4F85-888B-189044890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1AC5-A961-4F81-B693-47743CB05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0CA3-F559-418E-BDA6-AF4669E5A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6AB7-F60B-4E20-8BB4-F371E93D1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rrall, Julia S. </a:t>
            </a:r>
            <a:r>
              <a:rPr b="0" lang="en-US" sz="1200" spc="-1" strike="noStrike" u="sng">
                <a:solidFill>
                  <a:srgbClr val="000000"/>
                </a:solidFill>
                <a:uFillTx/>
                <a:latin typeface="Calibri"/>
              </a:rPr>
              <a:t>A History of Flower Arrangement.  </a:t>
            </a:r>
            <a:r>
              <a:rPr b="0" lang="en-US" sz="1200" spc="-1" strike="noStrike">
                <a:solidFill>
                  <a:srgbClr val="000000"/>
                </a:solidFill>
                <a:latin typeface="Calibri"/>
              </a:rPr>
              <a:t> Viking Press, Inc. 196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zone.com</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018E-AC24-4C4E-BEC2-6DA1995CE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283B-0082-4EB8-ABEC-D25899A73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FBEC-A95C-4A55-8989-CAA9C9D7B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B505E-EEA1-41E8-8C10-BED8733F5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FF37-1E66-44C3-BD9E-6F4D518FA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1735-4B95-4CE0-A363-718F95E2F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7F96-1485-4A45-A47F-7591173E8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C094-7962-492A-9BFC-217861002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381F-37C0-41EE-8CC7-F892C6ACE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A65A-E4EC-4C88-956F-768510690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E84F-DF2A-4C28-BE76-1BA47DC95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66AB-0E36-41B9-B56F-9FA056CED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BA93-8E10-412F-B23B-DB9EFF923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6DBA-F048-4D1B-8BE5-3D04D3BE5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724E-F4B3-4DC9-8BD8-1CB249622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TD</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915D-B64D-49E9-A22D-636C2E062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s.com</a:t>
            </a: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250F-09FC-4545-B3CA-B40967866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596A3-799C-425B-B24D-2E11B97CE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556FA-4E39-468F-9BA5-99F7B8C78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9380D-8B83-47F8-86E9-62583792A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15573-9041-4B31-A1DD-39E324066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D98AC-C6C0-43F7-BB90-FD9BD11E78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3B89C-B205-4578-A6D9-56AC9296A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DC33B-A521-4B5F-86FD-2452D9522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8E894-8DD1-4DAF-9A18-0AF79F9D8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1B990-E180-4CEE-BB8E-D081FEBB2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849AD-123E-4B4F-A083-B801E66EA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B2718-0D7F-479C-9012-AA878AA72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D9F94-314B-44C1-9F57-91A6A474D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32B04-F952-46B6-8A86-706E11985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AECC8-CD96-45AA-A612-4F5FC2B2B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2624B-DA5F-48D2-B11A-BE2771072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4753F-5C46-44FC-BCE6-2B687054A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EEE9C-3D91-4B80-BB71-5ED55A4CC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1080FE0-2E62-4D96-85CD-9362111981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11168A8-1923-48CF-941C-F47D905F92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9B39A57-F2C1-4BF0-A627-FA32D92512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6ABA394-5F4D-4EE9-893C-A4316C561D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6F69854-4A7A-4766-97DC-71B1897590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0CEFC-2690-4A30-A559-ADF8E9DB3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E9FA4AD-D54A-4A21-8ABB-529009913C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8ADA624-56FA-4854-AB5D-25BB144F19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EDC4A7-DB7B-4F97-9CE3-34DC7C3B9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B75DB6-F460-40FC-8765-BAA64634A1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DCF7D6A-9CE5-427F-B6DF-AAA81703F3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0F698F4-DD85-4D93-BEB5-4857F3D7EF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6590A05-7A34-47DE-9DBB-1D2B58900D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9B3DC74-36D9-4B04-A17E-1B3012F050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C8D3113-0FF9-4E61-8681-551D1C6910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1B658D3-1330-4AA1-B1B9-E7B8AD7D62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4A969-1B29-4541-B907-485F154DE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40CECE1-A076-49EA-830E-EC0213336D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278C112-DBEE-4B65-B118-901D995959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75CC87E-875D-4B6B-B235-7CFFBA94C0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75737F6-02E8-43FF-9836-540E29EE5E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E301C64-1BB6-4756-BEC2-B355E81D6D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273A996-7B1E-476B-BB8F-C495D72016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6613AB4-535D-4D77-9A91-2D92609F88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E0EA7FE-6362-43E2-85BE-3B64F9A4E4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32DE0FC-B3EA-4ABE-8B18-8BD5269EA8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76699E9-A0AB-4890-AAEF-7A085024B0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12524-D870-45E9-94C9-F3593CAD7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727B36B-DA4A-4AEE-84A9-D1FDFAB366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249DB4A-4514-4B0D-B50B-32C2958EA1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CFBFBD9-C106-4120-AB21-F7E6C939A9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AC5D4E2-11E6-439F-9890-7128D04C41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366AD1D-A799-4C0F-BC76-F950D5C190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4DB078A-7955-4816-B91B-D31CDC55D7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534DF1-5970-4C18-8A38-BC0F1DF782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1552595-DC4C-4EA9-947D-60D7D10659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B0A543-45C4-435F-AE52-1D84CF522B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41E20BE-6062-4675-938A-34E437628B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86F5D-6359-4A40-AEEB-A978D7304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1EA8950-8FFD-4BDB-956B-B330158004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C23405-E9A3-48A1-9FDC-D62EC39B42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CAE52D-6471-4FF0-BB4A-6C8C2B4B1B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3E940C-CAEA-43D0-980D-C14B7084C9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7763D1-8032-4AF7-88B2-A2157048F6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16D69E-2AD3-4BEF-A8BC-5ED5C15400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02ED42-0A27-4CD4-8D19-F0D57C0F88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990CF8-37EE-4950-84B6-50B0D77D17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C81B15-1ADA-4313-8CBE-2FBB2F6A0D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9B4B77-0150-413C-8D9A-95392F87D1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45479-0E87-4420-A7E8-D9786C252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8B3055-DB28-4DED-8001-835153AB21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1116C9-D2FF-4B00-96B1-BFAE191168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0ABE32-97E3-4221-AE95-3FAC466614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6673773-C387-4B4E-886C-DCEE9845E7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6A0B6A1-DAB0-4DE8-938B-96A64C50AA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EB4F7A0-862C-49C5-A990-1336B9E68A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97DB133-E023-433D-865E-35A409CE42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1F9234D-4D56-4087-B932-8D38A8F0C5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99715AE-F70A-4918-849C-FFDDB873EF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6166F58-5AD6-4801-B4D2-3ABE7F74FC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1F965-CCE9-409B-9647-33686E35B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BB07FAB-C1B2-4111-BBB3-1025957505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0904CF7-1520-40B1-B36A-6BFF4D6249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2929B95-D6EC-429D-BAE8-DE3DAE8BFB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C239518-1E4C-46DC-A639-FD8BD8E522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F773950-FFB4-4472-9CA9-D807A6DEE3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93ABAF-271F-4916-8F97-18BB9EFF49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6BDFEB-0C65-4615-B8B7-CD22F5BEB8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5B0243-58FA-40A8-B4BF-563F9CC50D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E4CFAF-0A07-4E55-ADF3-027B01134C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D54423-0C3D-43A7-ABDE-DC44DDA30B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B8C38-C3DF-4FAF-A405-2970A0BC0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16A774-A96E-494B-AD5A-AC031E751D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E975AD-5C51-4BB9-BEA3-28F512E8C4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F4EFEE-28A7-43A2-A7C2-E359080114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38889E-3F88-4390-871A-6E6480820E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A18306-40D4-408D-98F2-669EDBC9AC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575214-6EFF-4CA5-9108-49B0D26AAE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E7B5EE-8712-4425-9FCA-90262D871CD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9C9F8-40BA-49EA-A9C1-52FB8B5223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0B7B-99A5-4F16-B44F-3AA7A07FBEB5}"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3B75-FEB4-457F-8469-9D206A6E4981}"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D9C7-E42A-40FF-AFB1-3D26C6B019E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ABBC-4DB6-4F1D-8C07-CE5162B501F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805C-4778-4B61-8B8F-E02BC7B1E6C7}"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116B-F2D5-4695-B46B-5E70216EE5EC}"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7E99A-95CC-4C80-A35F-B538AC2D9F5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6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6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6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6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6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6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6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6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6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6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6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6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61.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FLORAL ARRANGEMENTS</a:t>
            </a:r>
            <a:endParaRPr b="0" lang="en-US" sz="4400" spc="-1" strike="noStrike">
              <a:solidFill>
                <a:srgbClr val="ebddc3"/>
              </a:solidFill>
              <a:latin typeface="Tw Cen MT"/>
            </a:endParaRPr>
          </a:p>
        </p:txBody>
      </p:sp>
      <p:pic>
        <p:nvPicPr>
          <p:cNvPr id="358" name="Picture 2" descr="F:\FA53_330x370[1].jpg"/>
          <p:cNvPicPr/>
          <p:nvPr/>
        </p:nvPicPr>
        <p:blipFill>
          <a:blip r:embed="rId1"/>
          <a:stretch/>
        </p:blipFill>
        <p:spPr>
          <a:xfrm>
            <a:off x="685800" y="228600"/>
            <a:ext cx="4213080" cy="47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76" name="Picture 2" descr="F:\photos\Floral Photos\curriculum 09\0004\P1050487.JPG"/>
          <p:cNvPicPr/>
          <p:nvPr/>
        </p:nvPicPr>
        <p:blipFill>
          <a:blip r:embed="rId1"/>
          <a:stretch/>
        </p:blipFill>
        <p:spPr>
          <a:xfrm>
            <a:off x="3003480" y="1600200"/>
            <a:ext cx="337176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quilateral triangle arrangement</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Equilateral triangle arrangement (one sided)</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oak floral foam.  Place 1/3 brick of foam in gripper.  Cover foam with greenery.  Place outer perimeter flowers in triangle shape.  Add in rest of flowers to fill inside triangle.  Add statice to fill in holes.</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w Cen MT"/>
              </a:rPr>
              <a:t>Equipment:</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Equilateral triangle arrangement</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et floral foam</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3 brick gripper</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harp floral knif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2 stems chrysanthemums</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3 stems of leather leaf</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2 stems of static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80" name="Picture 4" descr="F:\photos\Floral Curriculum\flower arr by steps\P1050859.JPG"/>
          <p:cNvPicPr/>
          <p:nvPr/>
        </p:nvPicPr>
        <p:blipFill>
          <a:blip r:embed="rId1"/>
          <a:stretch/>
        </p:blipFill>
        <p:spPr>
          <a:xfrm>
            <a:off x="380880" y="1981080"/>
            <a:ext cx="4165560" cy="3124440"/>
          </a:xfrm>
          <a:prstGeom prst="rect">
            <a:avLst/>
          </a:prstGeom>
          <a:ln w="0">
            <a:noFill/>
          </a:ln>
        </p:spPr>
      </p:pic>
      <p:pic>
        <p:nvPicPr>
          <p:cNvPr id="381" name="Picture 5" descr="F:\photos\Floral Curriculum\flower arr by steps\P1050857.JPG"/>
          <p:cNvPicPr/>
          <p:nvPr/>
        </p:nvPicPr>
        <p:blipFill>
          <a:blip r:embed="rId2"/>
          <a:stretch/>
        </p:blipFill>
        <p:spPr>
          <a:xfrm>
            <a:off x="4724280" y="2057400"/>
            <a:ext cx="4267440" cy="320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XAMPLES </a:t>
            </a:r>
            <a:endParaRPr b="0" lang="en-US" sz="4400" spc="-1" strike="noStrike">
              <a:solidFill>
                <a:srgbClr val="ebddc3"/>
              </a:solidFill>
              <a:latin typeface="Tw Cen MT"/>
            </a:endParaRPr>
          </a:p>
        </p:txBody>
      </p:sp>
      <p:sp>
        <p:nvSpPr>
          <p:cNvPr id="383"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Triangle arrangements</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85" name="Picture 2" descr="F:\rainforest_splendor[1].jpg"/>
          <p:cNvPicPr/>
          <p:nvPr/>
        </p:nvPicPr>
        <p:blipFill>
          <a:blip r:embed="rId1"/>
          <a:stretch/>
        </p:blipFill>
        <p:spPr>
          <a:xfrm>
            <a:off x="380880" y="1752480"/>
            <a:ext cx="3660840" cy="4496040"/>
          </a:xfrm>
          <a:prstGeom prst="rect">
            <a:avLst/>
          </a:prstGeom>
          <a:ln w="0">
            <a:noFill/>
          </a:ln>
        </p:spPr>
      </p:pic>
      <p:pic>
        <p:nvPicPr>
          <p:cNvPr id="386" name="Picture 3" descr="F:\haleakala_splendor[1].jpg"/>
          <p:cNvPicPr/>
          <p:nvPr/>
        </p:nvPicPr>
        <p:blipFill>
          <a:blip r:embed="rId2"/>
          <a:stretch/>
        </p:blipFill>
        <p:spPr>
          <a:xfrm>
            <a:off x="4191120" y="1676520"/>
            <a:ext cx="4813200" cy="46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88" name="Picture 2" descr="F:\C22-4171_330x370[1].jpg"/>
          <p:cNvPicPr/>
          <p:nvPr/>
        </p:nvPicPr>
        <p:blipFill>
          <a:blip r:embed="rId1"/>
          <a:stretch/>
        </p:blipFill>
        <p:spPr>
          <a:xfrm>
            <a:off x="457200" y="1676520"/>
            <a:ext cx="4038480" cy="4527360"/>
          </a:xfrm>
          <a:prstGeom prst="rect">
            <a:avLst/>
          </a:prstGeom>
          <a:ln w="0">
            <a:noFill/>
          </a:ln>
        </p:spPr>
      </p:pic>
      <p:pic>
        <p:nvPicPr>
          <p:cNvPr id="389" name="Picture 3" descr="F:\FA68_200x225[1].jpg"/>
          <p:cNvPicPr/>
          <p:nvPr/>
        </p:nvPicPr>
        <p:blipFill>
          <a:blip r:embed="rId2"/>
          <a:stretch/>
        </p:blipFill>
        <p:spPr>
          <a:xfrm>
            <a:off x="4800600" y="1752480"/>
            <a:ext cx="386064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91" name="Picture 4" descr="F:\photos\Floral Photos\curriculum 09\0004\P1050489.JPG"/>
          <p:cNvPicPr/>
          <p:nvPr/>
        </p:nvPicPr>
        <p:blipFill>
          <a:blip r:embed="rId1"/>
          <a:stretch/>
        </p:blipFill>
        <p:spPr>
          <a:xfrm>
            <a:off x="3003480" y="1600200"/>
            <a:ext cx="337176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ound centerpiece</a:t>
            </a:r>
            <a:endParaRPr b="0" lang="en-US" sz="4400" spc="-1" strike="noStrike">
              <a:solidFill>
                <a:srgbClr val="775f55"/>
              </a:solidFill>
              <a:latin typeface="Tw Cen MT"/>
            </a:endParaRPr>
          </a:p>
        </p:txBody>
      </p:sp>
      <p:sp>
        <p:nvSpPr>
          <p:cNvPr id="393"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Round centerpiec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oak floral foam.  Place 1/3 brick foam in gripper.  Cover foam with greenery.  Place 5 outer perimeter flowers in circle shape.  Place 5 more flowers in between first 5 but at an angle.  Place one flower in center.  Fill in with static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w Cen MT"/>
              </a:rPr>
              <a:t>Equipment:</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Round centerpiec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et floral foam</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3 brick gripper</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harp floral knif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3 stems chrysanthemums</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5 stems of leather leaf</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2 stems of static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95" name="Picture 2" descr="F:\floral pic spring 09\P1060143.JPG"/>
          <p:cNvPicPr/>
          <p:nvPr/>
        </p:nvPicPr>
        <p:blipFill>
          <a:blip r:embed="rId1"/>
          <a:stretch/>
        </p:blipFill>
        <p:spPr>
          <a:xfrm>
            <a:off x="1523880" y="1828800"/>
            <a:ext cx="2743200" cy="2057400"/>
          </a:xfrm>
          <a:prstGeom prst="rect">
            <a:avLst/>
          </a:prstGeom>
          <a:ln w="0">
            <a:noFill/>
          </a:ln>
        </p:spPr>
      </p:pic>
      <p:pic>
        <p:nvPicPr>
          <p:cNvPr id="396" name="Picture 3" descr="F:\floral pic spring 09\P1060144.JPG"/>
          <p:cNvPicPr/>
          <p:nvPr/>
        </p:nvPicPr>
        <p:blipFill>
          <a:blip r:embed="rId2"/>
          <a:stretch/>
        </p:blipFill>
        <p:spPr>
          <a:xfrm>
            <a:off x="1752480" y="4191120"/>
            <a:ext cx="2438640" cy="1828800"/>
          </a:xfrm>
          <a:prstGeom prst="rect">
            <a:avLst/>
          </a:prstGeom>
          <a:ln w="0">
            <a:noFill/>
          </a:ln>
        </p:spPr>
      </p:pic>
      <p:pic>
        <p:nvPicPr>
          <p:cNvPr id="397" name="Picture 4" descr="F:\floral pic spring 09\P1060145.JPG"/>
          <p:cNvPicPr/>
          <p:nvPr/>
        </p:nvPicPr>
        <p:blipFill>
          <a:blip r:embed="rId3"/>
          <a:stretch/>
        </p:blipFill>
        <p:spPr>
          <a:xfrm>
            <a:off x="5334120" y="4038480"/>
            <a:ext cx="2743200" cy="2057400"/>
          </a:xfrm>
          <a:prstGeom prst="rect">
            <a:avLst/>
          </a:prstGeom>
          <a:ln w="0">
            <a:noFill/>
          </a:ln>
        </p:spPr>
      </p:pic>
      <p:pic>
        <p:nvPicPr>
          <p:cNvPr id="398" name="Picture 6" descr="F:\floral pic spring 09\P1060153.JPG"/>
          <p:cNvPicPr/>
          <p:nvPr/>
        </p:nvPicPr>
        <p:blipFill>
          <a:blip r:embed="rId4"/>
          <a:stretch/>
        </p:blipFill>
        <p:spPr>
          <a:xfrm>
            <a:off x="5334120" y="167652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00" name="Picture 2" descr="F:\floral pic spring 09\P1060147.JPG"/>
          <p:cNvPicPr/>
          <p:nvPr/>
        </p:nvPicPr>
        <p:blipFill>
          <a:blip r:embed="rId1"/>
          <a:stretch/>
        </p:blipFill>
        <p:spPr>
          <a:xfrm>
            <a:off x="1676520" y="4114800"/>
            <a:ext cx="2539800" cy="1905120"/>
          </a:xfrm>
          <a:prstGeom prst="rect">
            <a:avLst/>
          </a:prstGeom>
          <a:ln w="0">
            <a:noFill/>
          </a:ln>
        </p:spPr>
      </p:pic>
      <p:pic>
        <p:nvPicPr>
          <p:cNvPr id="401" name="Picture 3" descr="F:\floral pic spring 09\P1060148.JPG"/>
          <p:cNvPicPr/>
          <p:nvPr/>
        </p:nvPicPr>
        <p:blipFill>
          <a:blip r:embed="rId2"/>
          <a:stretch/>
        </p:blipFill>
        <p:spPr>
          <a:xfrm>
            <a:off x="5181480" y="1752480"/>
            <a:ext cx="2743200" cy="2057400"/>
          </a:xfrm>
          <a:prstGeom prst="rect">
            <a:avLst/>
          </a:prstGeom>
          <a:ln w="0">
            <a:noFill/>
          </a:ln>
        </p:spPr>
      </p:pic>
      <p:pic>
        <p:nvPicPr>
          <p:cNvPr id="402" name="Picture 4" descr="F:\floral pic spring 09\P1060150.JPG"/>
          <p:cNvPicPr/>
          <p:nvPr/>
        </p:nvPicPr>
        <p:blipFill>
          <a:blip r:embed="rId3"/>
          <a:stretch/>
        </p:blipFill>
        <p:spPr>
          <a:xfrm>
            <a:off x="5105520" y="4038480"/>
            <a:ext cx="2844720" cy="2133720"/>
          </a:xfrm>
          <a:prstGeom prst="rect">
            <a:avLst/>
          </a:prstGeom>
          <a:ln w="0">
            <a:noFill/>
          </a:ln>
        </p:spPr>
      </p:pic>
      <p:pic>
        <p:nvPicPr>
          <p:cNvPr id="403" name="Picture 5" descr="F:\floral pic spring 09\P1060146.JPG"/>
          <p:cNvPicPr/>
          <p:nvPr/>
        </p:nvPicPr>
        <p:blipFill>
          <a:blip r:embed="rId4"/>
          <a:stretch/>
        </p:blipFill>
        <p:spPr>
          <a:xfrm>
            <a:off x="1600200" y="175248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eneral Floral Design Rules</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oper dimensions for floral designs are 1 1/2 to 2 times the greatest dimension of the container (height or width, whichever is greater)</a:t>
            </a:r>
            <a:endParaRPr b="0" lang="en-US" sz="20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uds and smaller flowers should be at the top and outer edge of the arrangement.  Larger flowers should be placed lower and more toward the center.</a:t>
            </a:r>
            <a:endParaRPr b="0" lang="en-US" sz="20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ighter colors should be placed towards the top and darker colors toward the base.</a:t>
            </a:r>
            <a:endParaRPr b="0" lang="en-US" sz="20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hen using 12 flowers or less, use an uneven number of flowers to achieve visual balance (not including filler material).</a:t>
            </a:r>
            <a:endParaRPr b="0" lang="en-US" sz="20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ultimate size of an arrangement is limited by the size of stems, flowers, and surroundings.</a:t>
            </a:r>
            <a:endParaRPr b="0" lang="en-US" sz="20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ever let the mechanical aids of the arrangement show (wires, tape, foam, or any other supports).</a:t>
            </a:r>
            <a:endParaRPr b="0" lang="en-US" sz="20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egin an arrangement with the shape in mind.  Place outer perimeter flowers to establish shape.  Fill in center.</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XAMPLES </a:t>
            </a:r>
            <a:endParaRPr b="0" lang="en-US" sz="4400" spc="-1" strike="noStrike">
              <a:solidFill>
                <a:srgbClr val="ebddc3"/>
              </a:solidFill>
              <a:latin typeface="Tw Cen MT"/>
            </a:endParaRPr>
          </a:p>
        </p:txBody>
      </p:sp>
      <p:sp>
        <p:nvSpPr>
          <p:cNvPr id="40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centerpieces</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07" name="Picture 4" descr="F:\SMRB_200x225[1].jpg"/>
          <p:cNvPicPr/>
          <p:nvPr/>
        </p:nvPicPr>
        <p:blipFill>
          <a:blip r:embed="rId1"/>
          <a:stretch/>
        </p:blipFill>
        <p:spPr>
          <a:xfrm>
            <a:off x="380880" y="1828800"/>
            <a:ext cx="3861000" cy="4343400"/>
          </a:xfrm>
          <a:prstGeom prst="rect">
            <a:avLst/>
          </a:prstGeom>
          <a:ln w="0">
            <a:noFill/>
          </a:ln>
        </p:spPr>
      </p:pic>
      <p:pic>
        <p:nvPicPr>
          <p:cNvPr id="408" name="Picture 5" descr="F:\T582_330x370[1].jpg"/>
          <p:cNvPicPr/>
          <p:nvPr/>
        </p:nvPicPr>
        <p:blipFill>
          <a:blip r:embed="rId2"/>
          <a:stretch/>
        </p:blipFill>
        <p:spPr>
          <a:xfrm>
            <a:off x="4495680" y="1752480"/>
            <a:ext cx="4010040" cy="449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10" name="Picture 2" descr="F:\FU88_200x225[1].jpg"/>
          <p:cNvPicPr/>
          <p:nvPr/>
        </p:nvPicPr>
        <p:blipFill>
          <a:blip r:embed="rId1"/>
          <a:stretch/>
        </p:blipFill>
        <p:spPr>
          <a:xfrm>
            <a:off x="1143000" y="1676520"/>
            <a:ext cx="3792600" cy="4267080"/>
          </a:xfrm>
          <a:prstGeom prst="rect">
            <a:avLst/>
          </a:prstGeom>
          <a:ln w="0">
            <a:noFill/>
          </a:ln>
        </p:spPr>
      </p:pic>
      <p:pic>
        <p:nvPicPr>
          <p:cNvPr id="411" name="Picture 3" descr="F:\W35-4295_200x225[1].jpg"/>
          <p:cNvPicPr/>
          <p:nvPr/>
        </p:nvPicPr>
        <p:blipFill>
          <a:blip r:embed="rId2"/>
          <a:stretch/>
        </p:blipFill>
        <p:spPr>
          <a:xfrm>
            <a:off x="5029200" y="1752480"/>
            <a:ext cx="3781440" cy="41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4" descr="T613_c[1]"/>
          <p:cNvPicPr/>
          <p:nvPr/>
        </p:nvPicPr>
        <p:blipFill>
          <a:blip r:embed="rId1"/>
          <a:stretch/>
        </p:blipFill>
        <p:spPr>
          <a:xfrm>
            <a:off x="2133720" y="228600"/>
            <a:ext cx="5572080" cy="624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4" descr="08-T3_c[1]"/>
          <p:cNvPicPr/>
          <p:nvPr/>
        </p:nvPicPr>
        <p:blipFill>
          <a:blip r:embed="rId1"/>
          <a:stretch/>
        </p:blipFill>
        <p:spPr>
          <a:xfrm>
            <a:off x="2590920" y="304920"/>
            <a:ext cx="5368680" cy="6019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4" descr="D5-4043_c[1]"/>
          <p:cNvPicPr/>
          <p:nvPr/>
        </p:nvPicPr>
        <p:blipFill>
          <a:blip r:embed="rId1"/>
          <a:stretch/>
        </p:blipFill>
        <p:spPr>
          <a:xfrm>
            <a:off x="2362320" y="457200"/>
            <a:ext cx="5232240" cy="5867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ine (Heaven, man, earth)</a:t>
            </a:r>
            <a:endParaRPr b="0" lang="en-US" sz="4400" spc="-1" strike="noStrike">
              <a:solidFill>
                <a:srgbClr val="775f55"/>
              </a:solidFill>
              <a:latin typeface="Tw Cen MT"/>
            </a:endParaRPr>
          </a:p>
        </p:txBody>
      </p:sp>
      <p:sp>
        <p:nvSpPr>
          <p:cNvPr id="416"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w Cen MT"/>
              </a:rPr>
              <a:t>Line Design</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ak floral foam.  Place 1/3 brick foam in gripper.  Place flowers in Heaven, man, earth positions.  Place a few pieces of leather leaf.  Cover foam with wet sheet moss.  Use greening pins to hold sheet moss in plac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Equipment:</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w Cen MT"/>
              </a:rPr>
              <a:t>Line design</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et floral foam</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1/3 brick gripper</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arp floral knif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3 iri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1 leather leaf</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eet mos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Greening pin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XAMPLES </a:t>
            </a:r>
            <a:endParaRPr b="0" lang="en-US" sz="4400" spc="-1" strike="noStrike">
              <a:solidFill>
                <a:srgbClr val="ebddc3"/>
              </a:solidFill>
              <a:latin typeface="Tw Cen MT"/>
            </a:endParaRPr>
          </a:p>
        </p:txBody>
      </p:sp>
      <p:sp>
        <p:nvSpPr>
          <p:cNvPr id="41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Line designs</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Floral Design History 033"/>
          <p:cNvPicPr/>
          <p:nvPr/>
        </p:nvPicPr>
        <p:blipFill>
          <a:blip r:embed="rId1"/>
          <a:stretch/>
        </p:blipFill>
        <p:spPr>
          <a:xfrm>
            <a:off x="2666880" y="55440"/>
            <a:ext cx="3733920" cy="5735880"/>
          </a:xfrm>
          <a:prstGeom prst="rect">
            <a:avLst/>
          </a:prstGeom>
          <a:ln w="0">
            <a:noFill/>
          </a:ln>
        </p:spPr>
      </p:pic>
      <p:sp>
        <p:nvSpPr>
          <p:cNvPr id="420" name="Rectangle 3"/>
          <p:cNvSpPr/>
          <p:nvPr/>
        </p:nvSpPr>
        <p:spPr>
          <a:xfrm>
            <a:off x="2209680" y="591192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ka arran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ven man ear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eaven, Man, Earth</a:t>
            </a:r>
            <a:endParaRPr b="0" lang="en-US" sz="4400" spc="-1" strike="noStrike">
              <a:solidFill>
                <a:srgbClr val="775f55"/>
              </a:solidFill>
              <a:latin typeface="Tw Cen MT"/>
            </a:endParaRPr>
          </a:p>
        </p:txBody>
      </p:sp>
      <p:sp>
        <p:nvSpPr>
          <p:cNvPr id="422" name="PlaceHolder 2"/>
          <p:cNvSpPr>
            <a:spLocks noGrp="1"/>
          </p:cNvSpPr>
          <p:nvPr>
            <p:ph/>
          </p:nvPr>
        </p:nvSpPr>
        <p:spPr>
          <a:xfrm>
            <a:off x="457200" y="18288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Kakeizu for the arrangement shown on the left</a:t>
            </a:r>
            <a:br>
              <a:rPr sz="2900"/>
            </a:br>
            <a:r>
              <a:rPr b="0" lang="en-US" sz="2900" spc="-1" strike="noStrike">
                <a:solidFill>
                  <a:srgbClr val="000000"/>
                </a:solidFill>
                <a:latin typeface="Tw Cen MT"/>
              </a:rPr>
              <a:t>(copyright Sogetsukai Foundation). The photo shows the frontal view as in the illustration. </a:t>
            </a:r>
            <a:endParaRPr b="0" lang="en-US" sz="2900" spc="-1" strike="noStrike">
              <a:solidFill>
                <a:srgbClr val="000000"/>
              </a:solidFill>
              <a:latin typeface="Tw Cen MT"/>
            </a:endParaRPr>
          </a:p>
        </p:txBody>
      </p:sp>
      <p:pic>
        <p:nvPicPr>
          <p:cNvPr id="423" name="Picture 5" descr="Kakeizu"/>
          <p:cNvPicPr/>
          <p:nvPr/>
        </p:nvPicPr>
        <p:blipFill>
          <a:blip r:embed="rId1"/>
          <a:stretch/>
        </p:blipFill>
        <p:spPr>
          <a:xfrm>
            <a:off x="4648320" y="3505320"/>
            <a:ext cx="2895480" cy="2868480"/>
          </a:xfrm>
          <a:prstGeom prst="rect">
            <a:avLst/>
          </a:prstGeom>
          <a:ln w="0">
            <a:noFill/>
          </a:ln>
        </p:spPr>
      </p:pic>
      <p:pic>
        <p:nvPicPr>
          <p:cNvPr id="424" name="Picture 7" descr="Ikebana"/>
          <p:cNvPicPr/>
          <p:nvPr/>
        </p:nvPicPr>
        <p:blipFill>
          <a:blip r:embed="rId2"/>
          <a:stretch/>
        </p:blipFill>
        <p:spPr>
          <a:xfrm>
            <a:off x="1905120" y="3505320"/>
            <a:ext cx="20635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dc3"/>
                </a:solidFill>
                <a:latin typeface="Tw Cen MT"/>
              </a:rPr>
              <a:t>FLOWER WRAP</a:t>
            </a:r>
            <a:br>
              <a:rPr sz="3600"/>
            </a:br>
            <a:r>
              <a:rPr b="0" lang="en-US" sz="3600" spc="-1" strike="noStrike">
                <a:solidFill>
                  <a:srgbClr val="ebddc3"/>
                </a:solidFill>
                <a:latin typeface="Tw Cen MT"/>
              </a:rPr>
              <a:t>BUD VASE</a:t>
            </a:r>
            <a:br>
              <a:rPr sz="3600"/>
            </a:br>
            <a:r>
              <a:rPr b="0" lang="en-US" sz="3600" spc="-1" strike="noStrike">
                <a:solidFill>
                  <a:srgbClr val="ebddc3"/>
                </a:solidFill>
                <a:latin typeface="Tw Cen MT"/>
              </a:rPr>
              <a:t>EQUILATERAL TRIANGLE </a:t>
            </a:r>
            <a:br>
              <a:rPr sz="3600"/>
            </a:br>
            <a:r>
              <a:rPr b="0" lang="en-US" sz="3600" spc="-1" strike="noStrike">
                <a:solidFill>
                  <a:srgbClr val="ebddc3"/>
                </a:solidFill>
                <a:latin typeface="Tw Cen MT"/>
              </a:rPr>
              <a:t>ROUND CENTERPIECE</a:t>
            </a:r>
            <a:br>
              <a:rPr sz="3600"/>
            </a:br>
            <a:r>
              <a:rPr b="0" lang="en-US" sz="3600" spc="-1" strike="noStrike">
                <a:solidFill>
                  <a:srgbClr val="ebddc3"/>
                </a:solidFill>
                <a:latin typeface="Tw Cen MT"/>
              </a:rPr>
              <a:t>LINE (HEAVEN, MAN, EARTH)</a:t>
            </a:r>
            <a:br>
              <a:rPr sz="3600"/>
            </a:br>
            <a:endParaRPr b="0" lang="en-US" sz="3600" spc="-1" strike="noStrike">
              <a:solidFill>
                <a:srgbClr val="ebddc3"/>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DESIGN IDEAS</a:t>
            </a:r>
            <a:endParaRPr b="0" lang="en-US" sz="4400" spc="-1" strike="noStrike">
              <a:solidFill>
                <a:srgbClr val="ebddc3"/>
              </a:solidFill>
              <a:latin typeface="Tw Cen MT"/>
            </a:endParaRPr>
          </a:p>
        </p:txBody>
      </p:sp>
      <p:sp>
        <p:nvSpPr>
          <p:cNvPr id="42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FALL ARRANGEMENTS</a:t>
            </a:r>
            <a:endParaRPr b="0" lang="en-US" sz="4400" spc="-1" strike="noStrike">
              <a:solidFill>
                <a:srgbClr val="ebddc3"/>
              </a:solidFill>
              <a:latin typeface="Tw Cen MT"/>
            </a:endParaRPr>
          </a:p>
        </p:txBody>
      </p:sp>
      <p:sp>
        <p:nvSpPr>
          <p:cNvPr id="430"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08-T2_c[1]"/>
          <p:cNvPicPr/>
          <p:nvPr/>
        </p:nvPicPr>
        <p:blipFill>
          <a:blip r:embed="rId1"/>
          <a:stretch/>
        </p:blipFill>
        <p:spPr>
          <a:xfrm>
            <a:off x="2286000" y="228600"/>
            <a:ext cx="5504040" cy="617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4" descr="TB64_c[1]"/>
          <p:cNvPicPr/>
          <p:nvPr/>
        </p:nvPicPr>
        <p:blipFill>
          <a:blip r:embed="rId1"/>
          <a:stretch/>
        </p:blipFill>
        <p:spPr>
          <a:xfrm>
            <a:off x="2514600" y="304920"/>
            <a:ext cx="5572080" cy="6248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ORSAGES &amp; BOUTONNIERES</a:t>
            </a:r>
            <a:endParaRPr b="0" lang="en-US" sz="4400" spc="-1" strike="noStrike">
              <a:solidFill>
                <a:srgbClr val="ebddc3"/>
              </a:solidFill>
              <a:latin typeface="Tw Cen MT"/>
            </a:endParaRPr>
          </a:p>
        </p:txBody>
      </p:sp>
      <p:sp>
        <p:nvSpPr>
          <p:cNvPr id="434"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4" descr="D11-3904_c[1]"/>
          <p:cNvPicPr/>
          <p:nvPr/>
        </p:nvPicPr>
        <p:blipFill>
          <a:blip r:embed="rId1"/>
          <a:stretch/>
        </p:blipFill>
        <p:spPr>
          <a:xfrm>
            <a:off x="1981080" y="304920"/>
            <a:ext cx="5166000" cy="5790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4" descr="W8-3453_c[1]"/>
          <p:cNvPicPr/>
          <p:nvPr/>
        </p:nvPicPr>
        <p:blipFill>
          <a:blip r:embed="rId1"/>
          <a:stretch/>
        </p:blipFill>
        <p:spPr>
          <a:xfrm>
            <a:off x="2286000" y="228600"/>
            <a:ext cx="5572080" cy="6248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4" descr="W6-3829_c[1]"/>
          <p:cNvPicPr/>
          <p:nvPr/>
        </p:nvPicPr>
        <p:blipFill>
          <a:blip r:embed="rId1"/>
          <a:stretch/>
        </p:blipFill>
        <p:spPr>
          <a:xfrm>
            <a:off x="2133720" y="152280"/>
            <a:ext cx="5640120" cy="6324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4" descr="W3-4234_c[1]"/>
          <p:cNvPicPr/>
          <p:nvPr/>
        </p:nvPicPr>
        <p:blipFill>
          <a:blip r:embed="rId1"/>
          <a:stretch/>
        </p:blipFill>
        <p:spPr>
          <a:xfrm>
            <a:off x="2514600" y="457200"/>
            <a:ext cx="5437080" cy="609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lower wrap</a:t>
            </a: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Flower Wrap</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lace a 18” square piece of cellophane or waxed tissue paper on the design bench.  Place leather leaf diagonally on tissue paper.  Place carnation on top of leather leaf.  Add baby’s breath.  Roll tissue paper with flowers inside.  Finish off with bow.</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w Cen MT"/>
              </a:rPr>
              <a:t>Equipment:</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Flower wrap</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 stem leather leaf</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 carnation</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 sheet of cellophane or waxed tissu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3 ribbon (bow)</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24 wire (bow)</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PLANTS</a:t>
            </a:r>
            <a:endParaRPr b="0" lang="en-US" sz="4400" spc="-1" strike="noStrike">
              <a:solidFill>
                <a:srgbClr val="ebddc3"/>
              </a:solidFill>
              <a:latin typeface="Tw Cen MT"/>
            </a:endParaRPr>
          </a:p>
        </p:txBody>
      </p:sp>
      <p:sp>
        <p:nvSpPr>
          <p:cNvPr id="440"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4" descr="TP08_c[1]"/>
          <p:cNvPicPr/>
          <p:nvPr/>
        </p:nvPicPr>
        <p:blipFill>
          <a:blip r:embed="rId1"/>
          <a:stretch/>
        </p:blipFill>
        <p:spPr>
          <a:xfrm>
            <a:off x="2133720" y="228600"/>
            <a:ext cx="5708520" cy="6400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4" descr="TP49_c[1]"/>
          <p:cNvPicPr/>
          <p:nvPr/>
        </p:nvPicPr>
        <p:blipFill>
          <a:blip r:embed="rId1"/>
          <a:stretch/>
        </p:blipFill>
        <p:spPr>
          <a:xfrm>
            <a:off x="2209680" y="304920"/>
            <a:ext cx="5640480" cy="6324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4" descr="TP52_c[1]"/>
          <p:cNvPicPr/>
          <p:nvPr/>
        </p:nvPicPr>
        <p:blipFill>
          <a:blip r:embed="rId1"/>
          <a:stretch/>
        </p:blipFill>
        <p:spPr>
          <a:xfrm>
            <a:off x="2209680" y="228600"/>
            <a:ext cx="5640480" cy="6324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4" descr="TP74_c[1]"/>
          <p:cNvPicPr/>
          <p:nvPr/>
        </p:nvPicPr>
        <p:blipFill>
          <a:blip r:embed="rId1"/>
          <a:stretch/>
        </p:blipFill>
        <p:spPr>
          <a:xfrm>
            <a:off x="2209680" y="304920"/>
            <a:ext cx="5640480" cy="6324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FLORAL ADD-ONS</a:t>
            </a:r>
            <a:endParaRPr b="0" lang="en-US" sz="4400" spc="-1" strike="noStrike">
              <a:solidFill>
                <a:srgbClr val="ebddc3"/>
              </a:solidFill>
              <a:latin typeface="Tw Cen MT"/>
            </a:endParaRPr>
          </a:p>
        </p:txBody>
      </p:sp>
      <p:sp>
        <p:nvSpPr>
          <p:cNvPr id="446"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4" descr="CT53_c[1]"/>
          <p:cNvPicPr/>
          <p:nvPr/>
        </p:nvPicPr>
        <p:blipFill>
          <a:blip r:embed="rId1"/>
          <a:stretch/>
        </p:blipFill>
        <p:spPr>
          <a:xfrm>
            <a:off x="2590920" y="609480"/>
            <a:ext cx="5165640" cy="5791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4" descr="TB02_c[1]"/>
          <p:cNvPicPr/>
          <p:nvPr/>
        </p:nvPicPr>
        <p:blipFill>
          <a:blip r:embed="rId1"/>
          <a:stretch/>
        </p:blipFill>
        <p:spPr>
          <a:xfrm>
            <a:off x="2133720" y="304920"/>
            <a:ext cx="5572080" cy="624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BALLOONS</a:t>
            </a:r>
            <a:endParaRPr b="0" lang="en-US" sz="4400" spc="-1" strike="noStrike">
              <a:solidFill>
                <a:srgbClr val="ebddc3"/>
              </a:solidFill>
              <a:latin typeface="Tw Cen MT"/>
            </a:endParaRPr>
          </a:p>
        </p:txBody>
      </p:sp>
      <p:sp>
        <p:nvSpPr>
          <p:cNvPr id="450"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4" descr="EO-6033_c[1]"/>
          <p:cNvPicPr/>
          <p:nvPr/>
        </p:nvPicPr>
        <p:blipFill>
          <a:blip r:embed="rId1"/>
          <a:stretch/>
        </p:blipFill>
        <p:spPr>
          <a:xfrm>
            <a:off x="2209680" y="457200"/>
            <a:ext cx="5153040" cy="577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XAMPLES </a:t>
            </a:r>
            <a:endParaRPr b="0" lang="en-US" sz="4400" spc="-1" strike="noStrike">
              <a:solidFill>
                <a:srgbClr val="ebddc3"/>
              </a:solidFill>
              <a:latin typeface="Tw Cen MT"/>
            </a:endParaRPr>
          </a:p>
        </p:txBody>
      </p:sp>
      <p:sp>
        <p:nvSpPr>
          <p:cNvPr id="36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Flower wrap</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4" descr="EO-6101_c[1]"/>
          <p:cNvPicPr/>
          <p:nvPr/>
        </p:nvPicPr>
        <p:blipFill>
          <a:blip r:embed="rId1"/>
          <a:stretch/>
        </p:blipFill>
        <p:spPr>
          <a:xfrm>
            <a:off x="2209680" y="304920"/>
            <a:ext cx="5437440" cy="6095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SPECIALTY</a:t>
            </a:r>
            <a:endParaRPr b="0" lang="en-US" sz="4400" spc="-1" strike="noStrike">
              <a:solidFill>
                <a:srgbClr val="ebddc3"/>
              </a:solidFill>
              <a:latin typeface="Tw Cen MT"/>
            </a:endParaRPr>
          </a:p>
        </p:txBody>
      </p:sp>
      <p:sp>
        <p:nvSpPr>
          <p:cNvPr id="454"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4" descr="T584_c[1]"/>
          <p:cNvPicPr/>
          <p:nvPr/>
        </p:nvPicPr>
        <p:blipFill>
          <a:blip r:embed="rId1"/>
          <a:stretch/>
        </p:blipFill>
        <p:spPr>
          <a:xfrm>
            <a:off x="1903320" y="380880"/>
            <a:ext cx="5572080" cy="624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67" name="Picture 4" descr="F:\HTWB_200x225[1].jpg"/>
          <p:cNvPicPr/>
          <p:nvPr/>
        </p:nvPicPr>
        <p:blipFill>
          <a:blip r:embed="rId1"/>
          <a:stretch/>
        </p:blipFill>
        <p:spPr>
          <a:xfrm>
            <a:off x="4800600" y="1676520"/>
            <a:ext cx="4192560" cy="4716360"/>
          </a:xfrm>
          <a:prstGeom prst="rect">
            <a:avLst/>
          </a:prstGeom>
          <a:ln w="0">
            <a:noFill/>
          </a:ln>
        </p:spPr>
      </p:pic>
      <p:pic>
        <p:nvPicPr>
          <p:cNvPr id="368" name="Picture 5" descr="F:\F494_330x370[1].jpg"/>
          <p:cNvPicPr/>
          <p:nvPr/>
        </p:nvPicPr>
        <p:blipFill>
          <a:blip r:embed="rId2"/>
          <a:stretch/>
        </p:blipFill>
        <p:spPr>
          <a:xfrm>
            <a:off x="304920" y="1676520"/>
            <a:ext cx="4343400" cy="487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ud vase</a:t>
            </a:r>
            <a:endParaRPr b="0" lang="en-US" sz="44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w Cen MT"/>
              </a:rPr>
              <a:t>Bud Vas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ll bud vase with water and preservative.  Cut leather leaf stems to fit in budvase up to first leaves.  Cut carnations—tall, medium, low.  Place in budvase.  Add baby’s breath.  Add bow at top of vase, bottom of flowers.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Equipment:</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w Cen MT"/>
              </a:rPr>
              <a:t>Bud vas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2 stems leather leaf</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3 roses or carnation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1 stem baby’s breath</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ud vas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esh flower preservativ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3 ribbon (bow)</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24 wire (bow)</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XAMPLES </a:t>
            </a:r>
            <a:endParaRPr b="0" lang="en-US" sz="4400" spc="-1" strike="noStrike">
              <a:solidFill>
                <a:srgbClr val="ebddc3"/>
              </a:solidFill>
              <a:latin typeface="Tw Cen MT"/>
            </a:endParaRPr>
          </a:p>
        </p:txBody>
      </p:sp>
      <p:sp>
        <p:nvSpPr>
          <p:cNvPr id="372"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Bud vases</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74" name="Picture 2" descr="F:\1030RDz[1].jpg"/>
          <p:cNvPicPr/>
          <p:nvPr/>
        </p:nvPicPr>
        <p:blipFill>
          <a:blip r:embed="rId1"/>
          <a:stretch/>
        </p:blipFill>
        <p:spPr>
          <a:xfrm>
            <a:off x="2438280" y="1380960"/>
            <a:ext cx="4649760" cy="509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04:39:41Z</dcterms:created>
  <dc:creator>Snake River</dc:creator>
  <dc:description/>
  <dc:language>en-US</dc:language>
  <cp:lastModifiedBy>PattJust</cp:lastModifiedBy>
  <dcterms:modified xsi:type="dcterms:W3CDTF">2009-06-17T15:36:09Z</dcterms:modified>
  <cp:revision>13</cp:revision>
  <dc:subject/>
  <dc:title>Floral Arrangements</dc:title>
</cp:coreProperties>
</file>