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1991-D303-45F4-8311-7FAC30D67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280E-7017-4D5E-80BA-D28F0023AC3A}" type="slidenum">
              <a:rPr b="0" lang="en-US" sz="1200" spc="-1" strike="noStrike">
                <a:solidFill>
                  <a:srgbClr val="000000"/>
                </a:solidFill>
                <a:latin typeface="Lithograph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ithographLigh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s://www.nysdot.gov/divisions/engineering/design/landscape/trees/repository/tree_forms_color%20copy_papyrus_rv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C1F7-9F8E-41B5-81BB-6FACC4CE9D4E}" type="slidenum">
              <a:rPr b="0" lang="en-US" sz="1200" spc="-1" strike="noStrike">
                <a:solidFill>
                  <a:srgbClr val="000000"/>
                </a:solidFill>
                <a:latin typeface="Lithograph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ithograph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D98-A519-4754-A9AB-FE5E4B89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931-1936-4026-82FD-85F26D78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CF47-FE54-4799-B343-51745483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DFF-CCCF-47A1-9C12-50F4B9D8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604B-6ED5-4961-AD7D-08CCE60A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1100-3C35-426A-A81A-B5329CEF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791D-7CA9-48E0-9779-DDA1D371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117F-8F9E-42B0-841E-67F95E87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A288-5187-4CBD-A2DA-8E8B8BCF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42CF-2F16-4350-9942-072C2AF2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4594-F280-4275-B771-2F5E4907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F46D-207D-4397-B13F-ACB2F946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9A8D-E34B-4D50-B88A-FA88014A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AE0A-3CE5-4545-815E-C9BC7CF6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2DAE-55BA-405A-BEA9-A9A3BB01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7336-B3F4-4FCF-8DFB-E9B7A466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08FA-D2BA-47E0-B62E-2002D1BA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DBE99-442D-40A0-B789-2E4B643C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9566B-801B-4FBE-9B28-C9DE0189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06721-6E81-47E4-AC67-7AE9517B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FE3A6-5A0A-4605-8DD2-B2AA2A0B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BB04E-3A29-4829-BFDC-D6B0051E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94D8-798E-4082-ADAA-BD4A0184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E4179-1828-4585-9016-DA64915E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0BAE4-63CD-48D4-ADC3-1FD88277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1F36A-931C-4573-ABFC-6E08A3D1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C51CE-D53B-41E0-8957-A6F213B7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2296A-78FA-45F3-AA9C-B4E26753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2FC70-06F8-47A9-8DCF-2F6BED99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0C0F5-5898-464F-823F-18081142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96B03-FA8C-4960-8B13-2BE1B50B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BEE53-B7C9-4F0D-9287-B8A8F271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D0A7F-9BC1-4BCC-86DC-94F58B82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6208-52DB-4141-AA9F-191C6613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6DC96-9E99-48A8-98B1-A205AA5A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0FABD-B988-4096-A2E7-2CF37D5A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589A1-14FA-4900-973B-CC840D85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6C6D4-C75D-421E-A27C-92FE1F8B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D9EF0-E871-4435-A97F-332EE4F0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371CA-ED06-467A-9E07-B184E63C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7F750-F13E-42E4-9F3A-A5E9D1F0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68F7F-8559-41AA-82C6-8F0C295B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64826-E736-4E7A-9A75-E2075455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5AB03-4FC4-4CC6-B777-1761E103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87E-4D55-4456-A34A-E590C52B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94D64-71A0-4923-98FD-3393EA2E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A51D6-E0E5-42E8-BD30-9D8A13DF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5DB92-5687-495E-8900-561837AC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EDE86-9F24-4A0E-ADDB-23E0EC10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14B5F-C41A-4CF4-95D5-D796F9AB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B473B-6AAE-422E-A99D-A4EC8DC6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1C272-0AEA-455A-8F20-D09B2D5B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C7F54-39F3-485B-AEDF-E49042BE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792E5-662D-4921-82FF-2C66A11B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C6E36-7144-430D-BAE0-8AC667CE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F4CD-E397-47CE-B013-666FB354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D4A4E-A533-4E65-9593-93C86630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A59EB-B627-45EC-B57F-BB25832D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3285B-65D6-41CC-A8FB-62CFB33F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C5B6F-2A27-43F8-BDAB-4D2337E7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11389-5A32-4D85-9469-2C9837EF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54FC8-138F-4A20-823F-2935CEAA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1ECF4-9873-49A7-B0E0-64545F68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AE0E4-74C1-4B80-A8DB-18224E60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4A519-20BF-4D52-A9EE-25F4D845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517AD-D776-464E-96DD-75F5BB09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6D36-5117-4237-9517-3F4019A7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8C079-0C29-421E-B9BC-EB2EACDC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92BA9-4C87-4817-B385-C62AF648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B8CF7-188A-4110-AD28-7F76C2DF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7ECEB-BD7B-4A11-B679-227D0E16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535BF-E69D-4244-B3EA-89F323A7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1530C-423B-49A3-87C1-A40C35F8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59895-7940-42DB-A822-41F53E7D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EF661-728B-4806-AC13-ED267B18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47058-1E6D-4118-B86E-DDB9F4A5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CEE6E-560F-4477-8BC1-31006525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5B63-5473-471B-B1F1-BB2431B0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FF728-4205-462A-8E21-0901776D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1BA95-5D60-4825-A52C-78CE966E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CDEB8-3BFF-49D0-A7DF-20679F96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16563-A113-4C49-AEC9-A7BB1047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6F578-F103-4E31-B908-7CEF5FFB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4D45-55AB-46BF-AFED-834A2A1D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A7F1-0341-4751-8D01-62ED9B110234}" type="slidenum">
              <a:rPr b="0" lang="en-US" sz="1200" spc="-1" strike="noStrike">
                <a:solidFill>
                  <a:srgbClr val="98bb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0B2A-C3E7-4552-ADA2-DF405D107BD0}" type="slidenum">
              <a:rPr b="0" lang="en-US" sz="1200" spc="-1" strike="noStrike">
                <a:solidFill>
                  <a:srgbClr val="98bb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DEFA-6028-414D-AE61-A2F055152403}" type="slidenum">
              <a:rPr b="0" lang="en-US" sz="1200" spc="-1" strike="noStrike">
                <a:solidFill>
                  <a:srgbClr val="98bb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0FBE-2661-40DA-8C80-6F74FEA7E40C}" type="slidenum">
              <a:rPr b="0" lang="en-US" sz="1200" spc="-1" strike="noStrike">
                <a:solidFill>
                  <a:srgbClr val="98bb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86AE-8FB1-4C45-961A-D049491E4A1D}" type="slidenum">
              <a:rPr b="0" lang="en-US" sz="1200" spc="-1" strike="noStrike">
                <a:solidFill>
                  <a:srgbClr val="98bb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D299-7ECD-4896-ADD7-9F731438AFFB}" type="slidenum">
              <a:rPr b="0" lang="en-US" sz="1200" spc="-1" strike="noStrike">
                <a:solidFill>
                  <a:srgbClr val="98bb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6f2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ef5f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0CDA-7AC2-4605-A669-43C446B59AF7}" type="slidenum">
              <a:rPr b="0" lang="en-US" sz="1200" spc="-1" strike="noStrike">
                <a:solidFill>
                  <a:srgbClr val="98bb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The Classification of Plant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1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The Father of Taxonomy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rolus Linnaeus (1707-1778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wedish botani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ystem of binomial nomenclatur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two name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81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380880" y="533520"/>
          <a:ext cx="8458200" cy="5715000"/>
        </p:xfrm>
        <a:graphic>
          <a:graphicData uri="http://schemas.openxmlformats.org/drawingml/2006/table">
            <a:tbl>
              <a:tblPr/>
              <a:tblGrid>
                <a:gridCol w="3065760"/>
                <a:gridCol w="5392440"/>
              </a:tblGrid>
              <a:tr h="5713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axonomic Hierarchy Ch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ingd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ae (plan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vision (Phylu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permatophyta (seed bearing plan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ubdivi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ngiospermae (flowering plants with covered seed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iliopsida (monoco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ingiberales (ginger famil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mi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saceae (banan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en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trelitz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pe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n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mmon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ird of Parad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1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Scientific Name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t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nus spec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nus--capitaliz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ecies--not capitaliz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ten in italics or underlin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 denotes a cro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‘ ’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note a cultivar--man made cro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ariety—naturally occurring cro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Examples of Scientific Name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Strelitzia regina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Hedra helix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Homo sapie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Ficus benjamina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‘Golden Princess’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Nephrolepis exalta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v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Pelargonium x domesticum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v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Plant Classification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nual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plant, that lasts but one year or seas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iennial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inuing for two years, and then perishing, as plants which form roots and leaves the first year, and produce fruit the secon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erenni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plant lasting for three seasons or mo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ood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plant having hard lignified tissues or woody parts especially 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rbaceo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plant lacking a permanent woody stem; many are flowering garden plants or pother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https://www.nysdot.gov/divisions/engineering/design/landscape/trees/repository/tree_forms_color%20copy_papyrus_rv.jpg"/>
          <p:cNvPicPr/>
          <p:nvPr/>
        </p:nvPicPr>
        <p:blipFill>
          <a:blip r:embed="rId1"/>
          <a:stretch/>
        </p:blipFill>
        <p:spPr>
          <a:xfrm>
            <a:off x="2057400" y="1211400"/>
            <a:ext cx="5181480" cy="518940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2"/>
          <p:cNvSpPr/>
          <p:nvPr/>
        </p:nvSpPr>
        <p:spPr>
          <a:xfrm>
            <a:off x="7857720" y="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thographLight"/>
              </a:rPr>
              <a:t>nysdot.gov</a:t>
            </a: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Tree Form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0:07:06Z</dcterms:created>
  <dc:creator>Snake River</dc:creator>
  <dc:description/>
  <dc:language>en-US</dc:language>
  <cp:lastModifiedBy>Brenda Patten</cp:lastModifiedBy>
  <dcterms:modified xsi:type="dcterms:W3CDTF">2010-06-13T06:43:49Z</dcterms:modified>
  <cp:revision>12</cp:revision>
  <dc:subject/>
  <dc:title>The Classification of Plant and Floral Materials</dc:title>
</cp:coreProperties>
</file>