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69FC-9194-4B9B-BCE7-3ED3E3745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705D-91FA-4155-AABD-902BCF8695AC}" type="slidenum">
              <a:rPr b="0" lang="en-US" sz="1200" spc="-1" strike="noStrike">
                <a:solidFill>
                  <a:srgbClr val="000000"/>
                </a:solidFill>
                <a:latin typeface="Lithograph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ithographLigh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s://www.nysdot.gov/divisions/engineering/design/landscape/trees/repository/tree_forms_color%20copy_papyrus_rv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8CF0-0674-4D91-B242-1CA15E487AEB}" type="slidenum">
              <a:rPr b="0" lang="en-US" sz="1200" spc="-1" strike="noStrike">
                <a:solidFill>
                  <a:srgbClr val="000000"/>
                </a:solidFill>
                <a:latin typeface="Lithograph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ithograph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CD97-D873-4C10-A5B3-1B61096E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08A7-7DF7-455F-B91D-69E81F2E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FC89-9B82-4338-AD6C-208EABBA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CADD-EE62-48BB-A9B2-606C5A39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D2C9-573E-4F30-AFF6-1B0AB3289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EFD0-6D5D-4E20-B7CE-36CB730A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5344-E359-4096-B406-DA61D086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FD49-8203-44DE-A153-40ABAE5E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D2C3-084B-424E-A0DF-8A8268E1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B7C0-D10A-4F07-B2C7-C2695BE6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1D3E-D47E-4072-8D19-B9F8DC95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B702-E68D-4272-A843-C3EECD8E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7F79-34A3-40BA-B26A-67CA5155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1B86-1F03-4B41-9BDD-FD622A17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DBA7-499D-4C9D-8B31-8BFABEC6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667F-E545-496D-A4F1-C6EE7E6A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BBF7-2621-435D-81FC-E42E3DF92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60162-8C5F-4B70-AAB7-061FD856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6A3B3-435E-4F1A-A66E-EF15A53A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855F7-C3ED-4A1C-81AC-6CA36425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AA0F5-FF1B-4062-8DA2-576B1A79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D140A-4D49-47FF-AD35-28F6ECC9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2E2D-29EE-4341-9959-0F07F51B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CF5F2-D297-4F5E-91A7-C039290D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12EBD-3844-429A-8547-32653236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C5272-FAFA-488E-9DEE-7EC79B87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E8034-8941-421C-B47F-32CB5D9D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83BA6-DDA4-40DC-A161-E0725C0B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6D7D5-2AE0-4CB2-9FA0-F7E5DFF5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0582E-972B-4142-880C-356C95E1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0885F-8CB3-4DA8-BB57-9C59FF19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E3955-2BA5-4C64-85B7-5E8B4B64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31425-D213-4F1B-833E-1D84063A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5816-41F4-4508-95AC-1C01A807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52808-1C38-408E-B791-609877B9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BF3D5-DBC9-4F76-9BC7-F9DD2F6B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5AC3E-2348-49B6-B8AE-67926C6C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CE16D-0F24-4A79-B7A3-AF7671D7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4D8BD-8096-48FD-886E-07CE3AF5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A4902-AF83-4A95-966E-0958984D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98088-4D33-4E05-8060-22496677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AF0B0-52E6-49E1-858E-95A4F4065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2B178-2F55-472A-A148-F1165EE7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05278-A2AE-48D8-877B-C33925CE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6A4D-6E1E-4648-B5EF-F8067BC0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30AC4-1FEA-4E1D-902E-341E09A6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9C778-05A2-40D5-8328-7ADCAF78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7DB11-8A5B-4AB0-BB9B-A2C4486A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A2DCF-A99D-4EAD-8145-92E236A8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54A45-6AB1-4009-84B5-87CA4AE3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B1999-81BB-4A53-AFD8-DF4798BF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1A689-8099-40B4-9175-18CA7509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37A07-B629-40E3-BB3B-9CBDB706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33A7C-E416-470F-A76D-7A775F55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9D036-AF20-421D-8889-2CA8D8C1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B91C-A6F3-4146-A6B7-B188596F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F4C3D-DC10-4F11-9083-420476BF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F7782-2C77-4EB7-8015-EB6DE73D8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870C8-ED2F-4893-9258-A3D412CC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27818-10CD-4F70-96C3-E6340FDB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3BC73-269E-4561-931E-79C58BCE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989E6-6EDD-4840-BD97-5126973E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5300D-A074-4788-BFF5-682FE67A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77B76-EBEB-4C3C-ABBF-718032AA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A21EA-7351-47CC-A4B3-73995228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F756C-20F2-4BD3-BB62-03709EDB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DF13-3251-4D5C-94E6-A17CE5A0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76DC7-278A-4090-B73F-66B2E9D2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E7701-65AE-44E9-B69E-CEDE6F3A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ED09F-B700-4994-8A71-52CB9285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23D6D-608A-434C-9E09-62F2BCB0F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D784B-EF8F-479C-A6D1-33302BBB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38626-BCEB-4DFF-8AC8-114144C3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16A68-A921-40CD-8CA3-CE209358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23E4D-3D5E-4891-A16B-F26C4EE6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E7F62-DDE5-45BA-B250-53EC1CF0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3EDD2-6C26-48A1-8B59-C692ED00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89B0-A568-4B91-AA6B-074F5736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CAC31-0094-43BF-B9C6-8C158B61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B1315-58EB-4E1F-ADC4-14209480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2F64A-214B-4430-87FE-314EF732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D98F3-470A-40B8-AC62-3F6566BF1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F1C2B-29ED-475A-91C1-A29E3E7DD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1E19-AB0F-4C1C-BF61-00D8C15F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7ffff">
              <a:alpha val="33000"/>
            </a:srgbClr>
          </a:solidFill>
          <a:ln cap="rnd" w="3240">
            <a:solidFill>
              <a:srgbClr val="b1d9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4ffff"/>
            </a:solidFill>
            <a:miter/>
          </a:ln>
          <a:effectLst>
            <a:outerShdw dist="12600" dir="5400000" blurRad="0" rotWithShape="0">
              <a:srgbClr val="9eb7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3048-8BEF-4344-B20A-47E432F59405}" type="slidenum">
              <a:rPr b="0" lang="en-US" sz="1200" spc="-1" strike="noStrike">
                <a:solidFill>
                  <a:srgbClr val="98bb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7ffff">
              <a:alpha val="33000"/>
            </a:srgbClr>
          </a:solidFill>
          <a:ln cap="rnd" w="3240">
            <a:solidFill>
              <a:srgbClr val="b1d9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4ffff"/>
            </a:solidFill>
            <a:miter/>
          </a:ln>
          <a:effectLst>
            <a:outerShdw dist="12600" dir="5400000" blurRad="0" rotWithShape="0">
              <a:srgbClr val="9eb7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268ea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5AA3-8F69-4660-A865-6D69FCC302E5}" type="slidenum">
              <a:rPr b="0" lang="en-US" sz="1200" spc="-1" strike="noStrike">
                <a:solidFill>
                  <a:srgbClr val="98bb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268ea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9C3C-08FB-4B99-B684-3C1B85A9ABEE}" type="slidenum">
              <a:rPr b="0" lang="en-US" sz="1200" spc="-1" strike="noStrike">
                <a:solidFill>
                  <a:srgbClr val="98bb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41E5-359A-46C0-8FE1-BD1331B63D48}" type="slidenum">
              <a:rPr b="0" lang="en-US" sz="1200" spc="-1" strike="noStrike">
                <a:solidFill>
                  <a:srgbClr val="98bb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1DDF-01DB-4F53-9B28-516A1D574FE0}" type="slidenum">
              <a:rPr b="0" lang="en-US" sz="1200" spc="-1" strike="noStrike">
                <a:solidFill>
                  <a:srgbClr val="98bb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6D77-BBD0-40B3-8B12-FE8BBC57B261}" type="slidenum">
              <a:rPr b="0" lang="en-US" sz="1200" spc="-1" strike="noStrike">
                <a:solidFill>
                  <a:srgbClr val="98bb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6f2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ef5fa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8122-549C-4235-BDE4-B381F72C83F8}" type="slidenum">
              <a:rPr b="0" lang="en-US" sz="1200" spc="-1" strike="noStrike">
                <a:solidFill>
                  <a:srgbClr val="98bb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Gill Sans MT"/>
              </a:rPr>
              <a:t>The Classification of Plants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1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Gill Sans MT"/>
              </a:rPr>
              <a:t>The Father of Taxonomy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rolus Linnaeus (1707-1778)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wedish botanis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ystem of binomial nomenclatur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two name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81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" name=""/>
          <p:cNvGraphicFramePr/>
          <p:nvPr/>
        </p:nvGraphicFramePr>
        <p:xfrm>
          <a:off x="380880" y="533520"/>
          <a:ext cx="8458200" cy="5715000"/>
        </p:xfrm>
        <a:graphic>
          <a:graphicData uri="http://schemas.openxmlformats.org/drawingml/2006/table">
            <a:tbl>
              <a:tblPr/>
              <a:tblGrid>
                <a:gridCol w="3065760"/>
                <a:gridCol w="5392440"/>
              </a:tblGrid>
              <a:tr h="5713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axonomic Hierarchy Ch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Kingd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tae (plan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ivision (Phylu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permatophyta (seed bearing plan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ubdivi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ngiospermae (flowering plants with covered seeds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iliopsida (monoco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ingiberales (ginger famil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mi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saceae (banan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en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trelitz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pec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gin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mmon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ird of Parad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1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Gill Sans MT"/>
              </a:rPr>
              <a:t>Scientific Names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ti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nus spec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nus--capitaliz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pecies--not capitaliz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ritten in italics or underlin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X denotes a cro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‘ ’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note a cultivar--man made cro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ariety—naturally occurring cro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Gill Sans MT"/>
              </a:rPr>
              <a:t>Examples of Scientific Names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Strelitzia regina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Hedra helix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Homo sapie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Ficus benjamina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‘Golden Princess’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Nephrolepis exalta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cv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Pelargonium x domesticum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cv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Plant Classification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nual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plant, that lasts but one year or seas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iennial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tinuing for two years, and then perishing, as plants which form roots and leaves the first year, and produce fruit the secon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erenni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plant lasting for three seasons or mo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ood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plant having hard lignified tissues or woody parts especially ste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rbaceou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plant lacking a permanent woody stem; many are flowering garden plants or potherb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https://www.nysdot.gov/divisions/engineering/design/landscape/trees/repository/tree_forms_color%20copy_papyrus_rv.jpg"/>
          <p:cNvPicPr/>
          <p:nvPr/>
        </p:nvPicPr>
        <p:blipFill>
          <a:blip r:embed="rId1"/>
          <a:stretch/>
        </p:blipFill>
        <p:spPr>
          <a:xfrm>
            <a:off x="2057400" y="1211400"/>
            <a:ext cx="5181480" cy="518940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2"/>
          <p:cNvSpPr/>
          <p:nvPr/>
        </p:nvSpPr>
        <p:spPr>
          <a:xfrm>
            <a:off x="7857720" y="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ithographLight"/>
              </a:rPr>
              <a:t>nysdot.gov</a:t>
            </a: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Tree Forms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00:07:06Z</dcterms:created>
  <dc:creator>Snake River</dc:creator>
  <dc:description/>
  <dc:language>en-US</dc:language>
  <cp:lastModifiedBy>Brenda Patten</cp:lastModifiedBy>
  <dcterms:modified xsi:type="dcterms:W3CDTF">2010-06-13T06:43:49Z</dcterms:modified>
  <cp:revision>12</cp:revision>
  <dc:subject/>
  <dc:title>The Classification of Plant and Floral Materials</dc:title>
</cp:coreProperties>
</file>