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C447-CD60-41E4-8302-69DB99EB3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3BB3-357C-459F-9C27-C154670EECEA}" type="slidenum">
              <a:rPr b="0" lang="en-US" sz="1200" spc="-1" strike="noStrike">
                <a:solidFill>
                  <a:srgbClr val="000000"/>
                </a:solidFill>
                <a:latin typeface="Lithograph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ithographLigh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s://www.nysdot.gov/divisions/engineering/design/landscape/trees/repository/tree_forms_color%20copy_papyrus_rv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FC8C-F6A7-4661-A3F2-DE44BBCAAE69}" type="slidenum">
              <a:rPr b="0" lang="en-US" sz="1200" spc="-1" strike="noStrike">
                <a:solidFill>
                  <a:srgbClr val="000000"/>
                </a:solidFill>
                <a:latin typeface="Lithograph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ithograph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1D8C-F85D-4CF6-B9F1-A8D100F0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4E5F-70DB-4882-805C-7DB1A796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4239-3EC1-443E-8806-AA2E32358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E209-1DC3-4D72-A9E5-69F9B9CC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7887-DAF5-473C-946E-A70609338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5632-0327-44A0-AD48-0AFE0183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B354-E533-4B45-B21C-95391109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003A-D92D-4646-93CB-7E0EA31E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6E47-81C5-41B7-8AC1-4F233BC3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4673-8AF2-4B7B-9ED6-E1EEF399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DCFB-D631-45A3-BC46-C41E7CE4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2FEB-24AE-4AC6-9E8E-4D811C85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88D6-8A46-4A13-9BE5-A1BEDCE5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4B18-D412-487F-A4F9-30909EEA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D738-9922-4FCF-9572-601EEA40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125A-BAEF-4140-8D24-6778D685E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8F0F-A358-4D62-AFBA-DF17EEE0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84B46-7E3B-4EF3-A1CF-2C8295ECF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3272B-1492-4EE4-84C6-B3D7B57B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7D037-983F-4255-8D5A-B9F9D722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FC952-1B13-4F05-9346-6331432D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7CE46-5062-4198-B65C-6F692459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8B25-2F83-4519-ADD7-428B4A20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F55EE-AFC1-4565-99A0-04D6B75F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8CEAB-FF70-41C4-ACCF-CEBFEC91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A43DD-D97A-40C0-82B4-2F827741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23AA7-014B-4086-A257-11373C0D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AFE41-B95D-4197-88F5-8E608D57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09228-7EBE-40C1-BAC8-2861ECAF7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4B6C0-202C-4DB4-A5C5-52F52585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CEA0E-81B7-4ED8-BAA6-919042B33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B6365-DAD2-4DCA-BEA8-B813C0AB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D09B1-5DDE-4A00-9DA7-0F52E38B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F3F7-F471-4F59-BF99-CC8BC371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EC4D0-F5FC-402B-913A-DD651765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8E859-5B7C-4BD8-A415-5C20B496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BADDF-7636-4D60-8286-A9D74EF9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999BF-D65B-4475-A961-8731B490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F10B5-2453-480B-BBB8-87419F50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A44C7-4FB3-4DA6-8B70-9FA3899E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AFBD3-E48D-45EA-9AC2-723A6DD9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A6893-0E5A-4665-85AC-C14338F6D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D4AC6-2D28-4ECF-955D-F5A10AC85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F5C9E-8566-4363-8BF1-5661E955C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A409-E92E-4CD4-A067-C9FAFCC3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707A2-D0F0-404D-AF2B-B8AE45D0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2ADA7-3F14-47BA-BAC5-79622784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3EC6D-0C5D-40CC-8980-1080973E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C0B50-E9E6-4D4F-9E8E-6EAA9699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B0710-FEDA-44CA-8AB7-A9B25B83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0EBB8-B8AB-4D89-8B7E-5DEC1579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B8A96-A452-4763-A781-22EA3CBD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4697F-5641-448A-880C-4E836921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4ECA0-F2BA-45AA-A586-8248E254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C6895-59BF-4505-98D8-E52D64C3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2A47-9987-4D47-878E-07720F7B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DCBC0-6DCD-41DE-A070-8B4A960B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969D0-287F-4634-880C-E9B25B4C4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9FBD7-B651-4202-9898-77FD7D04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CC56E-56AE-4E25-B262-DC77F818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8965D-01EA-488B-BBB9-26366E84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EA4CB-148B-48A3-A4E3-448F8FE8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0450B-0505-4C47-BCC5-09FA8018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0ADA0-4065-476E-B1FC-12F560EA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62DFF-3528-4EF1-825E-2C7839ED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1FE4E-0495-49D1-9B27-65B0A9AF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2345-A2AE-448A-AEA2-BB4DCD49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D2485-5325-4987-9F63-2328EAF9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6E90D-3D14-472A-A298-A49175081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54F0F-E966-4DDC-B308-E73D0B38F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EC9AF-0BBA-4C85-BDA7-0FEFE9A4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11FE3-8692-4EFB-998A-F5274A6A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24863-D105-4DA8-B0AB-EDD13DF5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A2E24-2B35-410D-BA9C-AECDE3C1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95B99-FE80-4EB1-BCA2-70D7DB7E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092B8-EE31-4442-A8E5-DBE1972E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6C73F-B0DC-4B15-8215-31BB4105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9F99-157F-4953-AE31-9F4B2FF4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97E86-9F0F-4232-8ECB-33A5DEEF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136C1-1CDE-4A79-BFDF-CFE3F53C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2A528-E950-44C7-9382-EFD3726D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E1A87-EDAC-46E9-AD9F-16F4DB096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CB265-DED3-4CDC-AD47-C01B4592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7266-F704-461B-A009-C5838461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7ffff">
              <a:alpha val="33000"/>
            </a:srgbClr>
          </a:solidFill>
          <a:ln cap="rnd" w="3240">
            <a:solidFill>
              <a:srgbClr val="b1d9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4ffff"/>
            </a:solidFill>
            <a:miter/>
          </a:ln>
          <a:effectLst>
            <a:outerShdw dist="12600" dir="5400000" blurRad="0" rotWithShape="0">
              <a:srgbClr val="9eb7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0E19-A8AD-4C9D-AB23-525912652C5B}" type="slidenum">
              <a:rPr b="0" lang="en-US" sz="1200" spc="-1" strike="noStrike">
                <a:solidFill>
                  <a:srgbClr val="98bb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7ffff">
              <a:alpha val="33000"/>
            </a:srgbClr>
          </a:solidFill>
          <a:ln cap="rnd" w="3240">
            <a:solidFill>
              <a:srgbClr val="b1d9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4ffff"/>
            </a:solidFill>
            <a:miter/>
          </a:ln>
          <a:effectLst>
            <a:outerShdw dist="12600" dir="5400000" blurRad="0" rotWithShape="0">
              <a:srgbClr val="9eb7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268ea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7D38-D2C4-4BFD-964B-47754F9FA7F7}" type="slidenum">
              <a:rPr b="0" lang="en-US" sz="1200" spc="-1" strike="noStrike">
                <a:solidFill>
                  <a:srgbClr val="98bb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268ea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959F-0EBC-4F16-9605-B42DF40F2136}" type="slidenum">
              <a:rPr b="0" lang="en-US" sz="1200" spc="-1" strike="noStrike">
                <a:solidFill>
                  <a:srgbClr val="98bb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6B71-11EA-422E-B5E0-51B54C6E388D}" type="slidenum">
              <a:rPr b="0" lang="en-US" sz="1200" spc="-1" strike="noStrike">
                <a:solidFill>
                  <a:srgbClr val="98bb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4834-7E52-4BE6-A767-49A3A31D7A76}" type="slidenum">
              <a:rPr b="0" lang="en-US" sz="1200" spc="-1" strike="noStrike">
                <a:solidFill>
                  <a:srgbClr val="98bb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615A-155A-4C0D-B6C4-96D4100F2B55}" type="slidenum">
              <a:rPr b="0" lang="en-US" sz="1200" spc="-1" strike="noStrike">
                <a:solidFill>
                  <a:srgbClr val="98bb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ithographLigh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6f2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ef5fa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00add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A02B-3937-456E-B2EC-7AE2BD723327}" type="slidenum">
              <a:rPr b="0" lang="en-US" sz="1200" spc="-1" strike="noStrike">
                <a:solidFill>
                  <a:srgbClr val="98bb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Gill Sans MT"/>
              </a:rPr>
              <a:t>The Classification of Plants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1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Gill Sans MT"/>
              </a:rPr>
              <a:t>The Father of Taxonomy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rolus Linnaeus (1707-1778)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wedish botanis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ystem of binomial nomenclatur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two name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81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"/>
          <p:cNvGraphicFramePr/>
          <p:nvPr/>
        </p:nvGraphicFramePr>
        <p:xfrm>
          <a:off x="380880" y="533520"/>
          <a:ext cx="8458200" cy="5715000"/>
        </p:xfrm>
        <a:graphic>
          <a:graphicData uri="http://schemas.openxmlformats.org/drawingml/2006/table">
            <a:tbl>
              <a:tblPr/>
              <a:tblGrid>
                <a:gridCol w="3065760"/>
                <a:gridCol w="5392440"/>
              </a:tblGrid>
              <a:tr h="5713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axonomic Hierarchy Ch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Kingd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tae (plan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ivision (Phylu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permatophyta (seed bearing plan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ubdivi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ngiospermae (flowering plants with covered seeds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iliopsida (monoco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ingiberales (ginger famil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mi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saceae (banan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en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trelitz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pec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gin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mmon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ird of Parad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ithographLigh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1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Gill Sans MT"/>
              </a:rPr>
              <a:t>Scientific Names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ti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nus spec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nus--capitaliz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pecies--not capitaliz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ritten in italics or underlin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X denotes a cro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‘ ’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note a cultivar--man made cro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ariety—naturally occurring cro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Gill Sans MT"/>
              </a:rPr>
              <a:t>Examples of Scientific Names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Strelitzia regina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Hedra helix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Homo sapie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Ficus benjamina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‘Golden Princess’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Nephrolepis exalta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cv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Pelargonium x domesticum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cv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Plant Classification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nual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plant, that lasts but one year or seas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iennial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tinuing for two years, and then perishing, as plants which form roots and leaves the first year, and produce fruit the secon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erenni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plant lasting for three seasons or mo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ood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plant having hard lignified tissues or woody parts especially ste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rbaceou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plant lacking a permanent woody stem; many are flowering garden plants or potherb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https://www.nysdot.gov/divisions/engineering/design/landscape/trees/repository/tree_forms_color%20copy_papyrus_rv.jpg"/>
          <p:cNvPicPr/>
          <p:nvPr/>
        </p:nvPicPr>
        <p:blipFill>
          <a:blip r:embed="rId1"/>
          <a:stretch/>
        </p:blipFill>
        <p:spPr>
          <a:xfrm>
            <a:off x="2057400" y="1211400"/>
            <a:ext cx="5181480" cy="518940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2"/>
          <p:cNvSpPr/>
          <p:nvPr/>
        </p:nvSpPr>
        <p:spPr>
          <a:xfrm>
            <a:off x="7857720" y="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ithographLight"/>
              </a:rPr>
              <a:t>nysdot.gov</a:t>
            </a:r>
            <a:endParaRPr b="0" lang="en-US" sz="1800" spc="-1" strike="noStrike">
              <a:solidFill>
                <a:srgbClr val="000000"/>
              </a:solidFill>
              <a:latin typeface="LithographLight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Gill Sans MT"/>
              </a:rPr>
              <a:t>Tree Forms</a:t>
            </a:r>
            <a:endParaRPr b="0" lang="en-US" sz="4300" spc="-1" strike="noStrike">
              <a:solidFill>
                <a:srgbClr val="495a7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00:07:06Z</dcterms:created>
  <dc:creator>Snake River</dc:creator>
  <dc:description/>
  <dc:language>en-US</dc:language>
  <cp:lastModifiedBy>Brenda Patten</cp:lastModifiedBy>
  <dcterms:modified xsi:type="dcterms:W3CDTF">2010-06-13T06:43:49Z</dcterms:modified>
  <cp:revision>12</cp:revision>
  <dc:subject/>
  <dc:title>The Classification of Plant and Floral Materials</dc:title>
</cp:coreProperties>
</file>