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CC7-DF58-4BF0-8FDA-0F94E838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311-68CF-48EA-8588-07BD7903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D78-EEC0-4EA7-B039-A2EA3581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5BB-E1AE-45B9-B6E6-78DB1B15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74F-5F3D-48F5-9203-32ABE97D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D61-41E4-443C-A5B8-2CE58E16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C46-1F66-4EF0-98C7-B47C2DF6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790-46D2-4D8B-8B05-32A77CF6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255-F89C-4769-A3C1-06C97062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E19-46D2-4793-A5CC-0B47FA41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566-AE97-418D-9561-85BE11E7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BA2-5A75-4CB1-97C2-20284A7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997C-6784-4AA5-8A6D-5DD80815B9A1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fafd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5" marL="2000160" indent="-171360">
              <a:spcBef>
                <a:spcPts val="3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6" marL="2000160" indent="-171360">
              <a:spcBef>
                <a:spcPts val="3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3640" y="266760"/>
            <a:ext cx="7804080" cy="614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03680" y="2387160"/>
            <a:ext cx="9372600" cy="2210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afd00"/>
                </a:solidFill>
                <a:latin typeface="Times New Roman"/>
              </a:rPr>
              <a:t>Plant Propagation</a:t>
            </a:r>
            <a:endParaRPr b="1" lang="en-US" sz="8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64960" y="564840"/>
            <a:ext cx="718812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Grafted and budded plants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65400" y="1860480"/>
            <a:ext cx="562284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368440"/>
            <a:ext cx="7223040" cy="441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ft/bud Typ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ppl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hip, T-bud, clef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ifer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ide vene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ecan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atch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s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-bud (shield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rap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odified wedg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7400" y="196920"/>
            <a:ext cx="909324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Layering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5520" y="1415880"/>
            <a:ext cx="76309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2760" y="2736720"/>
            <a:ext cx="8394480" cy="984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43000"/>
          </a:bodyPr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ir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interrupt cambium and cover wound with moistened medium.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Ficus elastica, Magnolia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ple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low hanging branch covered with soil (with or without wounding) - many shrub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p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tips of plants (brambles) at certain times of year (rat-tail condition) develop roots where they touch the soil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lackberries, raspberrie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und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soil mounded to cover base of specially pruned young tree (also referred to as stool layering)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pple rootstock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520" y="1568520"/>
            <a:ext cx="756288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yering involves inducing roots on an intact (or nearly so) plant 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601" b="5611"/>
          <a:stretch/>
        </p:blipFill>
        <p:spPr>
          <a:xfrm>
            <a:off x="1373040" y="146160"/>
            <a:ext cx="3186360" cy="2882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0" r="0" b="4373"/>
          <a:stretch/>
        </p:blipFill>
        <p:spPr>
          <a:xfrm>
            <a:off x="4729320" y="114480"/>
            <a:ext cx="3195360" cy="291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0" r="5789" b="3952"/>
          <a:stretch/>
        </p:blipFill>
        <p:spPr>
          <a:xfrm>
            <a:off x="1355760" y="3772080"/>
            <a:ext cx="3206880" cy="293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34000" y="3809880"/>
            <a:ext cx="3208320" cy="2863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92160" y="2673360"/>
            <a:ext cx="4197240" cy="140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Air Layering</a:t>
            </a:r>
            <a:endParaRPr b="1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44800" y="539640"/>
            <a:ext cx="5010120" cy="5974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pecialized Structur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ified Stem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ulb, corm, tuber, rhizom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seudobulb, runn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ified Root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berous roo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2362320"/>
            <a:ext cx="37483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2889" r="47524" b="0"/>
          <a:stretch/>
        </p:blipFill>
        <p:spPr>
          <a:xfrm>
            <a:off x="146160" y="368280"/>
            <a:ext cx="4095720" cy="5969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5000" y="634680"/>
            <a:ext cx="89280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ropagation by specialized structures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1739880"/>
            <a:ext cx="85978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2320" y="1943280"/>
            <a:ext cx="8061480" cy="506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lip, onion, Easter lily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ulb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otato, Jerusalem artichoke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b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ri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lily-of-the valley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hizom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Gladiolu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Crocu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rm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rawberry, 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jug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unn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ahli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sweet potato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berous roo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7640" y="380880"/>
            <a:ext cx="6095880" cy="106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pomixis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6680" y="1600200"/>
            <a:ext cx="828180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5720" y="4330800"/>
            <a:ext cx="7961400" cy="123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he development of an embryo within a seed or flowering structure from a source other than the egg, resulting in the formation of an embryo (sometimes in addition to the sexual embryo)  that is a clone of the maternal parent.  Examples include polyembryony in citrus and crabapples, and the formation of bulbils in garlic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5080" y="1701720"/>
            <a:ext cx="8896320" cy="1181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 exception to the rule of nonclonal embryony.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7160" y="146160"/>
            <a:ext cx="909288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Micropropagation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289160"/>
            <a:ext cx="82612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520" y="2768400"/>
            <a:ext cx="9296640" cy="81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9000"/>
          </a:bodyPr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icropropagation is rapid, continuous, and efficie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pecialized equipment, facilities, and technically trained personnel are required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ps can be taken to obtain and maintain certified pest-free plant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st effective if large numbers of a given clone are produced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idely used for orchids, ferns, many interior foliage plants, rootstocks, etc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000" y="1492200"/>
            <a:ext cx="756432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cropropagation has many synonyms - tissue culture, mass propagation, in vitro culture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lon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080" y="216000"/>
            <a:ext cx="909324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lants amenable to micropropagation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360" y="1378080"/>
            <a:ext cx="862164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743680" cy="85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1000"/>
          </a:bodyPr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wering pot plants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egoni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African violets, orchid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ior foliage plant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ferns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yngonium, Ficus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iffenbachia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ody ornamental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red maples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hododendron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Nandina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est tre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Poplar, birch, loblolly pin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uit tre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apple, cherry, pear (many rootstocks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getable crop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potato, celery, tomato, onion (male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rile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tation crop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banana, date palm, coffee 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92280"/>
            <a:ext cx="777888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ypes of development </a:t>
            </a: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in vitro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8320" y="2006640"/>
            <a:ext cx="76312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9560" y="2431800"/>
            <a:ext cx="8515440" cy="100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30000"/>
          </a:bodyPr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rolifera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xillary bud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from shoot tip cultur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ifferentia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entitious shoot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from leaves, stems, or root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ormation and prolifera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atic embryo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d germination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orchid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evelopment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ploid plant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from anthers or ovul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rotoplast fusion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atic hybrid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developme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165240"/>
            <a:ext cx="909288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ropagation by seeds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360" y="1117440"/>
            <a:ext cx="81280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7760" y="3174840"/>
            <a:ext cx="82105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50000"/>
          </a:bodyPr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eds are widely available, inexpensive, and easy to handle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Hybrid seeds are more expensive, but may have production benefits that offset the cos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arge scale agriculture (including vegetable crop production) is dependent upon seed propagation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eds (especially seeds of woody plants) may have complex dormancies that impede germination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6520" y="1644480"/>
            <a:ext cx="756432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agation by seeds is the major method by which plants reproduce in nature and one of the most efficient and widely used propagation methods for cultivated crops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artmann and Kester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20480" y="342720"/>
            <a:ext cx="609588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Plant propagation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56920" y="2857680"/>
            <a:ext cx="6553080" cy="86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2000"/>
          </a:bodyPr>
          <a:p>
            <a:pPr marL="500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xual methods - seed propag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00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sexual method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oting cutting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ayering; air layering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rafting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pecialized structure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issue culture; micropropag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98600" y="1409760"/>
            <a:ext cx="63453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1663560"/>
            <a:ext cx="64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rt and science of multiplying plants by sexual or asexual means.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26840" y="1777680"/>
            <a:ext cx="609588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Asexual propagation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04960" y="2844720"/>
            <a:ext cx="52149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55640" y="4172040"/>
            <a:ext cx="5961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vegetative reproduction, i.e., multiplication that does not involve the seed cycle - clonal propagation.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49400" y="4089240"/>
            <a:ext cx="433548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17320" y="1244520"/>
            <a:ext cx="6095880" cy="106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lone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5440" y="2311560"/>
            <a:ext cx="57117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89240" y="3193920"/>
            <a:ext cx="6740280" cy="194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A genetically identical assemblage of individuals produced from a plant entirely by vegetative means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1828800" algn="r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Hartmann and Kester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480" y="717480"/>
            <a:ext cx="7188120" cy="106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Benefits of clonal propagation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600" y="1784520"/>
            <a:ext cx="78073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600" y="2241360"/>
            <a:ext cx="8572320" cy="85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5000"/>
          </a:bodyPr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ome plants produce few (if any) viable seed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onal progeny are highly uniform in all character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utcrossing plants produce highly variable progeny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lants may have extended juvenile period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oning allows for combining genotypes in one pla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eds may have lengthy and complex dormanci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4520" y="240840"/>
            <a:ext cx="7188120" cy="96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utting propagation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54080" y="1308240"/>
            <a:ext cx="67057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33280" y="16891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utting capable of regenerating roots (or shoots) from adventitious meristem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uttings defined by size and location on parent plant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m tip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nodal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ot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eaf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uttings also defined by condition of growth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oftwood, semihardwood, hardwood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9093240" cy="1117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onditions required for rooting cuttings...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79600"/>
            <a:ext cx="74055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0120" y="1860120"/>
            <a:ext cx="7543800" cy="83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1000"/>
          </a:bodyPr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Hardwood and root cuttings require well drained medium, but little moisture control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eafy cuttings require high humidity to prevent excessive dehydration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4400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ntermittent mist system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4400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oly tents or cold fram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4400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og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edium into which cuttings are stuck must be disease free, well drained, and ligh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uxin application now standard treatme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8520" y="596880"/>
            <a:ext cx="8026200" cy="1085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Examples of cutting propagation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1911240"/>
            <a:ext cx="77583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1520" y="2343240"/>
            <a:ext cx="8251560" cy="37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tting Typ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frican violet, begoni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eaf cutting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ny woody shrub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m tip cuttings (softwood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rambl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ot cutting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illow, poplar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ormant hardwood cutting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304920"/>
            <a:ext cx="909324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Grafting and budding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7800" y="1523880"/>
            <a:ext cx="76312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600" y="3174840"/>
            <a:ext cx="8889840" cy="8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4000"/>
          </a:bodyPr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an graft scion cultivar onto size controlling rootstock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ny difficult to root plants are graft compatible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rafting defined by season and type of tissue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45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udding (T-budding, inverted T, patch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45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edge, veneer, whip and tongue, cleft, etc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cion cultivar may be changed on mature trees (top working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6680" y="1746360"/>
            <a:ext cx="756288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vascular cambium can regenerate the vascular connections between the scion and rootstock resulting in a complete plant composed of more than one genotype.”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0T08:32:49Z</dcterms:created>
  <dc:creator>Horticultural Sciences</dc:creator>
  <dc:description/>
  <cp:keywords/>
  <dc:language>en-US</dc:language>
  <cp:lastModifiedBy>Lou E. Riesenberg</cp:lastModifiedBy>
  <dcterms:modified xsi:type="dcterms:W3CDTF">2007-10-29T22:45:31Z</dcterms:modified>
  <cp:revision>3</cp:revision>
  <dc:subject/>
  <dc:title>Plant Propagation</dc:title>
</cp:coreProperties>
</file>