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6D67-2C71-4D48-A4AE-BE174308F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DC47-4FC9-4557-A15E-AC19068A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3120-9728-4D98-B902-8EFBD9A0A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4404-5038-48A5-A556-60C68AA39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21E9-1FFC-4A6F-9F0A-620B1D37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D6E4-1605-498B-B35B-8DEB0DF2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571D-BD55-486B-B1A3-F7531F5F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D139-4023-4891-8CE0-4D3A38C8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34D3-213F-4A25-B325-CCC0C298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54CD-0C90-4FC5-A1F2-90CFE1C2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79C8-BCCC-4BBA-8482-A2696A17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A6EF-054F-4410-92A6-135226FD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afd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afd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afd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5B74-9CEE-4184-8FDE-FADAC985AED2}" type="slidenum">
              <a:rPr b="0" lang="en-US" sz="14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1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fafd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1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4" marL="2000160" indent="-171360">
              <a:lnSpc>
                <a:spcPct val="90000"/>
              </a:lnSpc>
              <a:spcBef>
                <a:spcPts val="524"/>
              </a:spcBef>
              <a:buClr>
                <a:srgbClr val="fafd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1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5" marL="2000160" indent="-171360">
              <a:spcBef>
                <a:spcPts val="34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1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6" marL="2000160" indent="-171360">
              <a:spcBef>
                <a:spcPts val="34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1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93640" y="266760"/>
            <a:ext cx="7804080" cy="6146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103680" y="2387160"/>
            <a:ext cx="9372600" cy="2210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afd00"/>
                </a:solidFill>
                <a:latin typeface="Times New Roman"/>
              </a:rPr>
              <a:t>Plant Propagation</a:t>
            </a:r>
            <a:endParaRPr b="1" lang="en-US" sz="8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64960" y="564840"/>
            <a:ext cx="7188120" cy="1066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Grafted and budded plants...</a:t>
            </a:r>
            <a:endParaRPr b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65400" y="1860480"/>
            <a:ext cx="5622840" cy="0"/>
          </a:xfrm>
          <a:prstGeom prst="line">
            <a:avLst/>
          </a:prstGeom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2368440"/>
            <a:ext cx="7223040" cy="4411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60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eci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aft/bud Type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60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apple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hip, T-bud, cleft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60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onifer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ide veneer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60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pecan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patch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60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rose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T-bud (shield)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60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grape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modified wedge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60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7400" y="196920"/>
            <a:ext cx="9093240" cy="1117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Layering...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5520" y="1415880"/>
            <a:ext cx="7630920" cy="0"/>
          </a:xfrm>
          <a:prstGeom prst="line">
            <a:avLst/>
          </a:prstGeom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82760" y="2736720"/>
            <a:ext cx="8394480" cy="984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rmAutofit fontScale="43000"/>
          </a:bodyPr>
          <a:p>
            <a:pPr marL="98280" indent="-98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ir layering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 - interrupt cambium and cover wound with moistened medium.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Ficus elastica, Magnolia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98280" indent="-98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mple layering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 - low hanging branch covered with soil (with or without wounding) - many shrubs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98280" indent="-98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ip layering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 - tips of plants (brambles) at certain times of year (rat-tail condition) develop roots where they touch the soil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Blackberries, raspberries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98280" indent="-98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und layering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 - soil mounded to cover base of specially pruned young tree (also referred to as stool layering)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Apple rootstocks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5520" y="1568520"/>
            <a:ext cx="7562880" cy="1092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ayering involves inducing roots on an intact (or nearly so) plant .”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601" b="5611"/>
          <a:stretch/>
        </p:blipFill>
        <p:spPr>
          <a:xfrm>
            <a:off x="1373040" y="146160"/>
            <a:ext cx="3186360" cy="2882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rcRect l="0" t="0" r="0" b="4373"/>
          <a:stretch/>
        </p:blipFill>
        <p:spPr>
          <a:xfrm>
            <a:off x="4729320" y="114480"/>
            <a:ext cx="3195360" cy="2914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rcRect l="0" t="0" r="5789" b="3952"/>
          <a:stretch/>
        </p:blipFill>
        <p:spPr>
          <a:xfrm>
            <a:off x="1355760" y="3772080"/>
            <a:ext cx="3206880" cy="2933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4734000" y="3809880"/>
            <a:ext cx="3208320" cy="28638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92160" y="2673360"/>
            <a:ext cx="4197240" cy="1403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</a:rPr>
              <a:t>Air Layering</a:t>
            </a:r>
            <a:endParaRPr b="1" lang="en-US" sz="5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44800" y="539640"/>
            <a:ext cx="5010120" cy="5974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Specialized Structure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dified Stem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bulb, corm, tuber, rhizome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pseudobulb, runner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dified Root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tuberous root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49680" y="2362320"/>
            <a:ext cx="3748320" cy="0"/>
          </a:xfrm>
          <a:prstGeom prst="line">
            <a:avLst/>
          </a:prstGeom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0" t="2889" r="47524" b="0"/>
          <a:stretch/>
        </p:blipFill>
        <p:spPr>
          <a:xfrm>
            <a:off x="146160" y="368280"/>
            <a:ext cx="4095720" cy="5969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5000" y="634680"/>
            <a:ext cx="8928000" cy="1104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Propagation by specialized structures...</a:t>
            </a:r>
            <a:endParaRPr b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1739880"/>
            <a:ext cx="8597880" cy="0"/>
          </a:xfrm>
          <a:prstGeom prst="line">
            <a:avLst/>
          </a:prstGeom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52320" y="1943280"/>
            <a:ext cx="8061480" cy="5060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eci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ructure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tulip, onion, Easter lily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bulb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potato, Jerusalem artichoke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tuber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Iri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, lily-of-the valley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rhizome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Gladiolu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Crocu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orm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trawberry,  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Ajuga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runner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Dahlia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, sweet potato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tuberous root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7640" y="380880"/>
            <a:ext cx="6095880" cy="1067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Apomixis...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6680" y="1600200"/>
            <a:ext cx="8281800" cy="0"/>
          </a:xfrm>
          <a:prstGeom prst="line">
            <a:avLst/>
          </a:prstGeom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5720" y="4330800"/>
            <a:ext cx="7961400" cy="1238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the development of an embryo within a seed or flowering structure from a source other than the egg, resulting in the formation of an embryo (sometimes in addition to the sexual embryo)  that is a clone of the maternal parent.  Examples include polyembryony in citrus and crabapples, and the formation of bulbils in garlic.”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5080" y="1701720"/>
            <a:ext cx="8896320" cy="1181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 exception to the rule of nonclonal embryony.”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7160" y="146160"/>
            <a:ext cx="9092880" cy="1117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Micropropagation...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289160"/>
            <a:ext cx="8261280" cy="0"/>
          </a:xfrm>
          <a:prstGeom prst="line">
            <a:avLst/>
          </a:prstGeom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520" y="2768400"/>
            <a:ext cx="9296640" cy="812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rmAutofit fontScale="29000"/>
          </a:bodyPr>
          <a:p>
            <a:pPr marL="66240" indent="-662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Micropropagation is rapid, continuous, and efficient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66240" indent="-662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pecialized equipment, facilities, and technically trained personnel are required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66240" indent="-662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teps can be taken to obtain and maintain certified pest-free plants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66240" indent="-662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ost effective if large numbers of a given clone are produced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66240" indent="-662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Widely used for orchids, ferns, many interior foliage plants, rootstocks, etc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7000" y="1492200"/>
            <a:ext cx="7564320" cy="1092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icropropagation has many synonyms - tissue culture, mass propagation, in vitro culture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cloni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080" y="216000"/>
            <a:ext cx="9093240" cy="1117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Plants amenable to micropropagation...</a:t>
            </a:r>
            <a:endParaRPr b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6360" y="1378080"/>
            <a:ext cx="8621640" cy="0"/>
          </a:xfrm>
          <a:prstGeom prst="line">
            <a:avLst/>
          </a:prstGeom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743680" cy="850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rmAutofit fontScale="21000"/>
          </a:bodyPr>
          <a:p>
            <a:pPr marL="47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lowering pot plants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- 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Begonia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, African violets, orchids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rior foliage plant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- ferns, 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Syngonium, Ficus, 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Diffenbachia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ody ornamental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- red maples, 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Rhododendron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Nandina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rest tree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- Poplar, birch, loblolly pine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ruit tree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- apple, cherry, pear (many rootstocks)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egetable crop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- potato, celery, tomato, onion (male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terile)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ntation crop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- banana, date palm, coffee 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7800" y="692280"/>
            <a:ext cx="7778880" cy="1117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Types of development </a:t>
            </a: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in vitro</a:t>
            </a: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...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8320" y="2006640"/>
            <a:ext cx="7631280" cy="0"/>
          </a:xfrm>
          <a:prstGeom prst="line">
            <a:avLst/>
          </a:prstGeom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39560" y="2431800"/>
            <a:ext cx="8515440" cy="1003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rmAutofit fontScale="30000"/>
          </a:bodyPr>
          <a:p>
            <a:pPr marL="684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Proliferation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xillary bud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from shoot tip cultures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684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Differentiation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ventitious shoot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from leaves, stems, or roots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684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Formation and proliferation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matic embryo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684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ed germination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- orchids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684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Development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aploid plant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from anthers or ovules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684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Protoplast fusion an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matic hybrid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development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760" y="165240"/>
            <a:ext cx="9092880" cy="1117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ropagation by seeds...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360" y="1117440"/>
            <a:ext cx="8128080" cy="0"/>
          </a:xfrm>
          <a:prstGeom prst="line">
            <a:avLst/>
          </a:prstGeom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37760" y="3174840"/>
            <a:ext cx="8210520" cy="106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rmAutofit fontScale="50000"/>
          </a:bodyPr>
          <a:p>
            <a:pPr marL="114120" indent="-1141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eeds are widely available, inexpensive, and easy to handle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114120" indent="-1141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Hybrid seeds are more expensive, but may have production benefits that offset the cost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114120" indent="-1141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Large scale agriculture (including vegetable crop production) is dependent upon seed propagation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114120" indent="-1141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eeds (especially seeds of woody plants) may have complex dormancies that impede germination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6520" y="1644480"/>
            <a:ext cx="7564320" cy="1092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pagation by seeds is the major method by which plants reproduce in nature and one of the most efficient and widely used propagation methods for cultivated crops.”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Hartmann and Kester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20480" y="342720"/>
            <a:ext cx="6095880" cy="1066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</a:rPr>
              <a:t>Plant propagation...</a:t>
            </a:r>
            <a:endParaRPr b="1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56920" y="2857680"/>
            <a:ext cx="6553080" cy="863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rmAutofit fontScale="22000"/>
          </a:bodyPr>
          <a:p>
            <a:pPr marL="50040" indent="-500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exual methods - seed propagation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0040" indent="-500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Asexual methods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50840" indent="-500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rooting cuttings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50840" indent="-500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layering; air layering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50840" indent="-500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grafting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50840" indent="-500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pecialized structures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50840" indent="-500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tissue culture; micropropagation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98600" y="1409760"/>
            <a:ext cx="6345360" cy="0"/>
          </a:xfrm>
          <a:prstGeom prst="line">
            <a:avLst/>
          </a:prstGeom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4680" y="1663560"/>
            <a:ext cx="64339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art and science of multiplying plants by sexual or asexual means.”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26840" y="1777680"/>
            <a:ext cx="6095880" cy="1066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</a:rPr>
              <a:t>Asexual propagation...</a:t>
            </a:r>
            <a:endParaRPr b="1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04960" y="2844720"/>
            <a:ext cx="5214960" cy="0"/>
          </a:xfrm>
          <a:prstGeom prst="line">
            <a:avLst/>
          </a:prstGeom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55640" y="4172040"/>
            <a:ext cx="596124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vegetative reproduction, i.e., multiplication that does not involve the seed cycle - clonal propagation.”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849400" y="4089240"/>
            <a:ext cx="433548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17320" y="1244520"/>
            <a:ext cx="6095880" cy="1067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</a:rPr>
              <a:t>Clone...</a:t>
            </a:r>
            <a:endParaRPr b="1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95440" y="2311560"/>
            <a:ext cx="5711760" cy="0"/>
          </a:xfrm>
          <a:prstGeom prst="line">
            <a:avLst/>
          </a:prstGeom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89240" y="3193920"/>
            <a:ext cx="6740280" cy="1943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A genetically identical assemblage of individuals produced from a plant entirely by vegetative means.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4" marL="1828800" algn="r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Hartmann and Kester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7480" y="717480"/>
            <a:ext cx="7188120" cy="1067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Benefits of clonal propagation...</a:t>
            </a:r>
            <a:endParaRPr b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5600" y="1784520"/>
            <a:ext cx="7807320" cy="0"/>
          </a:xfrm>
          <a:prstGeom prst="line">
            <a:avLst/>
          </a:prstGeom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4600" y="2241360"/>
            <a:ext cx="8572320" cy="857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rmAutofit fontScale="25000"/>
          </a:bodyPr>
          <a:p>
            <a:pPr marL="56880" indent="-568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ome plants produce few (if any) viable seeds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6880" indent="-568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lonal progeny are highly uniform in all characters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6880" indent="-568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Outcrossing plants produce highly variable progeny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6880" indent="-568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Plants may have extended juvenile period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6880" indent="-568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loning allows for combining genotypes in one plant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6880" indent="-568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eeds may have lengthy and complex dormancies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4520" y="240840"/>
            <a:ext cx="7188120" cy="96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</a:rPr>
              <a:t>Cutting propagation...</a:t>
            </a:r>
            <a:endParaRPr b="1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54080" y="1308240"/>
            <a:ext cx="6705720" cy="0"/>
          </a:xfrm>
          <a:prstGeom prst="line">
            <a:avLst/>
          </a:prstGeom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33280" y="1689120"/>
            <a:ext cx="7543800" cy="838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utting capable of regenerating roots (or shoots) from adventitious meristem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uttings defined by size and location on parent plant: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23120" indent="-410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tem tip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23120" indent="-410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nodal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23120" indent="-410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root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23120" indent="-410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leaf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uttings also defined by condition of growth: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23120" indent="-410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oftwood, semihardwood, hardwood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9093240" cy="1117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Conditions required for rooting cuttings...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479600"/>
            <a:ext cx="7405560" cy="0"/>
          </a:xfrm>
          <a:prstGeom prst="line">
            <a:avLst/>
          </a:prstGeom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0120" y="1860120"/>
            <a:ext cx="7543800" cy="838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rmAutofit fontScale="21000"/>
          </a:bodyPr>
          <a:p>
            <a:pPr marL="47880" indent="-478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Hardwood and root cuttings require well drained medium, but little moisture control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880" indent="-478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Leafy cuttings require high humidity to prevent excessive dehydration: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44000" indent="-478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intermittent mist systems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44000" indent="-478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poly tents or cold frames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44000" indent="-478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fog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880" indent="-478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Medium into which cuttings are stuck must be disease free, well drained, and light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880" indent="-478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Auxin application now standard treatment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8520" y="596880"/>
            <a:ext cx="8026200" cy="1085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Examples of cutting propagation...</a:t>
            </a:r>
            <a:endParaRPr b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22240" y="1911240"/>
            <a:ext cx="7758360" cy="0"/>
          </a:xfrm>
          <a:prstGeom prst="line">
            <a:avLst/>
          </a:prstGeom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1520" y="2343240"/>
            <a:ext cx="8251560" cy="37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60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eci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utting Type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60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African violet, begonia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leaf cutting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60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Many woody shrub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tem tip cuttings (softwood)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60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bramble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root cutting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60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Willow, poplar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dormant hardwood cutting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60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9680" y="304920"/>
            <a:ext cx="9093240" cy="1117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Grafting and budding...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7800" y="1523880"/>
            <a:ext cx="7631280" cy="0"/>
          </a:xfrm>
          <a:prstGeom prst="line">
            <a:avLst/>
          </a:prstGeom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2600" y="3174840"/>
            <a:ext cx="8889840" cy="812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rmAutofit fontScale="24000"/>
          </a:bodyPr>
          <a:p>
            <a:pPr marL="54720" indent="-547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an graft scion cultivar onto size controlling rootstock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4720" indent="-547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Many difficult to root plants are graft compatible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4720" indent="-547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Grafting defined by season and type of tissue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64520" indent="-547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budding (T-budding, inverted T, patch)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64520" indent="-547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wedge, veneer, whip and tongue, cleft, etc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4720" indent="-547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cion cultivar may be changed on mature trees (top working)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6680" y="1746360"/>
            <a:ext cx="7562880" cy="1092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vascular cambium can regenerate the vascular connections between the scion and rootstock resulting in a complete plant composed of more than one genotype.”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4-10T08:32:49Z</dcterms:created>
  <dc:creator>Horticultural Sciences</dc:creator>
  <dc:description/>
  <cp:keywords/>
  <dc:language>en-US</dc:language>
  <cp:lastModifiedBy>Lou E. Riesenberg</cp:lastModifiedBy>
  <dcterms:modified xsi:type="dcterms:W3CDTF">2007-10-29T22:45:31Z</dcterms:modified>
  <cp:revision>3</cp:revision>
  <dc:subject/>
  <dc:title>Plant Propagation</dc:title>
</cp:coreProperties>
</file>