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1DB-3D85-460A-A884-FBFED0A3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12E-1452-418F-BFE4-5FA40FC3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E75-5EE2-4869-BDCC-C7D94370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401-5316-4F3A-A54B-412ED776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92B-6DB6-41B9-A701-B1D4780A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91A-9412-4FDC-856D-0AA4AA92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5139-0B68-4403-8F10-485E7743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759-2248-423B-A8E9-9D34DD87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D13-D56E-4F94-926D-41CFE03F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FE1-868B-466E-A25C-3904153D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13F-A834-4424-A973-AD183105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89B-A059-43DA-98C3-6ED12EB2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6A94-1DE2-4FAC-AE3B-60BB3ABC5663}" type="slidenum"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1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1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fafd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1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5" marL="2000160" indent="-171360">
              <a:spcBef>
                <a:spcPts val="3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1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6" marL="2000160" indent="-171360">
              <a:spcBef>
                <a:spcPts val="3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1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93640" y="266760"/>
            <a:ext cx="7804080" cy="6146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03680" y="2387160"/>
            <a:ext cx="9372600" cy="2210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afd00"/>
                </a:solidFill>
                <a:latin typeface="Times New Roman"/>
              </a:rPr>
              <a:t>Plant Propagation</a:t>
            </a:r>
            <a:endParaRPr b="1" lang="en-US" sz="8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64960" y="564840"/>
            <a:ext cx="7188120" cy="106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Grafted and budded plants...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65400" y="1860480"/>
            <a:ext cx="562284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368440"/>
            <a:ext cx="7223040" cy="441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ft/bud Typ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ppl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hip, T-bud, cleft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nifer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ide vene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ecan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atch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os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-bud (shield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grap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odified wedg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7400" y="196920"/>
            <a:ext cx="909324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Layering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5520" y="1415880"/>
            <a:ext cx="763092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2760" y="2736720"/>
            <a:ext cx="8394480" cy="984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43000"/>
          </a:bodyPr>
          <a:p>
            <a:pPr marL="98280" indent="-98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ir layering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- interrupt cambium and cover wound with moistened medium.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Ficus elastica, Magnolia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8280" indent="-98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ple layering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- low hanging branch covered with soil (with or without wounding) - many shrub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8280" indent="-98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p layering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- tips of plants (brambles) at certain times of year (rat-tail condition) develop roots where they touch the soil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Blackberries, raspberrie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8280" indent="-98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und layering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- soil mounded to cover base of specially pruned young tree (also referred to as stool layering)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Apple rootstocks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5520" y="1568520"/>
            <a:ext cx="7562880" cy="1092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yering involves inducing roots on an intact (or nearly so) plant .”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601" b="5611"/>
          <a:stretch/>
        </p:blipFill>
        <p:spPr>
          <a:xfrm>
            <a:off x="1373040" y="146160"/>
            <a:ext cx="3186360" cy="2882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0" r="0" b="4373"/>
          <a:stretch/>
        </p:blipFill>
        <p:spPr>
          <a:xfrm>
            <a:off x="4729320" y="114480"/>
            <a:ext cx="3195360" cy="291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rcRect l="0" t="0" r="5789" b="3952"/>
          <a:stretch/>
        </p:blipFill>
        <p:spPr>
          <a:xfrm>
            <a:off x="1355760" y="3772080"/>
            <a:ext cx="3206880" cy="293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734000" y="3809880"/>
            <a:ext cx="3208320" cy="2863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92160" y="2673360"/>
            <a:ext cx="4197240" cy="1403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</a:rPr>
              <a:t>Air Layering</a:t>
            </a:r>
            <a:endParaRPr b="1" lang="en-US" sz="5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44800" y="539640"/>
            <a:ext cx="5010120" cy="5974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pecialized Structur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ified Stem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ulb, corm, tuber, rhizom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seudobulb, runn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ified Root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uberous root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2362320"/>
            <a:ext cx="374832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2889" r="47524" b="0"/>
          <a:stretch/>
        </p:blipFill>
        <p:spPr>
          <a:xfrm>
            <a:off x="146160" y="368280"/>
            <a:ext cx="4095720" cy="5969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5000" y="634680"/>
            <a:ext cx="8928000" cy="110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Propagation by specialized structures...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1739880"/>
            <a:ext cx="859788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2320" y="1943280"/>
            <a:ext cx="8061480" cy="5060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ulip, onion, Easter lily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ulb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otato, Jerusalem artichoke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ub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Iri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, lily-of-the valley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hizom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Gladiolu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Crocu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rm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rawberry, 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Ajuga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unner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Dahlia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, sweet potato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uberous root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7640" y="380880"/>
            <a:ext cx="6095880" cy="1067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pomixis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6680" y="1600200"/>
            <a:ext cx="828180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5720" y="4330800"/>
            <a:ext cx="7961400" cy="123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he development of an embryo within a seed or flowering structure from a source other than the egg, resulting in the formation of an embryo (sometimes in addition to the sexual embryo)  that is a clone of the maternal parent.  Examples include polyembryony in citrus and crabapples, and the formation of bulbils in garlic.”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5080" y="1701720"/>
            <a:ext cx="8896320" cy="1181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 exception to the rule of nonclonal embryony.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7160" y="146160"/>
            <a:ext cx="909288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Micropropagation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289160"/>
            <a:ext cx="826128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520" y="2768400"/>
            <a:ext cx="9296640" cy="81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9000"/>
          </a:bodyPr>
          <a:p>
            <a:pPr marL="66240" indent="-662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icropropagation is rapid, continuous, and efficien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6240" indent="-662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pecialized equipment, facilities, and technically trained personnel are required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6240" indent="-662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eps can be taken to obtain and maintain certified pest-free plant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6240" indent="-662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ost effective if large numbers of a given clone are produced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6240" indent="-662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Widely used for orchids, ferns, many interior foliage plants, rootstocks, etc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000" y="1492200"/>
            <a:ext cx="7564320" cy="1092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cropropagation has many synonyms - tissue culture, mass propagation, in vitro culture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lon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080" y="216000"/>
            <a:ext cx="909324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Plants amenable to micropropagation...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6360" y="1378080"/>
            <a:ext cx="862164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743680" cy="85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1000"/>
          </a:bodyPr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owering pot plants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Begonia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, African violets, orchid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ior foliage plant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ferns,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Syngonium, Ficus,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Diffenbachia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ody ornamental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red maples,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Rhododendron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Nandina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est tre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Poplar, birch, loblolly pine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uit tre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apple, cherry, pear (many rootstocks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getable crop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potato, celery, tomato, onion (male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erile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tation crop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banana, date palm, coffee 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92280"/>
            <a:ext cx="777888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ypes of development </a:t>
            </a: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in vitro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8320" y="2006640"/>
            <a:ext cx="763128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9560" y="2431800"/>
            <a:ext cx="8515440" cy="1003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30000"/>
          </a:bodyPr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rolifera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xillary bud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from shoot tip culture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ifferentia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entitious shoot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from leaves, stems, or root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ormation and prolifera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atic embryo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ed germination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- orchid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evelopment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ploid plant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from anthers or ovule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rotoplast fusion a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atic hybrid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developmen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165240"/>
            <a:ext cx="909288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ropagation by seeds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360" y="1117440"/>
            <a:ext cx="812808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7760" y="3174840"/>
            <a:ext cx="821052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50000"/>
          </a:bodyPr>
          <a:p>
            <a:pPr marL="114120" indent="-1141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eeds are widely available, inexpensive, and easy to handle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114120" indent="-1141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Hybrid seeds are more expensive, but may have production benefits that offset the cos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114120" indent="-1141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arge scale agriculture (including vegetable crop production) is dependent upon seed propagation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114120" indent="-1141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eeds (especially seeds of woody plants) may have complex dormancies that impede germination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6520" y="1644480"/>
            <a:ext cx="7564320" cy="1092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pagation by seeds is the major method by which plants reproduce in nature and one of the most efficient and widely used propagation methods for cultivated crops.”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Hartmann and Kester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20480" y="342720"/>
            <a:ext cx="6095880" cy="106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Plant propagation...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56920" y="2857680"/>
            <a:ext cx="6553080" cy="863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2000"/>
          </a:bodyPr>
          <a:p>
            <a:pPr marL="500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exual methods - seed propagation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00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sexual method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508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ooting cutting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508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ayering; air layering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508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grafting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508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pecialized structures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50840" indent="-50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issue culture; micropropagation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98600" y="1409760"/>
            <a:ext cx="634536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1663560"/>
            <a:ext cx="6433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art and science of multiplying plants by sexual or asexual means.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26840" y="1777680"/>
            <a:ext cx="6095880" cy="106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Asexual propagation...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04960" y="2844720"/>
            <a:ext cx="521496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55640" y="4172040"/>
            <a:ext cx="5961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vegetative reproduction, i.e., multiplication that does not involve the seed cycle - clonal propagation.”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49400" y="4089240"/>
            <a:ext cx="433548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17320" y="1244520"/>
            <a:ext cx="6095880" cy="1067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Clone...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95440" y="2311560"/>
            <a:ext cx="571176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89240" y="3193920"/>
            <a:ext cx="6740280" cy="1943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A genetically identical assemblage of individuals produced from a plant entirely by vegetative means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4" marL="1828800" algn="r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Hartmann and Kester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480" y="717480"/>
            <a:ext cx="7188120" cy="1067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Benefits of clonal propagation...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600" y="1784520"/>
            <a:ext cx="780732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4600" y="2241360"/>
            <a:ext cx="8572320" cy="85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5000"/>
          </a:bodyPr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ome plants produce few (if any) viable seed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onal progeny are highly uniform in all character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Outcrossing plants produce highly variable progeny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lants may have extended juvenile period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oning allows for combining genotypes in one plan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6880" indent="-56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eeds may have lengthy and complex dormancie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4520" y="240840"/>
            <a:ext cx="7188120" cy="96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Cutting propagation...</a:t>
            </a:r>
            <a:endParaRPr b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54080" y="1308240"/>
            <a:ext cx="670572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33280" y="1689120"/>
            <a:ext cx="7543800" cy="83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18000"/>
          </a:bodyPr>
          <a:p>
            <a:pPr marL="4104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utting capable of regenerating roots (or shoots) from adventitious meristem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uttings defined by size and location on parent plant: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2312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em tip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2312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nodal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2312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oot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2312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eaf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uttings also defined by condition of growth: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23120" indent="-4104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oftwood, semihardwood, hardwood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9093240" cy="1117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onditions required for rooting cuttings...</a:t>
            </a:r>
            <a:endParaRPr b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79600"/>
            <a:ext cx="740556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0120" y="1860120"/>
            <a:ext cx="7543800" cy="838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1000"/>
          </a:bodyPr>
          <a:p>
            <a:pPr marL="4788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Hardwood and root cuttings require well drained medium, but little moisture control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eafy cuttings require high humidity to prevent excessive dehydration: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4400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intermittent mist system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4400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oly tents or cold frames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4400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og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edium into which cuttings are stuck must be disease free, well drained, and ligh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7880" indent="-478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uxin application now standard treatment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8520" y="596880"/>
            <a:ext cx="8026200" cy="1085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Examples of cutting propagation...</a:t>
            </a:r>
            <a:endParaRPr b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2240" y="1911240"/>
            <a:ext cx="775836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1520" y="2343240"/>
            <a:ext cx="8251560" cy="37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tting Type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frican violet, begonia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eaf cutting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any woody shrub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em tip cuttings (softwood)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ramble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oot cutting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Willow, poplars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ormant hardwood cuttings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a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304920"/>
            <a:ext cx="909324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Grafting and budding...</a:t>
            </a:r>
            <a:endParaRPr b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7800" y="1523880"/>
            <a:ext cx="7631280" cy="0"/>
          </a:xfrm>
          <a:prstGeom prst="line">
            <a:avLst/>
          </a:prstGeom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2600" y="3174840"/>
            <a:ext cx="8889840" cy="81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24000"/>
          </a:bodyPr>
          <a:p>
            <a:pPr marL="547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an graft scion cultivar onto size controlling rootstock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any difficult to root plants are graft compatible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Grafting defined by season and type of tissue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45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budding (T-budding, inverted T, patch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45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wedge, veneer, whip and tongue, cleft, etc.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cion cultivar may be changed on mature trees (top working)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6680" y="1746360"/>
            <a:ext cx="7562880" cy="1092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vascular cambium can regenerate the vascular connections between the scion and rootstock resulting in a complete plant composed of more than one genotype.”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0T08:32:49Z</dcterms:created>
  <dc:creator>Horticultural Sciences</dc:creator>
  <dc:description/>
  <cp:keywords/>
  <dc:language>en-US</dc:language>
  <cp:lastModifiedBy>Lou E. Riesenberg</cp:lastModifiedBy>
  <dcterms:modified xsi:type="dcterms:W3CDTF">2007-10-29T22:45:31Z</dcterms:modified>
  <cp:revision>3</cp:revision>
  <dc:subject/>
  <dc:title>Plant Propagation</dc:title>
</cp:coreProperties>
</file>