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A44-C248-43F5-9CE6-8ADEDBF8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0F2-BB5A-4A20-9D53-BB1E9EB1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737-3865-4E3B-A381-762EBF20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BB1-F61A-4A7C-8A82-6E492717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FA0-2AA9-444A-B8FC-B64F5736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148-A8A0-4A82-946A-4D68D57B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0B3-51C2-4ADF-83A0-18067B00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09C-19C0-4E96-95FF-DC8EDDF1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4A6-5F10-4198-B707-400DFEC6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F1C-2CE1-46A1-ACAE-52EC0EB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A56-953F-424D-9E8F-FB1A451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A70-C7B8-430B-8B12-9E9584AF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A53D-6356-4810-9CB0-8BC44F876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Your Colo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mann Personality Profil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ds (Motive: Pow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ength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onf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rod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lways want it their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workahol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fficulty dealing with 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admit wr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Red Persona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for intelligence and in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re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lues (Intimac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oted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ersonal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ssio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u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(of self and ot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fectio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 everything personally (easily hu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right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n over-commit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Blu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eel underst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apprec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nnect with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time and conver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9400"/>
                </a:solidFill>
                <a:latin typeface="Times New Roman"/>
              </a:rPr>
              <a:t>Yellow (Motive: Fu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Embrace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Good he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Open to adven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Communication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husi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Easily b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Out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Yellow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look good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ed to make own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tes (motive: 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epting of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li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sy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medi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ci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ently stub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cks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ngs on ow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reveal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Wh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lot of de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3:45:29Z</dcterms:created>
  <dc:creator>District User</dc:creator>
  <dc:description/>
  <dc:language>en-US</dc:language>
  <cp:lastModifiedBy>District User</cp:lastModifiedBy>
  <dcterms:modified xsi:type="dcterms:W3CDTF">2010-09-20T15:34:36Z</dcterms:modified>
  <cp:revision>4</cp:revision>
  <dc:subject/>
  <dc:title>Reds (Motive: Power)</dc:title>
</cp:coreProperties>
</file>