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7077075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247680"/>
            <a:ext cx="7620120" cy="104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762012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99840" y="3988440"/>
            <a:ext cx="762012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247680"/>
            <a:ext cx="7620120" cy="104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37184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04760" y="1600200"/>
            <a:ext cx="37184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599840" y="3988440"/>
            <a:ext cx="37184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04760" y="3988440"/>
            <a:ext cx="37184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247680"/>
            <a:ext cx="7620120" cy="104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176360" y="160020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52880" y="160020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599840" y="398844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176360" y="398844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52880" y="398844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99840" y="247680"/>
            <a:ext cx="7620120" cy="104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599840" y="160020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99840" y="247680"/>
            <a:ext cx="7620120" cy="104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99840" y="247680"/>
            <a:ext cx="7620120" cy="104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37184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504760" y="1600200"/>
            <a:ext cx="37184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99840" y="247680"/>
            <a:ext cx="7620120" cy="104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599840" y="247680"/>
            <a:ext cx="7620120" cy="48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99840" y="247680"/>
            <a:ext cx="7620120" cy="104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37184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504760" y="1600200"/>
            <a:ext cx="37184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99840" y="3988440"/>
            <a:ext cx="37184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247680"/>
            <a:ext cx="7620120" cy="104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599840" y="160020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99840" y="247680"/>
            <a:ext cx="7620120" cy="104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37184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504760" y="1600200"/>
            <a:ext cx="37184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504760" y="3988440"/>
            <a:ext cx="37184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99840" y="247680"/>
            <a:ext cx="7620120" cy="104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37184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504760" y="1600200"/>
            <a:ext cx="37184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599840" y="3988440"/>
            <a:ext cx="762012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99840" y="247680"/>
            <a:ext cx="7620120" cy="104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762012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599840" y="3988440"/>
            <a:ext cx="762012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247680"/>
            <a:ext cx="7620120" cy="104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37184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504760" y="1600200"/>
            <a:ext cx="37184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599840" y="3988440"/>
            <a:ext cx="37184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504760" y="3988440"/>
            <a:ext cx="37184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99840" y="247680"/>
            <a:ext cx="7620120" cy="104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176360" y="160020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752880" y="160020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599840" y="398844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4176360" y="398844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752880" y="398844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247680"/>
            <a:ext cx="7620120" cy="104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247680"/>
            <a:ext cx="7620120" cy="104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37184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04760" y="1600200"/>
            <a:ext cx="37184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247680"/>
            <a:ext cx="7620120" cy="104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247680"/>
            <a:ext cx="7620120" cy="48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247680"/>
            <a:ext cx="7620120" cy="104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37184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04760" y="1600200"/>
            <a:ext cx="37184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599840" y="3988440"/>
            <a:ext cx="37184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247680"/>
            <a:ext cx="7620120" cy="104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37184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04760" y="1600200"/>
            <a:ext cx="37184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04760" y="3988440"/>
            <a:ext cx="37184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247680"/>
            <a:ext cx="7620120" cy="104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37184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04760" y="1600200"/>
            <a:ext cx="37184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599840" y="3988440"/>
            <a:ext cx="762012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99840" y="247680"/>
            <a:ext cx="7620120" cy="104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99840" y="160020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8915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00"/>
                </a:solidFill>
                <a:latin typeface="Lucida Calligraphy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Lucida Calligraphy"/>
              </a:rPr>
              <a:t>Life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Knowledge</a:t>
            </a:r>
            <a:r>
              <a:rPr b="0" lang="en-US" sz="1400" spc="-1" strike="noStrike">
                <a:solidFill>
                  <a:srgbClr val="ff0000"/>
                </a:solidFill>
                <a:latin typeface="Lucida Calligraphy"/>
              </a:rPr>
              <a:t>®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-76320" y="-1752480"/>
            <a:ext cx="800280" cy="6400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108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10800000"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19720" y="1981080"/>
            <a:ext cx="799200" cy="6400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8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800000"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49120" y="0"/>
            <a:ext cx="1067040" cy="68565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6000000">
            <a:off x="799560" y="590400"/>
            <a:ext cx="723960" cy="571680"/>
          </a:xfrm>
          <a:prstGeom prst="triangle">
            <a:avLst>
              <a:gd name="adj" fmla="val 49995"/>
            </a:avLst>
          </a:prstGeom>
          <a:gradFill rotWithShape="0">
            <a:gsLst>
              <a:gs pos="0">
                <a:srgbClr val="ff0000"/>
              </a:gs>
              <a:gs pos="100000">
                <a:srgbClr val="ffff00"/>
              </a:gs>
            </a:gsLst>
            <a:lin ang="10800000"/>
          </a:gradFill>
          <a:ln w="0">
            <a:noFill/>
          </a:ln>
          <a:effectLst>
            <a:outerShdw dist="76320" dir="5400000" blurRad="0" rotWithShape="0">
              <a:srgbClr val="00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 rot="6000000">
            <a:off x="456480" y="533160"/>
            <a:ext cx="723960" cy="571320"/>
          </a:xfrm>
          <a:prstGeom prst="triangle">
            <a:avLst>
              <a:gd name="adj" fmla="val 49995"/>
            </a:avLst>
          </a:prstGeom>
          <a:gradFill rotWithShape="0">
            <a:gsLst>
              <a:gs pos="0">
                <a:srgbClr val="ff0000"/>
              </a:gs>
              <a:gs pos="100000">
                <a:srgbClr val="ffff00"/>
              </a:gs>
            </a:gsLst>
            <a:lin ang="10800000"/>
          </a:gradFill>
          <a:ln w="0">
            <a:noFill/>
          </a:ln>
          <a:effectLst>
            <a:outerShdw dist="76320" dir="5400000" blurRad="0" rotWithShape="0">
              <a:srgbClr val="336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99840" y="1676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2"/>
          </p:nvPr>
        </p:nvSpPr>
        <p:spPr>
          <a:xfrm>
            <a:off x="-360" y="6249600"/>
            <a:ext cx="883908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00"/>
                </a:solidFill>
                <a:latin typeface="Lucida Calligraphy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Lucida Calligraphy"/>
              </a:rPr>
              <a:t>Life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Knowledge</a:t>
            </a:r>
            <a:r>
              <a:rPr b="0" lang="en-US" sz="1400" spc="-1" strike="noStrike">
                <a:solidFill>
                  <a:srgbClr val="ff0000"/>
                </a:solidFill>
                <a:latin typeface="Lucida Calligraphy"/>
              </a:rPr>
              <a:t>®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-76320" y="-1752480"/>
            <a:ext cx="800280" cy="6400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108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10800000"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19720" y="1981080"/>
            <a:ext cx="799200" cy="6400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8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800000"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49120" y="0"/>
            <a:ext cx="1067040" cy="68565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00000">
            <a:off x="875520" y="2095200"/>
            <a:ext cx="723960" cy="571320"/>
          </a:xfrm>
          <a:prstGeom prst="triangle">
            <a:avLst>
              <a:gd name="adj" fmla="val 49995"/>
            </a:avLst>
          </a:prstGeom>
          <a:gradFill rotWithShape="0">
            <a:gsLst>
              <a:gs pos="0">
                <a:srgbClr val="ff0000"/>
              </a:gs>
              <a:gs pos="100000">
                <a:srgbClr val="ffff00"/>
              </a:gs>
            </a:gsLst>
            <a:lin ang="10800000"/>
          </a:gradFill>
          <a:ln w="0">
            <a:noFill/>
          </a:ln>
          <a:effectLst>
            <a:outerShdw dist="76320" dir="5400000" blurRad="0" rotWithShape="0">
              <a:srgbClr val="00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6000000">
            <a:off x="532800" y="2037960"/>
            <a:ext cx="723960" cy="571680"/>
          </a:xfrm>
          <a:prstGeom prst="triangle">
            <a:avLst>
              <a:gd name="adj" fmla="val 49995"/>
            </a:avLst>
          </a:prstGeom>
          <a:gradFill rotWithShape="0">
            <a:gsLst>
              <a:gs pos="0">
                <a:srgbClr val="ff0000"/>
              </a:gs>
              <a:gs pos="100000">
                <a:srgbClr val="ffff00"/>
              </a:gs>
            </a:gsLst>
            <a:lin ang="10800000"/>
          </a:gradFill>
          <a:ln w="0">
            <a:noFill/>
          </a:ln>
          <a:effectLst>
            <a:outerShdw dist="76320" dir="5400000" blurRad="0" rotWithShape="0">
              <a:srgbClr val="336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228600"/>
            <a:ext cx="7620120" cy="104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Six Non-verbal Habits of an Effective Listener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47920" y="1142640"/>
            <a:ext cx="723888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250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mile- 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to show you’re open-minded &amp; make the speaker at ease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pen Posture- 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face speaker without crossing arms or legs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ocus- 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give full attention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ilt Forward- 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lean forward to show interest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ye Contact- 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lets the speaker know you’re paying attention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od- 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lets the speaker know you heard what was said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9680" y="6477120"/>
            <a:ext cx="107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S 39 TM A </a:t>
            </a:r>
            <a:endParaRPr b="0" lang="en-US" sz="12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99840" y="247680"/>
            <a:ext cx="7620120" cy="104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Paraphrasing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2320" y="1980720"/>
            <a:ext cx="533376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6699"/>
                </a:solidFill>
                <a:uFillTx/>
                <a:latin typeface="Arial"/>
              </a:rPr>
              <a:t>Benefits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457200" indent="-457200">
              <a:spcBef>
                <a:spcPts val="2625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Increases the accuracy of information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457200" indent="-457200">
              <a:spcBef>
                <a:spcPts val="2625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Helps to build relationships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457200" indent="-457200">
              <a:spcBef>
                <a:spcPts val="2625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Confirms your understanding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8960" y="647712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S 39 TM B1 </a:t>
            </a:r>
            <a:endParaRPr b="0" lang="en-US" sz="12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99840" y="247680"/>
            <a:ext cx="7620120" cy="104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Paraphrasing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52480" y="1371240"/>
            <a:ext cx="68580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6699"/>
                </a:solidFill>
                <a:uFillTx/>
                <a:latin typeface="Arial"/>
              </a:rPr>
              <a:t>Key ideas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Don’t be critical or judgmental of speaker. 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Repeat the speaker’s message in your own words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Express your opinion </a:t>
            </a:r>
            <a:r>
              <a:rPr b="1" i="1" lang="en-US" sz="2800" spc="-1" strike="noStrike" u="sng">
                <a:solidFill>
                  <a:srgbClr val="336699"/>
                </a:solidFill>
                <a:uFillTx/>
                <a:latin typeface="Arial"/>
              </a:rPr>
              <a:t>after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 you’ve confirmed you heard the message correctly. 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960" y="647712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S 39 TM B2 </a:t>
            </a:r>
            <a:endParaRPr b="0" lang="en-US" sz="12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99840" y="247680"/>
            <a:ext cx="7620120" cy="104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Paraphrasing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362320" y="1980720"/>
            <a:ext cx="533376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6699"/>
                </a:solidFill>
                <a:uFillTx/>
                <a:latin typeface="Arial"/>
              </a:rPr>
              <a:t>Sample phrases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So what you mean is …”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You’re saying …”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If I understand you correctly, …”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28960" y="647712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S 39 TM B3 </a:t>
            </a:r>
            <a:endParaRPr b="0" lang="en-US" sz="12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5T06:13:37Z</dcterms:created>
  <dc:creator>Mark Reardon</dc:creator>
  <dc:description/>
  <dc:language>en-US</dc:language>
  <cp:lastModifiedBy>cowman</cp:lastModifiedBy>
  <dcterms:modified xsi:type="dcterms:W3CDTF">2008-01-21T21:42:40Z</dcterms:modified>
  <cp:revision>1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