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8DF-DD8A-48A3-944F-4D426E77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3E4-BECE-43CA-BCFA-6D4D9D8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BAB-44B1-4506-95E0-D1F3CCE7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53A-39A2-47ED-A93C-2AD3E04F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CFB-7915-404D-8403-C5ADE591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B13E-1B72-4104-92A4-7C43F8F0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71A-0412-41D6-A00C-83249E6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C615-2874-47F4-945B-D43F2902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872-B02D-4CE9-ABEF-919F886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B341-9147-440C-928F-78F75BD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31A-8AE7-4BF9-9B72-2C6A02D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F21-5313-4488-A342-575EE8A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00E7-34E3-4873-B0CA-E63ED540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6ED-6B45-496F-B14F-6B6681D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338C-D8D9-4F05-93EE-872B14B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4006-5DF6-4837-9246-5A20EDE0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58BD-8340-4F8A-8A83-3CB99518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B16-45C1-4887-BBFF-AAAE07D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B51-7E28-46A7-AB63-5B25C06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FF2-D57F-41AC-9665-B0008FFA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E8D-63CD-4B26-9027-370595EE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2DC-0BC8-40CD-8FBB-C850720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399-552E-493D-AFB5-D01E466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23E-367F-45FF-AE76-D650B3E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7C54-26F4-4F93-96DC-5B0C0952B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A75-9C62-44EA-B345-3CD399589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be agriculturally/Natural Resources related or FFA rel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—4-6 minutes in leng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hand in manuscript that is neatly typed or neatly hand written at time of deliv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d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G Time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ovides support to topic.  This is the part of the speech that is the longest an provides information about the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onclu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 ally a paragraph long; summarize speech; a story, quote, etc. are accep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6.  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spee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ntertaining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Persuasiv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7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Prep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xtemporaneou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Impromp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WE WILL BE GIVING PERSUASIVE TYPE SPEECHES THAT ARE PREPARED!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e grade on the speech will be determined by the following crite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 of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 (Neatness, if directions are followed, proper spelling, proper punctuation and completeness.)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Ges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V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.  Stage Pres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.  Power of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ach student will answer at least three questions after student presents speech to the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QUIREMENT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Title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4648320" y="2209680"/>
            <a:ext cx="3047760" cy="419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irst page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First page of speech should not have a page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on each sid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Second page of speech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numbered pag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top, bottom, and same on both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hird page and 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ame as page tw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ferences and Bibliograph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a separate page and should be the last page of your speech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is page should not be numbere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You must have at least three written 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rgin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= 1 i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ttom= 1 inch     both sides= 1 i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ge num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efer at the bottom of the page and 1/2 inch from the bottom and also in the c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ate to be giv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will choose date and must give on chosen d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can change date if another student is willing to trade.  This must be determined at least one day in advance and the instructor must know a day prior to the day to be giv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Failure to give speech on chosen date will result in 25% dock in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Those students who choose to give speech early will benefit in grade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ally a paragraph long;  introduces subject; avoid "Did you know" questions;  use creative approach;  a story, analogy, etc. are acceptable; use attention getter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14:10Z</dcterms:created>
  <dc:creator>District User</dc:creator>
  <dc:description/>
  <dc:language>en-US</dc:language>
  <cp:lastModifiedBy>District User</cp:lastModifiedBy>
  <dcterms:modified xsi:type="dcterms:W3CDTF">2010-11-16T15:10:16Z</dcterms:modified>
  <cp:revision>5</cp:revision>
  <dc:subject/>
  <dc:title>PowerPoint Presentation</dc:title>
</cp:coreProperties>
</file>