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779-5387-4AEB-8B3A-3C9E03D3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99C-1417-4185-B953-4467A90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CE1-9DBC-4872-A3AC-C0C7D429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8CB-7E2B-4FF2-8331-84E9A8C4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7D69-4978-4B3D-AF63-7813ADB2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0036-ADF0-44E9-B3F2-CAD92B0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4F59-7015-400D-9E99-47D3C14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14A-32C8-4A55-9016-6D0BFED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324-2138-493D-9539-55124945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1818-AE6C-42B0-8233-BEA8882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491F-02A1-4BDB-A5B3-709FCE0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91A-6F38-468C-9134-05C6CF4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66E3-FD63-46B1-B66F-C0ED906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79F-E532-442E-ACC2-7A8890F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8164-66B5-4F52-A4FB-18D7591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A434-C575-48EF-AA57-F34C48A3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B4D-E44D-498A-9FA9-DC7B19E8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431-3124-475E-86A8-602950E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EB5-83D1-4749-A37B-71B6C9A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860-6AB2-44B4-85CD-9F7C7080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313-E014-4981-B813-63983F3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371-3A61-4565-812A-59BA2CDF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374-B425-46D3-A282-C3C8B0A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2A4-E0ED-4226-ABD9-9381851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131-3E32-40C5-885B-3457BB97D3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19080"/>
            <a:ext cx="213840" cy="6877080"/>
            <a:chOff x="0" y="-19080"/>
            <a:chExt cx="213840" cy="6877080"/>
          </a:xfrm>
        </p:grpSpPr>
        <p:sp>
          <p:nvSpPr>
            <p:cNvPr id="7" name=""/>
            <p:cNvSpPr/>
            <p:nvPr/>
          </p:nvSpPr>
          <p:spPr>
            <a:xfrm rot="5400000">
              <a:off x="-1039320" y="102024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-1039320" y="331272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-1038960" y="5604840"/>
              <a:ext cx="2292120" cy="213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168C-0C08-4CAD-B706-4EB57709F8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Responding to </a:t>
            </a:r>
            <a:br>
              <a:rPr sz="5800"/>
            </a:b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Audience Feedback 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How do I communicate my thoughts and ideas to others?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17220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wo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30320" y="643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efinition of Feedback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inions and reactions—communication—we receive from an audience (an audience can be an individual or a group of people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ategories of Feedback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feed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lls the communicator to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he type of communication and subj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feed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lls the communicator to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he communication type or subj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eedback Form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305560" cy="1447560"/>
        </p:xfrm>
        <a:graphic>
          <a:graphicData uri="http://schemas.openxmlformats.org/drawingml/2006/table">
            <a:tbl>
              <a:tblPr/>
              <a:tblGrid>
                <a:gridCol w="1955880"/>
                <a:gridCol w="3207960"/>
                <a:gridCol w="314172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t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erbal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29680" y="6477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3276720"/>
          <a:ext cx="8305560" cy="3025800"/>
        </p:xfrm>
        <a:graphic>
          <a:graphicData uri="http://schemas.openxmlformats.org/drawingml/2006/table">
            <a:tbl>
              <a:tblPr/>
              <a:tblGrid>
                <a:gridCol w="2463840"/>
                <a:gridCol w="584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e Feed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I would change my commun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t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erbal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19:10Z</dcterms:created>
  <dc:creator>Mark Reardon</dc:creator>
  <dc:description/>
  <dc:language>en-US</dc:language>
  <cp:lastModifiedBy>District User</cp:lastModifiedBy>
  <dcterms:modified xsi:type="dcterms:W3CDTF">2008-04-07T12:30:4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