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1FB-1D3C-42ED-BA6C-D22334F0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861-FAE3-4CAE-B81A-7FCA3FE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3EE-0656-45C7-91DC-D9BB289F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F11-2D25-46C3-A33D-C0C9F537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740-6E84-4818-8707-8AE7A29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D216-2F50-4626-B312-F73497DE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893-2709-458D-9A6E-A60F8EC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82E5-27F6-4E79-BAEF-52E8056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D1A9-490E-4A61-9FDA-3C51C1C4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5A45-C4CA-4227-9164-6753D52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CB8-FE56-48E7-A0FE-D0A2030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222-79E3-484F-80D5-603534B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ECF-6CC7-43A8-9A3C-DF16F6D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DC8C-4D7D-42B6-962F-561B3F7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68D0-C9F8-4D88-8961-9986AB9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8F45-B684-4D51-9904-BB6A7816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857-9414-45AD-B470-9FD16F3D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2AA-7B7F-4ECF-98D1-2DFD211F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8C0-E9AA-4D18-BCA5-464170A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771-7344-40F9-A522-800FE36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4CE-EE84-43FC-93DA-1C23AFA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7F1-9F84-4B4E-979D-3D393E3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928-E2FD-480D-BC4B-4D29AD56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950-39FE-4A63-B48F-BD3480C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259-42BA-447D-947B-DE5E8E6263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8853-8354-4945-A213-FE1D8C2D19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nswering Questions from Others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uses of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rific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eds more information to understand topic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more information because they like topic or have previous experienc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knowled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know how much you know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agreem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see if you are consistent with your informa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to Answering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sten firs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sai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s there non-verbal communica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yze what was sai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nformation does the person want to know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continued…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struct your though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s the best way to answer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give the information they wan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deal with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m I being truthful with my answer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ive the answ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difference in answering questions between individuals and groups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individua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ne-word answers may be used, if appropri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maintain eye contact with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ak at a natural volum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group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use complete sente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repeat the question within the answ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use eye contact with entire group, not just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speak more loudly than norm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26:26Z</dcterms:created>
  <dc:creator>Mark Reardon</dc:creator>
  <dc:description/>
  <dc:language>en-US</dc:language>
  <cp:lastModifiedBy>District User</cp:lastModifiedBy>
  <dcterms:modified xsi:type="dcterms:W3CDTF">2008-04-07T12:33:1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