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61D-5A1B-41CA-B657-AF14AFF7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ACF-E058-4376-AB2C-EE3D204A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8CC-6D3F-494B-8F96-B9A5BF67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F83-2B73-4CE5-8624-F6F68BED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7CF3-68D7-49F2-8E13-DA62AC71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B4E3-FF09-4466-AF5B-6D0EA6AE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A488-C896-4838-802D-918EF047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3824-D0C9-4811-AE12-E19D9686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A2BD-F7CD-4E19-845A-B328967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41C9-749B-4D23-A3CB-8A6F4F4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6F21-7B67-4B4A-BC96-8843263F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59B-40E9-4938-9E4D-18474F5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4E6F-B839-4FF1-8DB8-3139500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B80-E487-4806-8693-EF82E2AE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543B-1247-4AC9-AFB4-C6EF3379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15EA-9287-4F55-AFC5-8612AA14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D9AB-E46A-4289-A629-D77661FE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F03-DEBD-42C1-A223-438BD284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587-AA41-4822-BAE5-377A2019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495-EE1C-492D-B789-314B11F1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F18-9673-4BC5-B573-EDFAFFDE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9EC-260F-4DFE-B142-DF76DE8C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792-65F6-48A0-A3EA-7FA55891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712-9AEB-4167-8C24-FA2B7F38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D14-0671-4DC8-928A-B1E284A4C9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2B6C-516D-4FB6-A902-7EAC6ED6EC3A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Planning and Implementing a Service Project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Understanding Service Leadership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324480" y="6232680"/>
            <a:ext cx="2743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Leadership Revision Committee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May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Identify the components of a service plan- the organized components and strategies for executing a service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Choose a service project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Students will develop a service project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Students will implement a service project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Name of the project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9e6"/>
                </a:solidFill>
                <a:latin typeface="Arial"/>
              </a:rPr>
              <a:t>Community Rake Day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will be accomplished to meet the identified need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Learning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do I hope to learn or gain from this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ools or resourc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materials and human power are needed for this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Budge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How much will this project cost and how will it be funded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trategies or procedur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o will do what—delegating, advertising, recruiting, set-up, cleanup, etc.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en will things get done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Reflection question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do I want to remember to ask myself after the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Project Workshee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Learning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ools or resourc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Budge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trategies or procedur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Reflection questions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5:48:24Z</dcterms:created>
  <dc:creator>Schumaker William</dc:creator>
  <dc:description/>
  <dc:language>en-US</dc:language>
  <cp:lastModifiedBy>I.T. Department</cp:lastModifiedBy>
  <dcterms:modified xsi:type="dcterms:W3CDTF">2012-04-03T18:49:51Z</dcterms:modified>
  <cp:revision>2</cp:revision>
  <dc:subject/>
  <dc:title>Planning and Implementing a Service Project</dc:title>
</cp:coreProperties>
</file>