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7636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288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9984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7636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288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247680"/>
            <a:ext cx="7620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7636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5288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9984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7636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75288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247680"/>
            <a:ext cx="7620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Lucida Calligraph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Lif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nowledge</a:t>
            </a: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6320" y="-1752480"/>
            <a:ext cx="8002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9720" y="19810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9120" y="0"/>
            <a:ext cx="1067040" cy="685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6000000">
            <a:off x="799560" y="590400"/>
            <a:ext cx="723960" cy="5716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6000000">
            <a:off x="456480" y="533160"/>
            <a:ext cx="723960" cy="571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676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-360" y="6249600"/>
            <a:ext cx="883908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Lucida Calligraph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Lif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nowledge</a:t>
            </a: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6320" y="-1752480"/>
            <a:ext cx="8002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720" y="19810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120" y="0"/>
            <a:ext cx="1067040" cy="685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00000">
            <a:off x="875520" y="2095200"/>
            <a:ext cx="723960" cy="571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6000000">
            <a:off x="532800" y="2037960"/>
            <a:ext cx="723960" cy="5716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actors of a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good impression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5640" y="159984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Eye contac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- Look directly at the pers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Friendly and approachabl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Good handshak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Well spoken and can carry a conversation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- Winning versus Whimpy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54 TM A1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actors of a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d impression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Stares at the ground or looks around 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Withdrawn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Difficulty in convers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Inappropriate behavior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- Dressing poorly, sloppy eating, loud voice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54 TM A2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9334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hat is noticed during a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irst impression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?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2320" y="2133360"/>
            <a:ext cx="624816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Smile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Eye contac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Handshak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Ability to carry a convers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Dres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Actions and gestures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320" y="64771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54 TM B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6:13:37Z</dcterms:created>
  <dc:creator>Mark Reardon</dc:creator>
  <dc:description/>
  <dc:language>en-US</dc:language>
  <cp:lastModifiedBy>District User</cp:lastModifiedBy>
  <dcterms:modified xsi:type="dcterms:W3CDTF">2008-01-17T15:52:50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