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IRST IMPRESSION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29718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Beginning Conversa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ctors of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ood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Eye conta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Look directly at the pers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Friendly and approachabl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Good handshak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Well spoken and can carry a conversation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Winning versus Whimp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A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ctors of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d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Stares at the ground or looks around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Withdrawn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Difficulty in convers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Inappropriate behavior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- Dressing poorly, sloppy eating, loud voic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A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9334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is noticed during a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irst impression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?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624816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Smile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Eye conta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Handshak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Ability to carry a convers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Dres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Actions and gestures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54 TM B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ow do we start a conversation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sk a ques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press an opin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ate a fac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ypes of Questions??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pen-Ended Question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t with How, What or Wh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imulate a convers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Need more than one word to answe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ypes of Questions?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ose-Ended Question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rt with who, do, are, when, which, whe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nswered in one wor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oses the door on a convers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District User</cp:lastModifiedBy>
  <dcterms:modified xsi:type="dcterms:W3CDTF">2009-01-22T19:13:49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