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7A2-B57D-444C-B544-8C9F57B1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C5F-194D-472D-9EB8-36CFC8A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FAE-7001-4C05-B25D-71F354FB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D0F-C7C5-4148-9A75-4B78F91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FAE-4262-49F9-B1B8-CDFBD6C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681-13B0-49D2-B342-2C0E0A4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15B-DF55-42E3-944E-8424991B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710-E310-4ACA-9A2B-AE39950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3B0-6A6E-4BA2-9570-EE5C133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60D-1D55-4B0E-936F-2045FC8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7C9-8D6B-4494-A395-7F19A462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2BD-0355-433D-8EA4-71C645BE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43F1-41AF-4DFB-A08C-9BE37D0B80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FA Officer Du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Kyle Cor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L Offic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to have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to meet all the chapter members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lity to memorize their parts for official cerem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National FFA Organization"/>
          <p:cNvPicPr/>
          <p:nvPr/>
        </p:nvPicPr>
        <p:blipFill>
          <a:blip r:embed="rId1"/>
          <a:stretch/>
        </p:blipFill>
        <p:spPr>
          <a:xfrm>
            <a:off x="4784760" y="1371600"/>
            <a:ext cx="384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85840" y="220932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 over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 activities and evaluate the program of activities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the chapter at official functions and in public re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Cj02321720000[1]"/>
          <p:cNvPicPr/>
          <p:nvPr/>
        </p:nvPicPr>
        <p:blipFill>
          <a:blip r:embed="rId1"/>
          <a:stretch/>
        </p:blipFill>
        <p:spPr>
          <a:xfrm>
            <a:off x="457200" y="1371600"/>
            <a:ext cx="3182760" cy="317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8600" y="4800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Rising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ce Pres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ume presidents duties if necess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the program of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e all committee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with president and advisor about go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a chapter resource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MCj0231560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55464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257800" y="5029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p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ret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nd post meeting agen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nd present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program of activities wall up to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retar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on hand for each mee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icial FFA Chapter Secretary's Book including minutes of the previous meet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y of the Program of Activities including all standing and special committe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fficial FFA Ma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ational FFA Student Handbook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ies of the chapter constitution and byla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j0280901"/>
          <p:cNvPicPr/>
          <p:nvPr/>
        </p:nvPicPr>
        <p:blipFill>
          <a:blip r:embed="rId1"/>
          <a:stretch/>
        </p:blipFill>
        <p:spPr>
          <a:xfrm>
            <a:off x="6056280" y="914400"/>
            <a:ext cx="261612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324480" y="510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ear of cor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asur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444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and be in charge of FFA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monthly treasurer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chairman of the “earnings and savings” committ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j0213403"/>
          <p:cNvPicPr/>
          <p:nvPr/>
        </p:nvPicPr>
        <p:blipFill>
          <a:blip r:embed="rId1"/>
          <a:stretch/>
        </p:blipFill>
        <p:spPr>
          <a:xfrm>
            <a:off x="0" y="1295280"/>
            <a:ext cx="4121280" cy="3157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3520" y="4724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Washing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por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harge of public information (radio, newspaper, etc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 a chapter news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the chapter photograp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j0304941"/>
          <p:cNvPicPr/>
          <p:nvPr/>
        </p:nvPicPr>
        <p:blipFill>
          <a:blip r:embed="rId1"/>
          <a:stretch/>
        </p:blipFill>
        <p:spPr>
          <a:xfrm>
            <a:off x="6051600" y="990720"/>
            <a:ext cx="2684520" cy="3954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629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fl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6:31:07Z</dcterms:created>
  <dc:creator>Rex Hamner</dc:creator>
  <dc:description/>
  <dc:language>en-US</dc:language>
  <cp:lastModifiedBy>I.T. Department</cp:lastModifiedBy>
  <dcterms:modified xsi:type="dcterms:W3CDTF">2012-04-02T15:25:41Z</dcterms:modified>
  <cp:revision>3</cp:revision>
  <dc:subject/>
  <dc:title>FFA Officer Du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