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7821-8613-4DEC-8FDA-99B29BD8D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5E88-160D-4080-9901-E3A2D681E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59CF-AF45-4121-84AC-E923D9F2B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F218-28BC-40D8-837A-7C68C2083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8EAFAA-66D3-4737-8D6F-8DC53B49D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EA95F9-A83F-425C-8B52-10DC24CFE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72F75B-EA85-4E12-9FF5-6A2A6AE95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C56EFF-7487-45DC-9FF7-CA79C29F8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2E8A9F-73C0-436C-AB22-E93D8FE5D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6177E2-D68C-47CA-AD80-28CD2CEE7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4EB18B-77CC-49C2-879F-A03DEAA7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B097-8FAB-41C7-8016-55C0C3DD1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8ADC5C-729F-4021-8CCF-3D2ED0BB7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05D1BF-FED5-497C-9B33-C3B89B66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FFA1CC-4EEB-4389-A663-26B249F59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F820C0-CC9C-4460-849A-859CF6FB9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7E2EE7-014F-442E-8D43-2765730B8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402E-B8C9-4118-A885-913CA89C3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9C0D-3539-40F5-B40D-3B56549C6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2445-3563-4FA3-AE61-A778855CE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90D7-1028-4403-9031-E44CA966F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BE73-1CC7-4CD2-9E97-F385796D5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9E55-D69C-4AC4-AB43-F0784340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7C6A-081F-4158-8129-EF116D683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5C24E-B3DA-48B7-9D1A-BF5731F9E2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1D2C3-D721-4984-8CB1-5D92C74C639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5 Degrees an  FFA Member Can Earn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ased on Individual Accomplishment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iscovery Degre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 enrolled in ag cla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ve dues pai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ticipate in at least 1 FFA activ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ve knowledge of ag care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 familiar with FFA Program of Activi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Greenhand Degre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 enrolled in A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ve plans for SAE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arn – Creed, Motto, Salute, Mis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scribe the meaning of FFA Embl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de of Ethi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nowledge of His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hapter Degre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st have received the Greenhand degre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80 hours of ag cla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ticipated in at least 3 chapter activi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rned $150 on SAE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ad group discus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 parliamentary abili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ate Degre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st have Chapter Degre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en a member for 2 yea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 yrs. of ag (360 hrs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arn $1000 in SAEP or work 300 ho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0 parliamentary abili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eech on ag top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rve as chapter officer or a member of a committe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 activities above the chapter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merican Degre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st have State Degre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 yrs. of ag – (540 hour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ve graduated from High Scho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gh Level SAEP – $7,500 invested or earn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cord of outstanding leadershi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” or better grades in H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2T14:24:08Z</dcterms:created>
  <dc:creator>Schumaker William</dc:creator>
  <dc:description/>
  <dc:language>en-US</dc:language>
  <cp:lastModifiedBy>I.T. Department</cp:lastModifiedBy>
  <dcterms:modified xsi:type="dcterms:W3CDTF">2012-04-03T18:28:36Z</dcterms:modified>
  <cp:revision>4</cp:revision>
  <dc:subject/>
  <dc:title>5 Degrees an  FFA Member Can Earn Based on Individual Accomplishments</dc:title>
</cp:coreProperties>
</file>