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2B4-6FE1-4CB2-B4A3-4F31E8C4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460-C147-48E9-AD8B-BEA0FEF5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CF2-A12C-43C8-BC9F-F18ADE5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942-CAA3-41D9-A203-8E0B2FD5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13A-E7D7-4DCE-AF9B-FF9892D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AF8-9D8E-423A-9EE6-A824EDA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4C8-F542-4052-81B4-52CF6D0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C07-3A4B-44E1-BA8E-274D2DF5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D7E-6C0B-4C5F-BD87-95A30A20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D7F-8921-42B4-BD32-AFBA34A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A84-600C-4BC4-979C-4BB121A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63A-FBC1-4B6B-9AE7-6C057C5A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B5FF-D57C-4FD9-8551-4D00E05F3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The FFA Emblem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owl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8600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 knowledge and wis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3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8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is is our FFA emblem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ear it with pride!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Identify six parts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scribe the meaning of each part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Explain the use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cross section of an ear of corn … 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represents our common interest in agri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eagle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1905120"/>
            <a:ext cx="3048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symbolic of the national scop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F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rising sun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124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progress in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agri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plow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990720"/>
            <a:ext cx="47246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...symbolizes lab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nd till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s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56:04Z</dcterms:created>
  <dc:creator>BILSA</dc:creator>
  <dc:description/>
  <dc:language>en-US</dc:language>
  <cp:lastModifiedBy>District User</cp:lastModifiedBy>
  <dcterms:modified xsi:type="dcterms:W3CDTF">2003-09-04T00:49:47Z</dcterms:modified>
  <cp:revision>6</cp:revision>
  <dc:subject/>
  <dc:title>No Slide Title</dc:title>
</cp:coreProperties>
</file>