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0CE-10AF-426B-84EE-0FF8F24A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D48-C3F3-49FB-A366-1FB3471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E9E-1502-4586-9C5F-5422D0C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146-4FA6-4710-8D6A-E633CAAE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D2F-45A3-4D28-ACD6-35AA9749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B03-AEC4-4AB7-B6B2-A4859E7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2B7-2B73-4F0B-9FEF-7BE4A718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969-418F-41F7-82F2-1E333E7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CD7-B211-457C-8223-CF05298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72F-8A5D-41E3-A648-FAAE2C28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C42-6F6E-46B7-8D76-BB3C60D5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7B4-6654-410F-903A-C5A85FA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0202-7CC4-4EA4-BA9E-D30DF9AA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Your Colo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mann Personality Profil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ds (Motive: Pow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onf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o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ways want it their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workahol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fficulty dealing with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admit wr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Red Person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for intelligence and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ues (Intimac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oted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son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ssio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(of self and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fecti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 everything personally (easily hu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ight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 over-commit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Bl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eel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ppre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nnect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time and conver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9400"/>
                </a:solidFill>
                <a:latin typeface="Times New Roman"/>
              </a:rPr>
              <a:t>Yellow (Motive: Fu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Embrace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Good he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Open to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Communicatio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Easily b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Out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Yellow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ook good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to make own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tes (motive: 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epting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i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med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ci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ently stub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cks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ngs on ow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reveal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Wh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lot of de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3:45:29Z</dcterms:created>
  <dc:creator>District User</dc:creator>
  <dc:description/>
  <dc:language>en-US</dc:language>
  <cp:lastModifiedBy>District User</cp:lastModifiedBy>
  <dcterms:modified xsi:type="dcterms:W3CDTF">2010-09-20T15:34:36Z</dcterms:modified>
  <cp:revision>4</cp:revision>
  <dc:subject/>
  <dc:title>Reds (Motive: Power)</dc:title>
</cp:coreProperties>
</file>