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E0E7-EB5C-4AC6-B50E-2CC15B12B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365B-C0BE-4EF9-9C22-CDBC3A24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70E3-7801-40E9-A255-ECD2114F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F12E-B17E-45C9-9E1D-3F9CD182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AFBE-D789-4851-BCA7-2693F594E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D888-568B-4392-8B97-113347CF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8ABD-47D7-4B31-966E-901EA6C6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AEFE-F231-49ED-A6F4-AAC1C855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4CBE-69EE-4C2E-ACA0-45E008D4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913C-E945-4F8F-B60B-B619B6DA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EDD9-3EA0-4A0C-845C-75437602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750A-BCBE-4437-8A19-39925C67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2F77-0AB1-471F-A1D9-D83F50AB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DB17-FA70-43C9-95A4-E84A2BDB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25A3-56F5-4928-B061-93A00A61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7342-2947-49FA-BC29-A5373B36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749A-7BF4-469B-9B13-7A62264C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D19E-D2C5-45A8-9EC6-E19A1383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1B98-D449-4792-83E6-61F567FB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494B-9CA9-4B27-92D8-DA79DF8B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7208-5B2D-4C1C-B593-94F7E214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4F6B-3A0F-4F5C-B03C-A6A8D03D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D320-7523-41E5-8E88-2DDD7B32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F7BE-AA96-4D9A-88DF-7289534C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204C-7818-4B28-888A-68FE45936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2A57-6764-4C0B-B37B-FBF14DED4F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Topic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--must be agriculturally/Natural Resources related or FFA rela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Time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—4-6 minutes in leng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Manuscript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--must hand in manuscript that is neatly typed or neatly hand written at time of delive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5.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Parts of speech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Bod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G Time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Provides support to topic.  This is the part of the speech that is the longest an provides information about the topi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5.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Parts of speech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Conclus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Norm ally a paragraph long; summarize speech; a story, quote, etc. are accepta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6.  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Types of speech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a.  Inform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b.  Entertaining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c.  Persuasive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7.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Types of pr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a.  Prepa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b.  Extemporaneous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c.  Impromp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WE WILL BE GIVING PERSUASIVE TYPE SPEECHES THAT ARE PREPARED!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8.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Evaluation (Grading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The grade on the speech will be determined by the following criter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Time of spee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Manuscript (Neatness, if directions are followed, proper spelling, proper punctuation and completeness.)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8.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Evaluation (Grading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Deliv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a.  Eye Cont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b.  Ges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c.  Vo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d.  Stage Pres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e.  Power of Ex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8.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Evaluation (Grading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Each student will answer at least three questions after student presents speech to the 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REQUIREMENTS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819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G Times"/>
                <a:ea typeface="Times New Roman"/>
              </a:rPr>
              <a:t>A.  Title Pag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4648320" y="2209680"/>
            <a:ext cx="3047760" cy="41911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b.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First page of speech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First page of speech should not have a page num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Should have a 1 inch margin on each side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c.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Second page of speech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Should be numbered page 2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Should have a 1 inch margin top, bottom, and same on both si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d.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Third page and 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Same as page tw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e.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References and Bibliography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Should be a separate page and should be the last page of your speech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This page should not be numbered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You must have at least three written Referen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Margins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Top= 1 in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Bottom= 1 inch     both sides= 1 in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f.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Page numb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Prefer at the bottom of the page and 1/2 inch from the bottom and also in the cen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Date to be give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G Times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G Times"/>
                <a:ea typeface="Times New Roman"/>
              </a:rPr>
              <a:t>Student will choose date and must give on chosen d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G Times"/>
                <a:ea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G Times"/>
                <a:ea typeface="Times New Roman"/>
              </a:rPr>
              <a:t>Student can change date if another student is willing to trade.  This must be determined at least one day in advance and the instructor must know a day prior to the day to be giv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G Times"/>
                <a:ea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G Times"/>
                <a:ea typeface="Times New Roman"/>
              </a:rPr>
              <a:t>Failure to give speech on chosen date will result in 25% dock in gra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G Times"/>
                <a:ea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G Times"/>
                <a:ea typeface="Times New Roman"/>
              </a:rPr>
              <a:t>Those students who choose to give speech early will benefit in grade.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5.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Parts of speech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Normally a paragraph long;  introduces subject; avoid "Did you know" questions;  use creative approach;  a story, analogy, etc. are acceptable; use attention getters.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3T22:14:10Z</dcterms:created>
  <dc:creator>District User</dc:creator>
  <dc:description/>
  <dc:language>en-US</dc:language>
  <cp:lastModifiedBy>District User</cp:lastModifiedBy>
  <dcterms:modified xsi:type="dcterms:W3CDTF">2010-11-16T15:10:16Z</dcterms:modified>
  <cp:revision>5</cp:revision>
  <dc:subject/>
  <dc:title>PowerPoint Presentation</dc:title>
</cp:coreProperties>
</file>