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8B0F-B76F-4A68-B87A-1737A3CD3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91D9-DC69-4BF4-A4E7-5637B2691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7221-787C-41B3-B34B-8679CEE78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436D-B5FA-4D17-98DC-C0F736D46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1754E-88C0-4566-BF70-F24F1F301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C24C8-9641-45BC-A1DA-209F3CBEC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93231-4059-4F90-A6DC-E43881D78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3FE6E-FF16-47F1-BABE-82FCF6E6A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2120C-C2A1-4925-92AF-D0842E96E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A22B6-1CA0-4667-A546-62E622D76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49DAA-3A1C-4051-8516-FD0FEBF96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9E7D-9DA3-4504-802F-AF86AB8A5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BD02F-2459-415A-A95E-CBE7A5B15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73183-F1AD-4210-A83E-3316E667E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0DEB2-525C-4532-987D-D432E872E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706B4-4AC3-496C-96B6-48F9B8B37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8B5C7-EA88-4C59-B346-F794AC312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183D-B822-42CC-9B94-B1E6A3F8D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D60F-095D-4D35-86C0-CE2BB4063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E227-446B-4E5F-A7FE-E31D4E350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2852-2BA9-4F1A-8899-8B7135FAB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96DD-46D1-4A00-9897-3494FCB2D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4EF4-C1DB-4857-9B7D-84FB16309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347F-9DED-4444-AAB0-A30E3F763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F1313-9E3A-4B5C-86BB-6BE8667AC966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0" y="-19080"/>
            <a:ext cx="213840" cy="6877080"/>
            <a:chOff x="0" y="-19080"/>
            <a:chExt cx="213840" cy="6877080"/>
          </a:xfrm>
        </p:grpSpPr>
        <p:sp>
          <p:nvSpPr>
            <p:cNvPr id="7" name=""/>
            <p:cNvSpPr/>
            <p:nvPr/>
          </p:nvSpPr>
          <p:spPr>
            <a:xfrm rot="5400000">
              <a:off x="-1039320" y="1020240"/>
              <a:ext cx="2292480" cy="21384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f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5400000">
              <a:off x="-1039320" y="3312720"/>
              <a:ext cx="2292480" cy="213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5400000">
              <a:off x="-1038960" y="5604840"/>
              <a:ext cx="2292120" cy="21384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ff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666699"/>
                </a:solidFill>
                <a:latin typeface="Times New Roman"/>
              </a:rPr>
              <a:t>Click to edit the title text format</a:t>
            </a:r>
            <a:endParaRPr b="0" lang="en-US" sz="58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1D07E-6135-448F-BE17-60E96077F164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1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f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ff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666699"/>
                </a:solidFill>
                <a:latin typeface="Times New Roman"/>
              </a:rPr>
              <a:t>Responding to </a:t>
            </a:r>
            <a:br>
              <a:rPr sz="5800"/>
            </a:br>
            <a:r>
              <a:rPr b="0" lang="en-US" sz="5800" spc="-1" strike="noStrike">
                <a:solidFill>
                  <a:srgbClr val="666699"/>
                </a:solidFill>
                <a:latin typeface="Times New Roman"/>
              </a:rPr>
              <a:t>Audience Feedback </a:t>
            </a:r>
            <a:endParaRPr b="0" lang="en-US" sz="58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676520" y="3200400"/>
            <a:ext cx="58672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Arial"/>
              </a:rPr>
              <a:t>How do I communicate my thoughts and ideas to others? </a:t>
            </a: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52280" y="6172200"/>
            <a:ext cx="1219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 Two of Developmen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230320" y="643104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S 4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Times New Roman"/>
              </a:rPr>
              <a:t>Definition of Feedback</a:t>
            </a: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Opinions and reactions—communication—we receive from an audience (an audience can be an individual or a group of people)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9680" y="6477120"/>
            <a:ext cx="107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S 42 TM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Times New Roman"/>
              </a:rPr>
              <a:t>Categories of Feedback</a:t>
            </a: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42640" y="1523520"/>
            <a:ext cx="655308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Positive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feedback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838080" indent="-38088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ells the communicator to </a:t>
            </a:r>
            <a:r>
              <a:rPr b="1" i="1" lang="en-US" sz="2800" spc="-1" strike="noStrike" u="sng">
                <a:solidFill>
                  <a:srgbClr val="000099"/>
                </a:solidFill>
                <a:uFillTx/>
                <a:latin typeface="Arial"/>
              </a:rPr>
              <a:t>continue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the type of communication and subjec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>
              <a:spcBef>
                <a:spcPts val="35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Negative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feedback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838080" indent="-38088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ells the communicator to </a:t>
            </a:r>
            <a:r>
              <a:rPr b="1" i="1" lang="en-US" sz="2800" spc="-1" strike="noStrike" u="sng">
                <a:solidFill>
                  <a:srgbClr val="000099"/>
                </a:solidFill>
                <a:uFillTx/>
                <a:latin typeface="Arial"/>
              </a:rPr>
              <a:t>change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the communication type or subjec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9680" y="6477120"/>
            <a:ext cx="107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S 42 TM 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Times New Roman"/>
              </a:rPr>
              <a:t>Feedback Form</a:t>
            </a: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457200" y="1600200"/>
          <a:ext cx="8305560" cy="1447560"/>
        </p:xfrm>
        <a:graphic>
          <a:graphicData uri="http://schemas.openxmlformats.org/drawingml/2006/table">
            <a:tbl>
              <a:tblPr/>
              <a:tblGrid>
                <a:gridCol w="1955880"/>
                <a:gridCol w="3207960"/>
                <a:gridCol w="3141720"/>
              </a:tblGrid>
              <a:tr h="2919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sitive Feedbac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55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oken Examp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ritten Examp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n-verbal Examp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"/>
          <p:cNvSpPr/>
          <p:nvPr/>
        </p:nvSpPr>
        <p:spPr>
          <a:xfrm>
            <a:off x="229680" y="6477120"/>
            <a:ext cx="108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S 42 TM 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3276720"/>
          <a:ext cx="8305560" cy="3025800"/>
        </p:xfrm>
        <a:graphic>
          <a:graphicData uri="http://schemas.openxmlformats.org/drawingml/2006/table">
            <a:tbl>
              <a:tblPr/>
              <a:tblGrid>
                <a:gridCol w="2463840"/>
                <a:gridCol w="584172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egative Feedbac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ow I would change my communic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3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oken Examp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3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ritten Examp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1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n-verbal Examp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4T19:19:10Z</dcterms:created>
  <dc:creator>Mark Reardon</dc:creator>
  <dc:description/>
  <dc:language>en-US</dc:language>
  <cp:lastModifiedBy>District User</cp:lastModifiedBy>
  <dcterms:modified xsi:type="dcterms:W3CDTF">2008-04-07T12:30:44Z</dcterms:modified>
  <cp:revision>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