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DC5-5294-49A7-9486-26C975F8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50F-23C2-4477-AC07-9418ADD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3E6-9BC2-419B-B753-B3220D84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889-BEAC-4E32-80F3-21EC219A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FA4-D787-4404-99C1-68FCA0BD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190-9C68-4041-93E2-996C11D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21F0-0A3F-492F-894D-533D503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F51-1355-4121-A3F5-0EEB24E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601B-0F6C-4CF0-BB74-00465496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0656-9A8F-45D3-A53C-9C9DDA10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0A6F-E1DD-40D5-B525-0FD57071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1C1-C500-4F00-949B-6F56A18D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3E9E-F701-4C64-A55F-F3D5CB84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F6C5-7E3F-4FB1-A198-066EA38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4F12-71C6-477D-837D-7083C494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B30-C08D-4C82-965F-583EF658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BA4E-B2AD-47C0-81EC-AF1318F7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D1E-60B2-4589-884E-3F230F0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560-DCE6-4A3A-A253-07545E48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A58-5801-43C9-874D-733F1280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A73-A105-426D-8562-7AB98381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AEC-9D35-4050-92EB-A1E87BA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B4C-781D-45CE-8E96-8602AD6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E2C-8CB3-45CE-8A3E-DED3835A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1DB-4EEA-4A9F-B7BA-10A09573A8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19080"/>
            <a:ext cx="213840" cy="6877080"/>
            <a:chOff x="0" y="-19080"/>
            <a:chExt cx="213840" cy="6877080"/>
          </a:xfrm>
        </p:grpSpPr>
        <p:sp>
          <p:nvSpPr>
            <p:cNvPr id="7" name=""/>
            <p:cNvSpPr/>
            <p:nvPr/>
          </p:nvSpPr>
          <p:spPr>
            <a:xfrm rot="5400000">
              <a:off x="-1039320" y="102024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-1039320" y="331272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-1038960" y="5604840"/>
              <a:ext cx="2292120" cy="213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EF91-5BED-4DBB-A47F-379EE0C2F5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Answering Questions from Others 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How do I communicate my thoughts and ideas to others?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17220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wo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30320" y="643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auses of Questions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rific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eds more information to understand topic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more information because they like topic or have previous experienc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knowled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to know how much you know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agreem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to see if you are consistent with your informa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our Steps to Answering Questions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sten firs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was sai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s there non-verbal communica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alyze what was sai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was the cause of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nformation does the person want to know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320" y="64771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C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our Steps continued…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struct your thought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s the best way to answer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 my answer give the information they wan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 my answer deal with the cause of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m I being truthful with my answer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ive the answer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9320" y="64771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C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difference in answering questions between individuals and groups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Questions from individua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ne-word answers may be used, if appropri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maintain eye contact with the individ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peak at a natural volum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Questions from group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ust use complete senten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ust repeat the question within the answ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use eye contact with entire group, not just the individ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speak more loudly than norm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6477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26:26Z</dcterms:created>
  <dc:creator>Mark Reardon</dc:creator>
  <dc:description/>
  <dc:language>en-US</dc:language>
  <cp:lastModifiedBy>District User</cp:lastModifiedBy>
  <dcterms:modified xsi:type="dcterms:W3CDTF">2008-04-07T12:33:10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