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enefits</a:t>
            </a:r>
            <a:r>
              <a:rPr b="0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using the </a:t>
            </a: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Gives you a place to start when you begin to create a present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Helps you remember your presentation with just a few no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Helps you to create and deliver consistently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effective present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Helps you organize and present your ideas so you sound like you know what you’re talking about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A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9680" y="64771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I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648320"/>
            <a:ext cx="6933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How are you going to review or restate your points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will you use to make certain they remember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How are you going to close with power and impact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are you going to close and review your points with impact?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3" name="mirror" descr=""/>
          <p:cNvPicPr/>
          <p:nvPr/>
        </p:nvPicPr>
        <p:blipFill>
          <a:blip r:embed="rId1"/>
          <a:stretch/>
        </p:blipFill>
        <p:spPr>
          <a:xfrm>
            <a:off x="2971800" y="423720"/>
            <a:ext cx="4114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9680" y="647712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J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648320"/>
            <a:ext cx="6933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are you going to do in your introduction to make the connection with your audienc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nnection is built by connecting your topic to something your audience can relate to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an you build your presentation around a them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are you going to connect with your audience?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7" name="plug" descr=""/>
          <p:cNvPicPr/>
          <p:nvPr/>
        </p:nvPicPr>
        <p:blipFill>
          <a:blip r:embed="rId1"/>
          <a:stretch/>
        </p:blipFill>
        <p:spPr>
          <a:xfrm>
            <a:off x="3505320" y="230040"/>
            <a:ext cx="37335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K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648320"/>
            <a:ext cx="6933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thought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How will you let the audience know your objectives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kind of map will you give them to help them follow your presentation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Make this creative step related to your theme, and build interest in what’s coming up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are you going to preview your presentation?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1" name="sign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724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enefits</a:t>
            </a:r>
            <a:r>
              <a:rPr b="0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using the </a:t>
            </a: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Helps you build confidence as an effective present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A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438280"/>
            <a:ext cx="7162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Helps you create a presentation where the focus is on your audience, which will make them more interested in what you have to say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Gives you a tool that will help you to influence others in a positive way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for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sentation planning</a:t>
            </a:r>
            <a:r>
              <a:rPr b="0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B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638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gic Formula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is a process to follow when creating a presentation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7" name="phone1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98" name="HEART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116352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Action" descr=""/>
          <p:cNvPicPr/>
          <p:nvPr/>
        </p:nvPicPr>
        <p:blipFill>
          <a:blip r:embed="rId3"/>
          <a:stretch/>
        </p:blipFill>
        <p:spPr>
          <a:xfrm>
            <a:off x="7010280" y="1447920"/>
            <a:ext cx="1212840" cy="1260360"/>
          </a:xfrm>
          <a:prstGeom prst="rect">
            <a:avLst/>
          </a:prstGeom>
          <a:ln w="0">
            <a:noFill/>
          </a:ln>
        </p:spPr>
      </p:pic>
      <p:pic>
        <p:nvPicPr>
          <p:cNvPr id="100" name="point" descr=""/>
          <p:cNvPicPr/>
          <p:nvPr/>
        </p:nvPicPr>
        <p:blipFill>
          <a:blip r:embed="rId4"/>
          <a:stretch/>
        </p:blipFill>
        <p:spPr>
          <a:xfrm>
            <a:off x="2641680" y="2790720"/>
            <a:ext cx="1828800" cy="1209960"/>
          </a:xfrm>
          <a:prstGeom prst="rect">
            <a:avLst/>
          </a:prstGeom>
          <a:ln w="0">
            <a:noFill/>
          </a:ln>
        </p:spPr>
      </p:pic>
      <p:pic>
        <p:nvPicPr>
          <p:cNvPr id="101" name="books" descr=""/>
          <p:cNvPicPr/>
          <p:nvPr/>
        </p:nvPicPr>
        <p:blipFill>
          <a:blip r:embed="rId5"/>
          <a:stretch/>
        </p:blipFill>
        <p:spPr>
          <a:xfrm>
            <a:off x="4699080" y="2965320"/>
            <a:ext cx="1714320" cy="963720"/>
          </a:xfrm>
          <a:prstGeom prst="rect">
            <a:avLst/>
          </a:prstGeom>
          <a:ln w="0">
            <a:noFill/>
          </a:ln>
        </p:spPr>
      </p:pic>
      <p:pic>
        <p:nvPicPr>
          <p:cNvPr id="102" name="application" descr=""/>
          <p:cNvPicPr/>
          <p:nvPr/>
        </p:nvPicPr>
        <p:blipFill>
          <a:blip r:embed="rId6"/>
          <a:stretch/>
        </p:blipFill>
        <p:spPr>
          <a:xfrm>
            <a:off x="6705720" y="274464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103" name="plug" descr=""/>
          <p:cNvPicPr/>
          <p:nvPr/>
        </p:nvPicPr>
        <p:blipFill>
          <a:blip r:embed="rId7"/>
          <a:stretch/>
        </p:blipFill>
        <p:spPr>
          <a:xfrm>
            <a:off x="4838760" y="4191120"/>
            <a:ext cx="1485720" cy="1222200"/>
          </a:xfrm>
          <a:prstGeom prst="rect">
            <a:avLst/>
          </a:prstGeom>
          <a:ln w="0">
            <a:noFill/>
          </a:ln>
        </p:spPr>
      </p:pic>
      <p:pic>
        <p:nvPicPr>
          <p:cNvPr id="104" name="mirror" descr=""/>
          <p:cNvPicPr/>
          <p:nvPr/>
        </p:nvPicPr>
        <p:blipFill>
          <a:blip r:embed="rId8"/>
          <a:stretch/>
        </p:blipFill>
        <p:spPr>
          <a:xfrm>
            <a:off x="2590920" y="4191120"/>
            <a:ext cx="1709640" cy="1231920"/>
          </a:xfrm>
          <a:prstGeom prst="rect">
            <a:avLst/>
          </a:prstGeom>
          <a:ln w="0">
            <a:noFill/>
          </a:ln>
        </p:spPr>
      </p:pic>
      <p:pic>
        <p:nvPicPr>
          <p:cNvPr id="105" name="sign" descr=""/>
          <p:cNvPicPr/>
          <p:nvPr/>
        </p:nvPicPr>
        <p:blipFill>
          <a:blip r:embed="rId9"/>
          <a:stretch/>
        </p:blipFill>
        <p:spPr>
          <a:xfrm>
            <a:off x="6553080" y="4419720"/>
            <a:ext cx="1710000" cy="7286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362320" y="1339920"/>
            <a:ext cx="6019560" cy="4178160"/>
            <a:chOff x="2362320" y="1339920"/>
            <a:chExt cx="6019560" cy="4178160"/>
          </a:xfrm>
        </p:grpSpPr>
        <p:grpSp>
          <p:nvGrpSpPr>
            <p:cNvPr id="107" name=""/>
            <p:cNvGrpSpPr/>
            <p:nvPr/>
          </p:nvGrpSpPr>
          <p:grpSpPr>
            <a:xfrm>
              <a:off x="2367000" y="1344600"/>
              <a:ext cx="6010200" cy="4168800"/>
              <a:chOff x="2367000" y="1344600"/>
              <a:chExt cx="6010200" cy="4168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367000" y="1344600"/>
                <a:ext cx="2057400" cy="1428840"/>
                <a:chOff x="2367000" y="1344600"/>
                <a:chExt cx="2057400" cy="1428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435400" y="1344600"/>
                  <a:ext cx="1920600" cy="14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66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67000" y="1344600"/>
                  <a:ext cx="2057400" cy="1428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424400" y="1344600"/>
                <a:ext cx="1987560" cy="1428840"/>
                <a:chOff x="4424400" y="1344600"/>
                <a:chExt cx="1987560" cy="1428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492800" y="1344600"/>
                  <a:ext cx="1850760" cy="14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100"/>
                  </a:br>
                  <a:endParaRPr b="0" lang="en-US" sz="11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424400" y="1344600"/>
                  <a:ext cx="1987560" cy="1428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411960" y="1344600"/>
                <a:ext cx="1965240" cy="1428840"/>
                <a:chOff x="6411960" y="1344600"/>
                <a:chExt cx="1965240" cy="1428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480360" y="1344600"/>
                  <a:ext cx="1828800" cy="14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11960" y="1344600"/>
                  <a:ext cx="1965240" cy="1428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367000" y="2773440"/>
                <a:ext cx="2057400" cy="1369800"/>
                <a:chOff x="2367000" y="2773440"/>
                <a:chExt cx="2057400" cy="1369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435400" y="2773440"/>
                  <a:ext cx="192060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66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67000" y="2773440"/>
                  <a:ext cx="2057400" cy="1369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24400" y="2773440"/>
                <a:ext cx="1987560" cy="1369800"/>
                <a:chOff x="4424400" y="2773440"/>
                <a:chExt cx="1987560" cy="1369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2800" y="2773440"/>
                  <a:ext cx="18507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24400" y="2773440"/>
                  <a:ext cx="1987560" cy="1369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411960" y="2773440"/>
                <a:ext cx="1965240" cy="1369800"/>
                <a:chOff x="6411960" y="2773440"/>
                <a:chExt cx="1965240" cy="13698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480360" y="2773440"/>
                  <a:ext cx="182880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411960" y="2773440"/>
                  <a:ext cx="1965240" cy="1369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367000" y="4143240"/>
                <a:ext cx="2057400" cy="1370160"/>
                <a:chOff x="2367000" y="4143240"/>
                <a:chExt cx="2057400" cy="13701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435400" y="4143240"/>
                  <a:ext cx="1920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66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67000" y="4143240"/>
                  <a:ext cx="2057400" cy="1370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24400" y="4143240"/>
                <a:ext cx="1987560" cy="1370160"/>
                <a:chOff x="4424400" y="4143240"/>
                <a:chExt cx="1987560" cy="1370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492800" y="4143240"/>
                  <a:ext cx="18507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24400" y="4143240"/>
                  <a:ext cx="1987560" cy="1370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411960" y="4143240"/>
                <a:ext cx="1965240" cy="1370160"/>
                <a:chOff x="6411960" y="4143240"/>
                <a:chExt cx="1965240" cy="1370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480360" y="4143240"/>
                  <a:ext cx="1828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11960" y="4143240"/>
                  <a:ext cx="1965240" cy="1370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2362320" y="1339920"/>
              <a:ext cx="6019560" cy="41781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9680" y="6477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C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4572000"/>
            <a:ext cx="6933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o will the audience be? How many will be in the audienc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date? What time? For how long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ere will the presentation take plac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is the purpose of the speech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8120" y="3809880"/>
            <a:ext cx="44193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et the informat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9" name="phone1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9680" y="6477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D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267080"/>
            <a:ext cx="6933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is appropriate for the audienc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y are they going to want to listen to what you have to shar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do they expect to hear?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5812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does the audience care about?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3" name="HEART" descr=""/>
          <p:cNvPicPr/>
          <p:nvPr/>
        </p:nvPicPr>
        <p:blipFill>
          <a:blip r:embed="rId1"/>
          <a:stretch/>
        </p:blipFill>
        <p:spPr>
          <a:xfrm>
            <a:off x="3227400" y="76320"/>
            <a:ext cx="309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E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6933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will your objectives b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do you want them to know or be able to do after your presentation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impact will you mak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action do you want the audience to take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7" name="Action" descr=""/>
          <p:cNvPicPr/>
          <p:nvPr/>
        </p:nvPicPr>
        <p:blipFill>
          <a:blip r:embed="rId1"/>
          <a:stretch/>
        </p:blipFill>
        <p:spPr>
          <a:xfrm>
            <a:off x="3359160" y="304920"/>
            <a:ext cx="300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30040" y="64771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F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419720"/>
            <a:ext cx="6933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are your main points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Main points should be succinct and memorable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statement or catchy phrase can you use to help your audience remember this point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are your points?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1" name="point" descr=""/>
          <p:cNvPicPr/>
          <p:nvPr/>
        </p:nvPicPr>
        <p:blipFill>
          <a:blip r:embed="rId1"/>
          <a:stretch/>
        </p:blipFill>
        <p:spPr>
          <a:xfrm>
            <a:off x="3048120" y="228600"/>
            <a:ext cx="39621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G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267080"/>
            <a:ext cx="6933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upport may come in the form of facts, statistics, activities, experiences, personal stories, other people’s stories, and poem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hat support material will best convey the main points I hav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upport must be credible and believable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supports your main points? 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5" name="books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9680" y="6477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5 TM H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4267080"/>
            <a:ext cx="6933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Other question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for consideration…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How will they know what to do when they get home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How can they take the main point and make it a reality in their lives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34286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is the application?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9" name="application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District User</cp:lastModifiedBy>
  <dcterms:modified xsi:type="dcterms:W3CDTF">2007-12-03T22:49:06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