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2DE-4D08-4441-B844-2B101090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B9A-363B-40C2-BB5C-ACE8DD96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8F9-26B1-4CCC-957E-90C95D82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C54-D9DA-4837-99BA-3B085B31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0E20-A8F0-4CFA-808C-19F07055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FF57-6C6B-4267-BCD6-2BC08502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567E-DD50-414E-A8CB-9C5A00C3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9E54-5BA1-4CA7-AA4D-4F21B3F6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5131-EE8A-45F3-960E-7A467907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E474-5DE0-4664-BB7A-2B0163F1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A5B7-9994-451B-9C64-F2298D33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FF1-E473-490B-B757-9B9E8E5D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C7CB-7126-457D-B073-5D3D9291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EA63-C978-4BE6-88FB-81B9F964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8D29-C14C-4350-A224-CA461E08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19A5-9275-4091-A3BB-B838D74C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3EB6-3DB0-4195-A4F6-C9AF2A8A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FCF-9CB8-44AF-8A8C-E88E7CCE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88E7-3D74-4976-8C76-EDB2F51D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ACD-817F-4FF6-966A-2D10A0C8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B13-D1CF-4FA6-82E2-1F90AD57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ADC-FCD1-422E-A3CB-6BD97B02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8F3-563C-4068-89B2-13715A22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F46-ADDA-43E2-BA4B-37A41CAD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57EC-E336-4CB4-9538-C7633CFA58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3C49-A331-47FC-8B55-5CDD8319FDCA}" type="slidenum"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dc78"/>
                </a:solidFill>
                <a:latin typeface="Arial"/>
              </a:rPr>
              <a:t>Planning and Implementing a Service Project</a:t>
            </a:r>
            <a:endParaRPr b="0" lang="en-US" sz="48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9e6"/>
                </a:solidFill>
                <a:latin typeface="Arial"/>
              </a:rPr>
              <a:t>Understanding Service Leadership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324480" y="6232680"/>
            <a:ext cx="2743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Arial"/>
              </a:rPr>
              <a:t>Leadership Revision Committee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Arial"/>
              </a:rPr>
              <a:t>May 2007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9e6"/>
                </a:solidFill>
                <a:latin typeface="Arial"/>
              </a:rPr>
              <a:t>Identify the components of a service plan- the organized components and strategies for executing a service project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9e6"/>
                </a:solidFill>
                <a:latin typeface="Arial"/>
              </a:rPr>
              <a:t>Choose a service project.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9e6"/>
                </a:solidFill>
                <a:latin typeface="Arial"/>
              </a:rPr>
              <a:t>Students will develop a service project.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9e6"/>
                </a:solidFill>
                <a:latin typeface="Arial"/>
              </a:rPr>
              <a:t>Students will implement a service project.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What are the components of a service project?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Name of the project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9e6"/>
                </a:solidFill>
                <a:latin typeface="Arial"/>
              </a:rPr>
              <a:t>Community Rake Day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Needs assessmen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Project goal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What will be accomplished to meet the identified need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What are the components of a service project?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Learning goal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What do I hope to learn or gain from this project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ools or resource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What materials and human power are needed for this project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What are the components of a service project?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Budge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How much will this project cost and how will it be funded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trategies or procedure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Who will do what—delegating, advertising, recruiting, set-up, cleanup, etc.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What are the components of a service project?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imeline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When will things get done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Reflection question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What do I want to remember to ask myself after the project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Project Workshee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Needs assessmen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Project goal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Learning goal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ools or resource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Budge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trategies or procedure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imeline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Reflection questions 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5:48:24Z</dcterms:created>
  <dc:creator>Schumaker William</dc:creator>
  <dc:description/>
  <dc:language>en-US</dc:language>
  <cp:lastModifiedBy>I.T. Department</cp:lastModifiedBy>
  <dcterms:modified xsi:type="dcterms:W3CDTF">2012-04-03T18:49:51Z</dcterms:modified>
  <cp:revision>2</cp:revision>
  <dc:subject/>
  <dc:title>Planning and Implementing a Service Project</dc:title>
</cp:coreProperties>
</file>