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84F-7FD4-401D-860F-F523D2AA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5BA-EF4F-45C8-813A-C6EE7C5E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80F-163A-4554-9F43-0A836C24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58A-4359-4B49-9FDB-4E8B04F2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98B-A7C3-4EFA-9FBC-9B9C5AB3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FDB-4518-4DC3-9776-E136F5CD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84B-72F9-46C5-84E8-CFA317E3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515-F7E7-4450-A4DF-214F5BFB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19B-35D6-4173-A6B7-3B99F6B3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129-BBA7-4D3F-9445-60C12E5D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644-25D6-4DBA-B20E-20F2C817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04A-5304-4E81-B04D-4A8F471B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9E38-27C7-4A85-AC20-6BFD84C1FD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FA Officer Du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Kyle Cor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LL Offic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re to have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re to meet all the chapter members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by 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ility to memorize their parts for official ceremon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National FFA Organization"/>
          <p:cNvPicPr/>
          <p:nvPr/>
        </p:nvPicPr>
        <p:blipFill>
          <a:blip r:embed="rId1"/>
          <a:stretch/>
        </p:blipFill>
        <p:spPr>
          <a:xfrm>
            <a:off x="4784760" y="1371600"/>
            <a:ext cx="384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esid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85840" y="220932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 over mee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oint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e activities and evaluate the program of activities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 the chapter at official functions and in public re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MCj02321720000[1]"/>
          <p:cNvPicPr/>
          <p:nvPr/>
        </p:nvPicPr>
        <p:blipFill>
          <a:blip r:embed="rId1"/>
          <a:stretch/>
        </p:blipFill>
        <p:spPr>
          <a:xfrm>
            <a:off x="457200" y="1371600"/>
            <a:ext cx="3182760" cy="3174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8600" y="4800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the Rising S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ce Presid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ume presidents duties if necess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the program of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rdinate all committee 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with president and advisor about go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a chapter resource f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MCj02315600000[1]"/>
          <p:cNvPicPr/>
          <p:nvPr/>
        </p:nvPicPr>
        <p:blipFill>
          <a:blip r:embed="rId1"/>
          <a:stretch/>
        </p:blipFill>
        <p:spPr>
          <a:xfrm>
            <a:off x="5181480" y="2057400"/>
            <a:ext cx="355464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257800" y="5029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the p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ret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and post meeting agen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and present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program of activities wall up to 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retary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5638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on hand for each meeting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icial FFA Chapter Secretary's Book including minutes of the previous meet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y of the Program of Activities including all standing and special committe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fficial FFA Manu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ational FFA Student Handbook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ies of the chapter constitution and byla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j0280901"/>
          <p:cNvPicPr/>
          <p:nvPr/>
        </p:nvPicPr>
        <p:blipFill>
          <a:blip r:embed="rId1"/>
          <a:stretch/>
        </p:blipFill>
        <p:spPr>
          <a:xfrm>
            <a:off x="6056280" y="914400"/>
            <a:ext cx="2616120" cy="4076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324480" y="5105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the ear of cor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easur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1444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rd and be in charge of FFA f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 monthly treasurer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as chairman of the “earnings and savings” committ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j0213403"/>
          <p:cNvPicPr/>
          <p:nvPr/>
        </p:nvPicPr>
        <p:blipFill>
          <a:blip r:embed="rId1"/>
          <a:stretch/>
        </p:blipFill>
        <p:spPr>
          <a:xfrm>
            <a:off x="0" y="1295280"/>
            <a:ext cx="4121280" cy="3157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33520" y="4724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Washingt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por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charge of public information (radio, newspaper, etc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sh a chapter news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as the chapter photograp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j0304941"/>
          <p:cNvPicPr/>
          <p:nvPr/>
        </p:nvPicPr>
        <p:blipFill>
          <a:blip r:embed="rId1"/>
          <a:stretch/>
        </p:blipFill>
        <p:spPr>
          <a:xfrm>
            <a:off x="6051600" y="990720"/>
            <a:ext cx="2684520" cy="3954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62940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the fla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6:31:07Z</dcterms:created>
  <dc:creator>Rex Hamner</dc:creator>
  <dc:description/>
  <dc:language>en-US</dc:language>
  <cp:lastModifiedBy>I.T. Department</cp:lastModifiedBy>
  <dcterms:modified xsi:type="dcterms:W3CDTF">2012-04-02T15:25:41Z</dcterms:modified>
  <cp:revision>3</cp:revision>
  <dc:subject/>
  <dc:title>FFA Officer Du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