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1E6-4344-412C-9F0C-A87B6CA5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DBA-FB1E-41C1-9928-F9A97E6D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C10-5519-4D77-98AB-C62B83A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BB6-1A41-4057-9036-860B43B1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A4754-4062-435C-A4AD-9BB5DBF1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7E45B-65B1-4BAC-BD69-CCF692F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2CC3-C518-4E43-9598-57077432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12F69-6AA1-4833-8C12-2901222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01BEB-E93E-4CF1-961B-FD3A112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B85F6-CFF0-45C0-808D-9448F510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2204F-4897-481D-813A-D283AB8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6F6-FB3C-44AD-914B-AE770B53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D6A1-E30E-4DC9-B188-178B7CE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F0E8B-F579-42BC-BA1D-F5DD330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35785-3349-46BC-8822-D2BDC4E3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BCBD6-D5DF-4735-9151-9EEB19D3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7C316-A732-42E3-BAC6-D7F00A5A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D3D-A43B-45E2-B20A-335196C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030-2E2E-42FF-BD2D-5DB1AFC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6D2-A3A3-4AE0-BE46-7B6187F0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333-9B40-4509-9CCC-2E48A9AD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126-4DF8-4C80-86BE-19B9BF3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A3E-5CE3-4AB6-B655-06D7DA2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625-2BB6-40E8-87A9-FD7637D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0952-FD78-4E75-9C37-A01D110D8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E25-6A7D-401C-A047-4FBDC4512A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 Degrees an  FFA Member Can Ea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ed on Individual Accomplish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covery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rolled in a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dues p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 in at least 1 FF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knowledge of ag car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familiar with FFA Program of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nhand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rolled in 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plans for S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– Creed, Motto, Salute, 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meaning of FFA Em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of Et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of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received the Greenhand de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 hours of a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d in at least 3 chapter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ned $150 on S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 group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parliamentary 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te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have Chapter 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a member for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yrs. of ag (360 hr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n $1000 in SAEP or work 300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parliamentary 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ch on ag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chapter officer or a member of 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activities above the chapter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erican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State De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yrs. of ag – (540 hou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graduated from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Level SAEP – $7,500 invested or ea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of outstanding 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” or better grades in 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4:24:08Z</dcterms:created>
  <dc:creator>Schumaker William</dc:creator>
  <dc:description/>
  <dc:language>en-US</dc:language>
  <cp:lastModifiedBy>I.T. Department</cp:lastModifiedBy>
  <dcterms:modified xsi:type="dcterms:W3CDTF">2012-04-03T18:28:36Z</dcterms:modified>
  <cp:revision>4</cp:revision>
  <dc:subject/>
  <dc:title>5 Degrees an  FFA Member Can Earn Based on Individual Accomplishments</dc:title>
</cp:coreProperties>
</file>