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29DD-9E16-4517-A0D8-137479BB8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733F-6475-42C3-B95D-969E476AF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7CAE-306C-4B7E-B03D-CB145C4DF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567E-D6EA-4A60-897F-72FD7193F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872C-C262-468D-8B71-3FC3D75E5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6C39-FEDF-4163-A683-EA3E7D1F7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14A9-6DF8-4427-8512-7496605E9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3E45-8C23-4431-BF40-B94000DE3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2411-46BA-45DF-85FA-E29A713AA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A3EF-4F81-4DC0-8A3A-91948A906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0E06-3C19-40C9-84F0-30F848F7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A3DD-2DEF-46A1-A6E4-BCF84927B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Arial Black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Arial Black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Arial Black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Arial Black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Arial Black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97987-866B-4421-B968-BA46887CA7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 Black"/>
              </a:rPr>
              <a:t>The FFA Emblem</a:t>
            </a: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ffa%20on%20blue3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3558960" cy="44197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ffa%20on%20blue5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3560760" cy="44197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The owl...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286000"/>
            <a:ext cx="3047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… </a:t>
            </a: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represents knowledge and wisd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ffa%20on%20blue5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3560760" cy="44197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ffa%20on%20blue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3558960" cy="44197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The words Agricultural Education surrounding FFA...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685800" y="2133720"/>
            <a:ext cx="7848720" cy="1800360"/>
            <a:chOff x="685800" y="2133720"/>
            <a:chExt cx="7848720" cy="1800360"/>
          </a:xfrm>
        </p:grpSpPr>
        <p:sp>
          <p:nvSpPr>
            <p:cNvPr id="73" name=""/>
            <p:cNvSpPr/>
            <p:nvPr/>
          </p:nvSpPr>
          <p:spPr>
            <a:xfrm>
              <a:off x="685800" y="2133720"/>
              <a:ext cx="23623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...tell us that FFA is an important part..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172200" y="2133720"/>
              <a:ext cx="23623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… </a:t>
              </a: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of an agricultural education  program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ffa%20on%20blue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3558960" cy="441972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The words Agricultural Education surrounding FFA...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685800" y="2133720"/>
            <a:ext cx="7848720" cy="1800360"/>
            <a:chOff x="685800" y="2133720"/>
            <a:chExt cx="7848720" cy="1800360"/>
          </a:xfrm>
        </p:grpSpPr>
        <p:sp>
          <p:nvSpPr>
            <p:cNvPr id="78" name=""/>
            <p:cNvSpPr/>
            <p:nvPr/>
          </p:nvSpPr>
          <p:spPr>
            <a:xfrm>
              <a:off x="685800" y="2133720"/>
              <a:ext cx="23623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...tell us that FFA is an important part..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172200" y="2133720"/>
              <a:ext cx="23623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… </a:t>
              </a: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of an agricultural education  program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ffa%20on%20blue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3558960" cy="44197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This is our FFA emblem...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ffa%20on%20blue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3558960" cy="44197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… </a:t>
            </a: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wear it with pride!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Objectives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Identify six parts of the FFA emblem.</a:t>
            </a:r>
            <a:endParaRPr b="0" lang="en-US" sz="2800" spc="-1" strike="noStrike">
              <a:solidFill>
                <a:srgbClr val="ffff00"/>
              </a:solidFill>
              <a:latin typeface="Arial Black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Describe the meaning of each part.</a:t>
            </a:r>
            <a:endParaRPr b="0" lang="en-US" sz="2800" spc="-1" strike="noStrike">
              <a:solidFill>
                <a:srgbClr val="ffff00"/>
              </a:solidFill>
              <a:latin typeface="Arial Black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Explain the use of the FFA emblem.</a:t>
            </a:r>
            <a:endParaRPr b="0" lang="en-US" sz="28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ffa%20on%20blue0a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3558960" cy="44197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The cross section of an ear of corn … </a:t>
            </a:r>
            <a:endParaRPr b="0" lang="en-US" sz="28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… 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represents our common interest in agricul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ffa%20on%20blue0a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3558960" cy="44197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ffa%20on%20blue1a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3560760" cy="44197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The eagle...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2" name=""/>
          <p:cNvSpPr/>
          <p:nvPr/>
        </p:nvSpPr>
        <p:spPr>
          <a:xfrm>
            <a:off x="5715000" y="1905120"/>
            <a:ext cx="3048120" cy="28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…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s symbolic of the national scope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FF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ffa%20on%20blue1a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3560760" cy="44197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ffa%20on%20blue2a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3558960" cy="44197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The rising sun...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312408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… </a:t>
            </a: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represents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   progress in   </a:t>
            </a: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 agricul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ffa%20on%20blue2a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3558960" cy="44197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ffa%20on%20blue3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3558960" cy="44197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The plow...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990720"/>
            <a:ext cx="472464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...symbolizes lab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and tillage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the so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6T14:56:04Z</dcterms:created>
  <dc:creator>BILSA</dc:creator>
  <dc:description/>
  <dc:language>en-US</dc:language>
  <cp:lastModifiedBy>District User</cp:lastModifiedBy>
  <dcterms:modified xsi:type="dcterms:W3CDTF">2003-09-04T00:49:47Z</dcterms:modified>
  <cp:revision>6</cp:revision>
  <dc:subject/>
  <dc:title>No Slide Title</dc:title>
</cp:coreProperties>
</file>