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089-1816-4694-ABFB-7E2B1A36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19D-81D5-4B54-87AA-F18FCB91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DDA1-B2AD-4F6E-A62E-9A9C8EAC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DFA1-BBFF-4C25-B83A-CA1B9521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D44C-3642-4757-BF9E-E10B3278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6FB1-FAAD-41CF-B496-C2940DC2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37D-D6A5-496C-A75A-07864058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ABD0-27E4-4C56-B2D7-A8DAB1EE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BBC-F95E-4842-8538-6254784B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178E-4087-4B69-9A2A-01BBA2E1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421-C084-4F52-9886-15FB5958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F5B5-1D67-4D0B-A460-70498A64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DB00-A95E-448A-AA30-C7ABC4323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imes New Roman"/>
              </a:rPr>
              <a:t>Your Colo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tmann Personality Profil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Reds (Motive: Pow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ength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 wo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Conf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Produ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mi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b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lways want it their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workahol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ifficulty dealing with e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n’t admit wro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Red Persona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s n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al for intelligence and in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rec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lues (Intimac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eng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oted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y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personal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assio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o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tu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t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mi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(of self and oth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fection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ke everything personally (easily hu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right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n over-commit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Blu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s n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eel underst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apprec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onnect with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time and conver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9400"/>
                </a:solidFill>
                <a:latin typeface="Times New Roman"/>
              </a:rPr>
              <a:t>Yellow (Motive: Fu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89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Embrace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89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Good he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89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Open to adven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89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Communication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husia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89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Un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89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Easily b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89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Out of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Yellow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ows n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endships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look good to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ed to make own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tes (motive: Pea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epting of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list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sy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medi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ci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ently stub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cks 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ings on ow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reveal fee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Wh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s n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n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 lot of de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ne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3:45:29Z</dcterms:created>
  <dc:creator>District User</dc:creator>
  <dc:description/>
  <dc:language>en-US</dc:language>
  <cp:lastModifiedBy>District User</cp:lastModifiedBy>
  <dcterms:modified xsi:type="dcterms:W3CDTF">2010-09-20T15:34:36Z</dcterms:modified>
  <cp:revision>4</cp:revision>
  <dc:subject/>
  <dc:title>Reds (Motive: Power)</dc:title>
</cp:coreProperties>
</file>