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77075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620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99840" y="3988440"/>
            <a:ext cx="7620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04760" y="160020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599840" y="398844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04760" y="398844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176360" y="160020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52880" y="160020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599840" y="398844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176360" y="398844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52880" y="398844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599840" y="160020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7184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504760" y="1600200"/>
            <a:ext cx="37184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99840" y="247680"/>
            <a:ext cx="762012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504760" y="1600200"/>
            <a:ext cx="37184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599840" y="398844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599840" y="160020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7184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04760" y="160020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504760" y="398844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504760" y="160020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99840" y="3988440"/>
            <a:ext cx="7620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620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599840" y="3988440"/>
            <a:ext cx="7620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504760" y="160020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599840" y="398844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504760" y="398844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176360" y="160020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752880" y="160020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599840" y="398844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176360" y="398844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752880" y="398844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7184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04760" y="1600200"/>
            <a:ext cx="37184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247680"/>
            <a:ext cx="762012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04760" y="1600200"/>
            <a:ext cx="37184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599840" y="398844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7184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04760" y="160020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04760" y="398844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04760" y="160020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599840" y="3988440"/>
            <a:ext cx="7620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99840" y="160020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Lucida Calligraphy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</a:rPr>
              <a:t>Life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Knowledge</a:t>
            </a:r>
            <a:r>
              <a:rPr b="0" lang="en-US" sz="1400" spc="-1" strike="noStrike">
                <a:solidFill>
                  <a:srgbClr val="ff0000"/>
                </a:solidFill>
                <a:latin typeface="Lucida Calligraphy"/>
              </a:rPr>
              <a:t>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76320" y="-1752480"/>
            <a:ext cx="800280" cy="640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10800000"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19720" y="1981080"/>
            <a:ext cx="799200" cy="640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9120" y="0"/>
            <a:ext cx="1067040" cy="68565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6000000">
            <a:off x="799560" y="590400"/>
            <a:ext cx="723960" cy="57168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  <a:effectLst>
            <a:outerShdw dist="76320" dir="54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6000000">
            <a:off x="456480" y="533160"/>
            <a:ext cx="723960" cy="5713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  <a:effectLst>
            <a:outerShdw dist="76320" dir="54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99840" y="1676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2"/>
          </p:nvPr>
        </p:nvSpPr>
        <p:spPr>
          <a:xfrm>
            <a:off x="-360" y="6249600"/>
            <a:ext cx="883908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Lucida Calligraphy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</a:rPr>
              <a:t>Life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Knowledge</a:t>
            </a:r>
            <a:r>
              <a:rPr b="0" lang="en-US" sz="1400" spc="-1" strike="noStrike">
                <a:solidFill>
                  <a:srgbClr val="ff0000"/>
                </a:solidFill>
                <a:latin typeface="Lucida Calligraphy"/>
              </a:rPr>
              <a:t>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76320" y="-1752480"/>
            <a:ext cx="800280" cy="640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10800000"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19720" y="1981080"/>
            <a:ext cx="799200" cy="640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49120" y="0"/>
            <a:ext cx="1067040" cy="68565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00000">
            <a:off x="875520" y="2095200"/>
            <a:ext cx="723960" cy="5713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  <a:effectLst>
            <a:outerShdw dist="76320" dir="54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6000000">
            <a:off x="532800" y="2037960"/>
            <a:ext cx="723960" cy="57168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  <a:effectLst>
            <a:outerShdw dist="76320" dir="54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99840" y="1676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Effective Listening Skills 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676520" y="2971800"/>
            <a:ext cx="670536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ontinued…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6141960"/>
            <a:ext cx="1219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Three of Developm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</a:t>
            </a:r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960" y="5943600"/>
            <a:ext cx="60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S 93</a:t>
            </a:r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Barriers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 to 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Effective Listen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52480" y="159984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3. The Speaker</a:t>
            </a:r>
            <a:br>
              <a:rPr sz="3200"/>
            </a:b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ifficult to hear or understand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oor body language and eye contact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Use of complex or unknown word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8960" y="647712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S 93 TM C2 </a:t>
            </a:r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Barriers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 to 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Effective Listen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828800" y="159984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4. The environment</a:t>
            </a:r>
            <a:br>
              <a:rPr sz="3200"/>
            </a:b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emperature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Light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Noise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pace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ating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Other people around you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8960" y="647712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S 93 TM C2 </a:t>
            </a:r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676160" y="152280"/>
            <a:ext cx="66294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re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“listening”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“hearing”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the same thing? Why or why not?</a:t>
            </a:r>
            <a:br>
              <a:rPr sz="2800"/>
            </a:b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Hearing= </a:t>
            </a:r>
            <a:r>
              <a:rPr b="1" i="1" lang="en-US" sz="2400" spc="-1" strike="noStrike">
                <a:solidFill>
                  <a:srgbClr val="336699"/>
                </a:solidFill>
                <a:latin typeface="Arial"/>
              </a:rPr>
              <a:t>an automatic response of the ear drum to sound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Listening= </a:t>
            </a:r>
            <a:r>
              <a:rPr b="1" i="1" lang="en-US" sz="2400" spc="-1" strike="noStrike">
                <a:solidFill>
                  <a:srgbClr val="336699"/>
                </a:solidFill>
                <a:latin typeface="Arial"/>
              </a:rPr>
              <a:t>a voluntary response where you try to give meaning and understanding to the sound—you have to </a:t>
            </a:r>
            <a:r>
              <a:rPr b="1" i="1" lang="en-US" sz="2400" spc="-1" strike="noStrike" u="sng">
                <a:solidFill>
                  <a:srgbClr val="336699"/>
                </a:solidFill>
                <a:uFillTx/>
                <a:latin typeface="Arial"/>
              </a:rPr>
              <a:t>want</a:t>
            </a:r>
            <a:r>
              <a:rPr b="1" i="1" lang="en-US" sz="2400" spc="-1" strike="noStrike">
                <a:solidFill>
                  <a:srgbClr val="336699"/>
                </a:solidFill>
                <a:latin typeface="Arial"/>
              </a:rPr>
              <a:t> to listen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We were given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two ears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, but only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one mouth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, because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we need to listen twice as much as we speak.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” Do you agree? Why or why not?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9320" y="64771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S 93 TM A </a:t>
            </a:r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asic Modes of Listen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362320" y="1600200"/>
            <a:ext cx="624816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79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ompetitive Listening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914400" indent="-457200">
              <a:spcBef>
                <a:spcPts val="1749"/>
              </a:spcBef>
              <a:buClr>
                <a:srgbClr val="33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Pretend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to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pay attention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while really just waiting to give your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own opinion and idea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960" y="6477120"/>
            <a:ext cx="114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S 93 TM B1 </a:t>
            </a:r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asic Modes of Listen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362320" y="1600200"/>
            <a:ext cx="624816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799"/>
              </a:spcBef>
              <a:buClr>
                <a:srgbClr val="3366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Passive Listening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914400" indent="-457200">
              <a:spcBef>
                <a:spcPts val="1500"/>
              </a:spcBef>
              <a:buClr>
                <a:srgbClr val="33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Attentive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, but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do not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restate or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reflect the message, no real feedback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8960" y="6477120"/>
            <a:ext cx="114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S 93 TM B2 </a:t>
            </a:r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asic Modes of Listen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76520" y="1295280"/>
            <a:ext cx="62481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601"/>
              </a:spcBef>
              <a:buClr>
                <a:srgbClr val="3366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Active Listening</a:t>
            </a:r>
            <a:br>
              <a:rPr sz="2400"/>
            </a:b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Genuinely interested in message, encourages speaker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heck for understanding before responding by paraphrasing what was said— “It sounds like you…”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Is attentive, good eye contact and body languag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8960" y="6477120"/>
            <a:ext cx="114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S 93 TM B3 </a:t>
            </a:r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asic Modes of Listen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4. Critical Listening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-Listening to analyze and evaluate the important information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asic Modes of Listen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5. Empathetic Listening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-Listening simply to understand the other person’s feeling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Barriers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 to 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Effective Listen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00200" y="1447920"/>
            <a:ext cx="678168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Your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physical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mental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 stat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Physical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—tired, hungry</a:t>
            </a:r>
            <a:br>
              <a:rPr sz="2800"/>
            </a:b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Mental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—thinking about personal issue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8960" y="647712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S 93 TM C1 </a:t>
            </a:r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Barriers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 to 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Effective Listen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362320" y="1600200"/>
            <a:ext cx="624816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799"/>
              </a:spcBef>
              <a:buClr>
                <a:srgbClr val="3366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Your prejudices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llowing own personal beliefs to judge the speaker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8960" y="647712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S 93 TM C2 </a:t>
            </a:r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5T06:13:37Z</dcterms:created>
  <dc:creator>Mark Reardon</dc:creator>
  <dc:description/>
  <dc:language>en-US</dc:language>
  <cp:lastModifiedBy>cowman</cp:lastModifiedBy>
  <dcterms:modified xsi:type="dcterms:W3CDTF">2008-01-22T04:48:23Z</dcterms:modified>
  <cp:revision>2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