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271440"/>
            <a:ext cx="777528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1685520"/>
            <a:ext cx="7762680" cy="199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90360" y="3869640"/>
            <a:ext cx="7762680" cy="199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271440"/>
            <a:ext cx="777528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360" y="1685520"/>
            <a:ext cx="3787920" cy="199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68000" y="1685520"/>
            <a:ext cx="3787920" cy="199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90360" y="3869640"/>
            <a:ext cx="3787920" cy="199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68000" y="3869640"/>
            <a:ext cx="3787920" cy="199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271440"/>
            <a:ext cx="777528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360" y="1685520"/>
            <a:ext cx="2499480" cy="199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15120" y="1685520"/>
            <a:ext cx="2499480" cy="199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39880" y="1685520"/>
            <a:ext cx="2499480" cy="199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90360" y="3869640"/>
            <a:ext cx="2499480" cy="199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15120" y="3869640"/>
            <a:ext cx="2499480" cy="199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39880" y="3869640"/>
            <a:ext cx="2499480" cy="199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271440"/>
            <a:ext cx="777528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90360" y="1685520"/>
            <a:ext cx="7762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271440"/>
            <a:ext cx="777528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1685520"/>
            <a:ext cx="7762680" cy="418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271440"/>
            <a:ext cx="777528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360" y="1685520"/>
            <a:ext cx="3787920" cy="418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8000" y="1685520"/>
            <a:ext cx="3787920" cy="418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271440"/>
            <a:ext cx="777528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90720" y="271440"/>
            <a:ext cx="7775280" cy="54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271440"/>
            <a:ext cx="777528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1685520"/>
            <a:ext cx="3787920" cy="199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8000" y="1685520"/>
            <a:ext cx="3787920" cy="418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3869640"/>
            <a:ext cx="3787920" cy="199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271440"/>
            <a:ext cx="777528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1685520"/>
            <a:ext cx="3787920" cy="418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68000" y="1685520"/>
            <a:ext cx="3787920" cy="199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68000" y="3869640"/>
            <a:ext cx="3787920" cy="199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271440"/>
            <a:ext cx="777528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1685520"/>
            <a:ext cx="3787920" cy="199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8000" y="1685520"/>
            <a:ext cx="3787920" cy="199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360" y="3869640"/>
            <a:ext cx="7762680" cy="199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8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2"/>
          <p:cNvGrpSpPr/>
          <p:nvPr/>
        </p:nvGrpSpPr>
        <p:grpSpPr>
          <a:xfrm>
            <a:off x="0" y="385920"/>
            <a:ext cx="9134640" cy="6188040"/>
            <a:chOff x="0" y="385920"/>
            <a:chExt cx="9134640" cy="6188040"/>
          </a:xfrm>
        </p:grpSpPr>
        <p:grpSp>
          <p:nvGrpSpPr>
            <p:cNvPr id="1" name="Group 7"/>
            <p:cNvGrpSpPr/>
            <p:nvPr/>
          </p:nvGrpSpPr>
          <p:grpSpPr>
            <a:xfrm>
              <a:off x="0" y="385920"/>
              <a:ext cx="966960" cy="457200"/>
              <a:chOff x="0" y="385920"/>
              <a:chExt cx="966960" cy="457200"/>
            </a:xfrm>
          </p:grpSpPr>
          <p:sp>
            <p:nvSpPr>
              <p:cNvPr id="2" name="Freeform 2"/>
              <p:cNvSpPr/>
              <p:nvPr/>
            </p:nvSpPr>
            <p:spPr>
              <a:xfrm>
                <a:off x="0" y="385920"/>
                <a:ext cx="320760" cy="457200"/>
              </a:xfrm>
              <a:custGeom>
                <a:avLst/>
                <a:gdLst>
                  <a:gd name="textAreaLeft" fmla="*/ 0 w 320760"/>
                  <a:gd name="textAreaRight" fmla="*/ 321120 w 32076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02" h="288">
                    <a:moveTo>
                      <a:pt x="0" y="0"/>
                    </a:moveTo>
                    <a:lnTo>
                      <a:pt x="201" y="0"/>
                    </a:lnTo>
                    <a:lnTo>
                      <a:pt x="165" y="287"/>
                    </a:lnTo>
                    <a:lnTo>
                      <a:pt x="0" y="2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c0081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3" name="Freeform 3"/>
              <p:cNvSpPr/>
              <p:nvPr/>
            </p:nvSpPr>
            <p:spPr>
              <a:xfrm>
                <a:off x="297000" y="385920"/>
                <a:ext cx="264960" cy="457200"/>
              </a:xfrm>
              <a:custGeom>
                <a:avLst/>
                <a:gdLst>
                  <a:gd name="textAreaLeft" fmla="*/ 0 w 264960"/>
                  <a:gd name="textAreaRight" fmla="*/ 265320 w 26496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167" h="288">
                    <a:moveTo>
                      <a:pt x="34" y="0"/>
                    </a:moveTo>
                    <a:lnTo>
                      <a:pt x="0" y="287"/>
                    </a:lnTo>
                    <a:lnTo>
                      <a:pt x="132" y="287"/>
                    </a:lnTo>
                    <a:lnTo>
                      <a:pt x="166" y="0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dc0081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4" name="Freeform 4"/>
              <p:cNvSpPr/>
              <p:nvPr/>
            </p:nvSpPr>
            <p:spPr>
              <a:xfrm>
                <a:off x="534960" y="385920"/>
                <a:ext cx="220680" cy="45720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139" h="288">
                    <a:moveTo>
                      <a:pt x="35" y="0"/>
                    </a:moveTo>
                    <a:lnTo>
                      <a:pt x="0" y="287"/>
                    </a:lnTo>
                    <a:lnTo>
                      <a:pt x="104" y="287"/>
                    </a:lnTo>
                    <a:lnTo>
                      <a:pt x="138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dc0081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725400" y="385920"/>
                <a:ext cx="163440" cy="45720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103" h="288">
                    <a:moveTo>
                      <a:pt x="34" y="0"/>
                    </a:moveTo>
                    <a:lnTo>
                      <a:pt x="0" y="287"/>
                    </a:lnTo>
                    <a:lnTo>
                      <a:pt x="68" y="287"/>
                    </a:lnTo>
                    <a:lnTo>
                      <a:pt x="102" y="0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dc0081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855720" y="385920"/>
                <a:ext cx="111240" cy="45720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70" h="288">
                    <a:moveTo>
                      <a:pt x="33" y="0"/>
                    </a:moveTo>
                    <a:lnTo>
                      <a:pt x="0" y="287"/>
                    </a:lnTo>
                    <a:lnTo>
                      <a:pt x="35" y="287"/>
                    </a:lnTo>
                    <a:lnTo>
                      <a:pt x="69" y="0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dc0081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  <p:grpSp>
          <p:nvGrpSpPr>
            <p:cNvPr id="7" name="Group 11"/>
            <p:cNvGrpSpPr/>
            <p:nvPr/>
          </p:nvGrpSpPr>
          <p:grpSpPr>
            <a:xfrm>
              <a:off x="838080" y="6257880"/>
              <a:ext cx="8296560" cy="316080"/>
              <a:chOff x="838080" y="6257880"/>
              <a:chExt cx="8296560" cy="316080"/>
            </a:xfrm>
          </p:grpSpPr>
          <p:sp>
            <p:nvSpPr>
              <p:cNvPr id="8" name="Freeform 8"/>
              <p:cNvSpPr/>
              <p:nvPr/>
            </p:nvSpPr>
            <p:spPr>
              <a:xfrm>
                <a:off x="838080" y="6496200"/>
                <a:ext cx="8296560" cy="77760"/>
              </a:xfrm>
              <a:custGeom>
                <a:avLst/>
                <a:gdLst>
                  <a:gd name="textAreaLeft" fmla="*/ 0 w 8296560"/>
                  <a:gd name="textAreaRight" fmla="*/ 8296560 w 82965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5226" h="49">
                    <a:moveTo>
                      <a:pt x="0" y="48"/>
                    </a:moveTo>
                    <a:lnTo>
                      <a:pt x="5225" y="48"/>
                    </a:lnTo>
                    <a:lnTo>
                      <a:pt x="5225" y="0"/>
                    </a:lnTo>
                    <a:lnTo>
                      <a:pt x="12" y="0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9" name="Freeform 9"/>
              <p:cNvSpPr/>
              <p:nvPr/>
            </p:nvSpPr>
            <p:spPr>
              <a:xfrm>
                <a:off x="865080" y="6377040"/>
                <a:ext cx="8269560" cy="77760"/>
              </a:xfrm>
              <a:custGeom>
                <a:avLst/>
                <a:gdLst>
                  <a:gd name="textAreaLeft" fmla="*/ 0 w 8269560"/>
                  <a:gd name="textAreaRight" fmla="*/ 8269920 w 82695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5209" h="49">
                    <a:moveTo>
                      <a:pt x="0" y="48"/>
                    </a:moveTo>
                    <a:lnTo>
                      <a:pt x="5208" y="48"/>
                    </a:lnTo>
                    <a:lnTo>
                      <a:pt x="5208" y="0"/>
                    </a:lnTo>
                    <a:lnTo>
                      <a:pt x="12" y="0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0" name="Freeform 10"/>
              <p:cNvSpPr/>
              <p:nvPr/>
            </p:nvSpPr>
            <p:spPr>
              <a:xfrm>
                <a:off x="892080" y="6257880"/>
                <a:ext cx="8242560" cy="81000"/>
              </a:xfrm>
              <a:custGeom>
                <a:avLst/>
                <a:gdLst>
                  <a:gd name="textAreaLeft" fmla="*/ 0 w 8242560"/>
                  <a:gd name="textAreaRight" fmla="*/ 8242920 w 824256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5192" h="51">
                    <a:moveTo>
                      <a:pt x="0" y="50"/>
                    </a:moveTo>
                    <a:lnTo>
                      <a:pt x="5191" y="48"/>
                    </a:lnTo>
                    <a:lnTo>
                      <a:pt x="5191" y="0"/>
                    </a:lnTo>
                    <a:lnTo>
                      <a:pt x="12" y="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271440"/>
            <a:ext cx="777528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990360" y="1685520"/>
            <a:ext cx="7762680" cy="418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c008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dc008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dc0081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dc008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922320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afd00"/>
                </a:solidFill>
                <a:latin typeface="Times New Roman"/>
              </a:rPr>
              <a:t>Leading Group Discussions</a:t>
            </a:r>
            <a:endParaRPr b="0" lang="en-US" sz="5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76560" y="22096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avid M. Irby, Ph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niversity of Californ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n Francis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4343400" cy="30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271440"/>
            <a:ext cx="777528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1685520"/>
            <a:ext cx="7762680" cy="418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marize key points and provide clos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idge to larger course and/or next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ew learning issues and make assignme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are feedback on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271440"/>
            <a:ext cx="777528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eview of PICS Mode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360" y="1685520"/>
            <a:ext cx="7762680" cy="418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review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e self and preview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volvem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Actively involve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learne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t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Ensure timely progress through cont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ummar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marize key id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271440"/>
            <a:ext cx="777528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Jigsaw Proce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1685520"/>
            <a:ext cx="7762680" cy="418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ced Preparation - divided respon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.  Content specific small group discu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. Cross content small group discu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I.  Total group discu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271440"/>
            <a:ext cx="777528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Jigsaw Process - Part I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762680" cy="418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et in content/chapter 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re for 20 min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e the discussion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ing a preview and set expec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ning strategies for involving every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cilitating discussion of content and managing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arizing key po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271440"/>
            <a:ext cx="777528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Jigsaw Process - Part II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76268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semble in cross-content group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 a discussion on each chapter for 12 minutes eac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ve feedback on experience (specific strengths and recommendations) for 3 min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ew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volvement of al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tent cover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mma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271440"/>
            <a:ext cx="777528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Jigsaw Process - Part III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360" y="1685520"/>
            <a:ext cx="7762680" cy="418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id you learn from this experience?  What surprised you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questions do you ha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pecific techniques will you use in your teach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271440"/>
            <a:ext cx="777528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eview of PICS Mode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1685520"/>
            <a:ext cx="7762680" cy="418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review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e self and preview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volvem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Actively involve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learne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t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Ensure timely progress through cont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ummar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marize key id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271440"/>
            <a:ext cx="777528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360" y="1685520"/>
            <a:ext cx="7762680" cy="418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eful organization and active involvement enhances le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ick one of the tips to use in your next teaching encoun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r enthusiasm will inspire learning and increase persistence in le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fu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271440"/>
            <a:ext cx="777528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evie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360" y="1685520"/>
            <a:ext cx="7762680" cy="418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tal Group Discu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c008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c008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CS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 Group Jigs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c008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on planning in chapter 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c008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ussion of each chapter in small 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tal group discu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271440"/>
            <a:ext cx="777528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at Makes a Great Discussion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271440"/>
            <a:ext cx="777528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y use Discussion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630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s motivation and persistence in learn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s learning outcomes because learners mus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dc008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ticulate what they know and don’t kn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dc008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llenge their own assumpt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dc008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nect and consolidate 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s communication skil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likely to change valu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271440"/>
            <a:ext cx="777528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ost Common Pitfall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1685520"/>
            <a:ext cx="7762680" cy="418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s or talks too muc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ils to involve every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ils to introduce self or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n’t make progress through content; allows too many tang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summary or concl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n’t share self and think alou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271440"/>
            <a:ext cx="777528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ICS Discussion Mode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e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volvement of al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tent cover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mmar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cilitator: enthusiastic, supportive and challeng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271440"/>
            <a:ext cx="777528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evie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1685520"/>
            <a:ext cx="7461000" cy="418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e self and top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rationale and capture att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e objectiv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iew session and expectations for particip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ablish positive learning clim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3886200" y="533520"/>
            <a:ext cx="3505320" cy="533160"/>
          </a:xfrm>
          <a:custGeom>
            <a:avLst/>
            <a:gdLst>
              <a:gd name="textAreaLeft" fmla="*/ 547560 w 3505320"/>
              <a:gd name="textAreaRight" fmla="*/ 3067200 w 350532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271440"/>
            <a:ext cx="777528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volve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360" y="1685520"/>
            <a:ext cx="7762680" cy="418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mote active participation and stimulate thin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c008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k questions, assign tasks, challenge assumptions, guide further learn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hibit enthusia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5029200" y="228600"/>
            <a:ext cx="1752480" cy="1143000"/>
          </a:xfrm>
          <a:custGeom>
            <a:avLst/>
            <a:gdLst>
              <a:gd name="textAreaLeft" fmla="*/ 438120 w 1752480"/>
              <a:gd name="textAreaRight" fmla="*/ 1314360 w 175248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close/>
              </a:path>
            </a:pathLst>
          </a:cu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271440"/>
            <a:ext cx="777528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nt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1685520"/>
            <a:ext cx="7762680" cy="418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us and progress through main id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c008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 and pace discu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c008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visuals to capture ideas (scrib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c008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arize periodica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AutoShape 4"/>
          <p:cNvSpPr/>
          <p:nvPr/>
        </p:nvSpPr>
        <p:spPr>
          <a:xfrm>
            <a:off x="3429000" y="457200"/>
            <a:ext cx="2971800" cy="609480"/>
          </a:xfrm>
          <a:prstGeom prst="rightArrow">
            <a:avLst>
              <a:gd name="adj1" fmla="val 50000"/>
              <a:gd name="adj2" fmla="val 121899"/>
            </a:avLst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03T20:01:10Z</dcterms:created>
  <dc:creator>Preferred Customer</dc:creator>
  <dc:description/>
  <dc:language>en-US</dc:language>
  <cp:lastModifiedBy>I.T. Department</cp:lastModifiedBy>
  <dcterms:modified xsi:type="dcterms:W3CDTF">2012-04-20T19:14:27Z</dcterms:modified>
  <cp:revision>22</cp:revision>
  <dc:subject/>
  <dc:title>Leading Group Discussions</dc:title>
</cp:coreProperties>
</file>