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947-9C49-4F3F-8276-4507E3CE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389-6768-4512-BEA9-93C42E1F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11F-654D-4233-95D0-8394A3EF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222-E61C-4D6E-86E4-1924B871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656A-D2F0-48C1-A4F4-9CAC645A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A252-C9FF-44C5-8716-5DAD0276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46CD-2BCC-452E-BFBF-ECE8CAA5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8254-2B76-4891-BD5D-68190A08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FF9E-9793-4BD9-AF1E-32B162F4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5327-D811-42D2-82B5-C858AA63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4780-00C3-4731-9924-2F5CC243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5C8-1A84-4576-A67B-81885A19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491A-8DD6-4CE3-88CD-01B53021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D897-BB8D-40C2-9166-B93C1E24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3F92-55FF-4078-AD34-E6E7E510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5DD8-90DB-4598-8286-55289F46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7542-836B-49F1-BEFE-E50A3543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8A0-D3F5-44AA-8B36-EB7FA6D6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D7A-2B57-43D4-A134-68828973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538-3745-4B7B-AB11-126E8CAD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08D-B5D8-4D27-BA9A-2B914662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3FA-1AED-4A57-8F83-83A92F31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185-B883-402C-8FDD-54142350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B3E-A195-47CE-81C6-FC2CA7AC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C147-3B5E-4196-991A-0C7984C2E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1CF8-AA45-4A22-8A52-51E6C5AE2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opic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--must be agriculturally/Natural Resources related or FFA rel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ime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—4-6 minutes in leng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Manuscript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--must hand in manuscript that is neatly typed or neatly hand written at time of delive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5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Parts of spee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od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G Time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Provides support to topic.  This is the part of the speech that is the longest an provides information about the top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5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Parts of spee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Conclus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Norm ally a paragraph long; summarize speech; a story, quote, etc. are accept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6.  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Types of speech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a.  Inform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.  Entertaining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c.  Persuasive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7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Types of prepa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a.  Prepa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.  Extemporaneous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c.  Impromp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WE WILL BE GIVING PERSUASIVE TYPE SPEECHES THAT ARE PREPARED!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8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Evaluation (Grading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he grade on the speech will be determined by the following criter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ime of spe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Manuscript (Neatness, if directions are followed, proper spelling, proper punctuation and completeness.)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8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Evaluation (Grading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Deli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a.  Eye 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.  Ges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c.  V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d.  Stage Pres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e.  Power of Ex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8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Evaluation (Grading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Each student will answer at least three questions after student presents speech to the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REQUIREMENTS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819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A.  Title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4648320" y="2209680"/>
            <a:ext cx="3047760" cy="4191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b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First page of spee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First page of speech should not have a page nu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Should have a 1 inch margin on each side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c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Second page of speech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Should be numbered page 2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Should have a 1 inch margin top, bottom, and same on both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d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Third page and 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Same as page tw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e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References and Bibliography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Should be a separate page and should be the last page of your speech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his page should not be numbere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You must have at least three written Refer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Margins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Top= 1 in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Bottom= 1 inch     both sides= 1 in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f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Page num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Prefer at the bottom of the page and 1/2 inch from the bottom and also in the cen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Date to be giv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Student will choose date and must give on chosen d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Student can change date if another student is willing to trade.  This must be determined at least one day in advance and the instructor must know a day prior to the day to be giv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Failure to give speech on chosen date will result in 25% dock in gr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G Times"/>
                <a:ea typeface="Times New Roman"/>
              </a:rPr>
              <a:t>Those students who choose to give speech early will benefit in grade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5.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CG Times"/>
                <a:ea typeface="Times New Roman"/>
              </a:rPr>
              <a:t>Parts of speec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G Times"/>
                <a:ea typeface="Times New Roman"/>
              </a:rPr>
              <a:t>Normally a paragraph long;  introduces subject; avoid "Did you know" questions;  use creative approach;  a story, analogy, etc. are acceptable; use attention getters.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14:10Z</dcterms:created>
  <dc:creator>District User</dc:creator>
  <dc:description/>
  <dc:language>en-US</dc:language>
  <cp:lastModifiedBy>District User</cp:lastModifiedBy>
  <dcterms:modified xsi:type="dcterms:W3CDTF">2010-11-16T15:10:16Z</dcterms:modified>
  <cp:revision>5</cp:revision>
  <dc:subject/>
  <dc:title>PowerPoint Presentation</dc:title>
</cp:coreProperties>
</file>