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A6A-E3C5-4997-B2D9-17F1137B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BF4-458A-4024-B31A-F7E2F0E7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EB1-55B4-47C8-8C91-C2E68264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A82-0C2C-4CCC-B490-4D52450A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1E02-8DA4-4D26-B9C1-2CC24818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71F-8C9C-48C4-9DE8-81332BCF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9361-C0D6-4290-AAB9-8EEFA54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50A9-354E-4B01-A645-86D7F0B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C6FC-DEC0-4AD4-A7F8-8DEA0B8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4CE6-5346-4593-88D0-469F0F8A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E521-1B98-40E3-8D4E-6DF34A1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CA9-BD72-446F-8CD1-6B9A0D3B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89D5-30EF-4FF9-A95D-CD97371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CF7-E53A-43E4-8608-C7CCD35F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1BDE-4B97-49AA-A1E8-9541ECF0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CEA-6F2A-4E6D-83BD-0CC87409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AA7-56F3-4288-80F7-01BE0E84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25F-69EB-4155-A4BA-7A5616D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D56-15CD-4FBF-854C-819AA786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B7E-5ED5-4EF2-829F-EFAB74AC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8B5-3936-4875-A8D8-8FDAC5E0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AF7-A7E8-48F1-9F71-B04EE09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9DF-B737-41F5-A444-A08CC4A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0BA-3990-4C1C-B9BE-C84BE0AE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E54A-F542-4C62-B87F-BCC0BBF276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19080"/>
            <a:ext cx="213840" cy="6877080"/>
            <a:chOff x="0" y="-19080"/>
            <a:chExt cx="213840" cy="6877080"/>
          </a:xfrm>
        </p:grpSpPr>
        <p:sp>
          <p:nvSpPr>
            <p:cNvPr id="7" name=""/>
            <p:cNvSpPr/>
            <p:nvPr/>
          </p:nvSpPr>
          <p:spPr>
            <a:xfrm rot="5400000">
              <a:off x="-1039320" y="102024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-1039320" y="331272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-1038960" y="5604840"/>
              <a:ext cx="2292120" cy="213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812-ABE1-4840-9BA5-86082AAB97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Responding to </a:t>
            </a:r>
            <a:br>
              <a:rPr sz="5800"/>
            </a:b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Audience Feedback 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How do I communicate my thoughts and ideas to others?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17220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Two of Develop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30320" y="643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Definition of Feedback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inions and reactions—communication—we receive from an audience (an audience can be an individual or a group of people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ategories of Feedback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6553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feed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lls the communicator to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he type of communication and subj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35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feed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lls the communicator to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he communication type or subj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eedback Form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305560" cy="1447560"/>
        </p:xfrm>
        <a:graphic>
          <a:graphicData uri="http://schemas.openxmlformats.org/drawingml/2006/table">
            <a:tbl>
              <a:tblPr/>
              <a:tblGrid>
                <a:gridCol w="1955880"/>
                <a:gridCol w="3207960"/>
                <a:gridCol w="314172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t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erbal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29680" y="6477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2 TM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3276720"/>
          <a:ext cx="8305560" cy="3025800"/>
        </p:xfrm>
        <a:graphic>
          <a:graphicData uri="http://schemas.openxmlformats.org/drawingml/2006/table">
            <a:tbl>
              <a:tblPr/>
              <a:tblGrid>
                <a:gridCol w="2463840"/>
                <a:gridCol w="584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ive Feed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I would change my commun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k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ten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erbal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19:10Z</dcterms:created>
  <dc:creator>Mark Reardon</dc:creator>
  <dc:description/>
  <dc:language>en-US</dc:language>
  <cp:lastModifiedBy>District User</cp:lastModifiedBy>
  <dcterms:modified xsi:type="dcterms:W3CDTF">2008-04-07T12:30:44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