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663-B90F-41CF-909D-9588B804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6B6A-8694-4CE9-8823-CBCC46F5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AF0-4720-4F7A-994E-E2B010B9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3F8-4B11-426C-9D9E-6B58EF43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F78C-B1BC-4A67-BA2C-215A0C32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00B8-9FE7-4657-90A3-605C6401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4C55-80AF-4F0D-832A-83E63E66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6870-4120-4CEB-B34F-1586C427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343E-69EE-4F32-9629-D0D986C8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0959-9353-4FBB-8F04-E466A3CE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96E0-DE8E-4B91-9251-85E64E40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BD7D-4EC3-472D-813F-51189479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80F4-6EAF-4E0E-A12A-D700E57F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3941-1A53-498C-98A0-9E5EB06C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6C51-B852-477B-8444-08562407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1E42-4BFB-412C-8873-CF7E6CC1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45E8-14A0-486D-8C34-4F3422FB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F4D-0004-41EA-9B63-78F86FC6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17E-4C39-4C6E-A67D-06F9FD84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7C8-4092-4FF8-8039-46A8266E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338-09F7-4F93-8675-727C0ABA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15D6-8571-43AB-AD87-C4BE208B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7F2-468C-42E6-92E5-A7A79D5E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07F-5D2E-4841-806D-4CB32305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7476-CD69-42A4-A5BE-7667462BC5A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-19080"/>
            <a:ext cx="213840" cy="6877080"/>
            <a:chOff x="0" y="-19080"/>
            <a:chExt cx="213840" cy="6877080"/>
          </a:xfrm>
        </p:grpSpPr>
        <p:sp>
          <p:nvSpPr>
            <p:cNvPr id="7" name=""/>
            <p:cNvSpPr/>
            <p:nvPr/>
          </p:nvSpPr>
          <p:spPr>
            <a:xfrm rot="5400000">
              <a:off x="-1039320" y="1020240"/>
              <a:ext cx="2292480" cy="2138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5400000">
              <a:off x="-1039320" y="3312720"/>
              <a:ext cx="2292480" cy="213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5400000">
              <a:off x="-1038960" y="5604840"/>
              <a:ext cx="2292120" cy="2138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DB34-1C4B-4758-BBAC-8B81A64AEE5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Answering Questions from Others </a:t>
            </a:r>
            <a:endParaRPr b="0" lang="en-US" sz="5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76520" y="32004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How do I communicate my thoughts and ideas to others? 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172200"/>
            <a:ext cx="121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Two of Develop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30320" y="643104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auses of Questions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arifica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eeds more information to understand topic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re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ants more information because they like topic or have previous experience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st knowledg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ants to know how much you know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agreemen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ants to see if you are consistent with your information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9680" y="647712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3 TM 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Four Steps to Answering Questions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sten first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was sai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as there non-verbal communication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nalyze what was said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was the cause of the question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information does the person want to know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9320" y="647712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3 TM C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Four Steps continued…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struct your thought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29440" indent="-37692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is the best way to answer the question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29440" indent="-37692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ll my answer give the information they wan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29440" indent="-37692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ll my answer deal with the cause of the question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29440" indent="-37692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m I being truthful with my answer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29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2520" indent="-452520">
              <a:spcBef>
                <a:spcPts val="700"/>
              </a:spcBef>
              <a:buClr>
                <a:srgbClr val="ffcc00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ive the answer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9320" y="647712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3 TM C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Times New Roman"/>
              </a:rPr>
              <a:t>The difference in answering questions between individuals and groups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Questions from individual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ne-word answers may be used, if appropria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hould maintain eye contact with the individu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peak at a natural volum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Questions from group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ust use complete sentenc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ust repeat the question within the answ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hould use eye contact with entire group, not just the individu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hould speak more loudly than norm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9680" y="647712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43 TM 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4T19:26:26Z</dcterms:created>
  <dc:creator>Mark Reardon</dc:creator>
  <dc:description/>
  <dc:language>en-US</dc:language>
  <cp:lastModifiedBy>District User</cp:lastModifiedBy>
  <dcterms:modified xsi:type="dcterms:W3CDTF">2008-04-07T12:33:10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