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7636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52880" y="160020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9984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7636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52880" y="398844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247680"/>
            <a:ext cx="7620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04760" y="398844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4760" y="1600200"/>
            <a:ext cx="3718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9840" y="3988440"/>
            <a:ext cx="7620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6000000">
            <a:off x="799560" y="59040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6000000">
            <a:off x="456480" y="53316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249600"/>
            <a:ext cx="8839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Lucida Calligraph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Lif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Knowledge</a:t>
            </a:r>
            <a:r>
              <a:rPr b="0" lang="en-US" sz="1400" spc="-1" strike="noStrike">
                <a:solidFill>
                  <a:srgbClr val="ff0000"/>
                </a:solidFill>
                <a:latin typeface="Lucida Calligraphy"/>
              </a:rPr>
              <a:t>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6320" y="-1752480"/>
            <a:ext cx="8002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720" y="19810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120" y="0"/>
            <a:ext cx="1067040" cy="685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00000">
            <a:off x="875520" y="2095200"/>
            <a:ext cx="723960" cy="571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000">
            <a:off x="532800" y="2037960"/>
            <a:ext cx="723960" cy="57168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76320" dir="54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27000"/>
            <a:ext cx="861048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senting Speeche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10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n creating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scrip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sentation outlin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rearran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e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in thi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B4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895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osing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42" name="mirror" descr=""/>
          <p:cNvPicPr/>
          <p:nvPr/>
        </p:nvPicPr>
        <p:blipFill>
          <a:blip r:embed="rId1"/>
          <a:stretch/>
        </p:blipFill>
        <p:spPr>
          <a:xfrm>
            <a:off x="3200400" y="3691080"/>
            <a:ext cx="1752480" cy="1261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5120" y="5334120"/>
            <a:ext cx="701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Keep in mind that you’ll b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great with practice!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riting a speech using the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56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ink of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everal idea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for each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ep firs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; then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narrow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those ideas down to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 best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A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riting a speech using the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our main step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involved in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writing a speech: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A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35268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ep One—Prepar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5" name="phone1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HEART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18273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Action" descr=""/>
          <p:cNvPicPr/>
          <p:nvPr/>
        </p:nvPicPr>
        <p:blipFill>
          <a:blip r:embed="rId3"/>
          <a:stretch/>
        </p:blipFill>
        <p:spPr>
          <a:xfrm>
            <a:off x="6858000" y="4114800"/>
            <a:ext cx="168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riting a speech using the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our main step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involved in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writing a speech: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A3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35268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ep Two—Create the Body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2" name="point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2514600" cy="1663560"/>
          </a:xfrm>
          <a:prstGeom prst="rect">
            <a:avLst/>
          </a:prstGeom>
          <a:ln w="0">
            <a:noFill/>
          </a:ln>
        </p:spPr>
      </p:pic>
      <p:pic>
        <p:nvPicPr>
          <p:cNvPr id="103" name="books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2438280" cy="1370160"/>
          </a:xfrm>
          <a:prstGeom prst="rect">
            <a:avLst/>
          </a:prstGeom>
          <a:ln w="0">
            <a:noFill/>
          </a:ln>
        </p:spPr>
      </p:pic>
      <p:pic>
        <p:nvPicPr>
          <p:cNvPr id="104" name="application" descr=""/>
          <p:cNvPicPr/>
          <p:nvPr/>
        </p:nvPicPr>
        <p:blipFill>
          <a:blip r:embed="rId3"/>
          <a:stretch/>
        </p:blipFill>
        <p:spPr>
          <a:xfrm>
            <a:off x="6934320" y="39625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riting a speech using the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our main step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involved in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writing a speech: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A3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335268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ep Three—Create the Closing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9" name="mirror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28958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914400"/>
            <a:ext cx="762012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riting a speech using the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agic Formula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re ar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our main step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involved in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writing a speech: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A4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ep Four—Create the Opening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4" name="plug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2438640" cy="2006640"/>
          </a:xfrm>
          <a:prstGeom prst="rect">
            <a:avLst/>
          </a:prstGeom>
          <a:ln w="0">
            <a:noFill/>
          </a:ln>
        </p:spPr>
      </p:pic>
      <p:pic>
        <p:nvPicPr>
          <p:cNvPr id="115" name="sign" descr=""/>
          <p:cNvPicPr/>
          <p:nvPr/>
        </p:nvPicPr>
        <p:blipFill>
          <a:blip r:embed="rId2"/>
          <a:stretch/>
        </p:blipFill>
        <p:spPr>
          <a:xfrm>
            <a:off x="5410080" y="4495680"/>
            <a:ext cx="25909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senting Speeche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re ar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wo written form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o choose when presenting from …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B1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2514600"/>
            <a:ext cx="662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script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the speech is written word for word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Presentation Outline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the speech is written in the form of an outline with key points and not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senting Speeche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4760" y="170172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n creating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scrip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sentation outlin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rearran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e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in thi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B2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76876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ening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3683160"/>
            <a:ext cx="5714280" cy="1193040"/>
            <a:chOff x="2895480" y="3683160"/>
            <a:chExt cx="5714280" cy="1193040"/>
          </a:xfrm>
        </p:grpSpPr>
        <p:pic>
          <p:nvPicPr>
            <p:cNvPr id="125" name="plug" descr=""/>
            <p:cNvPicPr/>
            <p:nvPr/>
          </p:nvPicPr>
          <p:blipFill>
            <a:blip r:embed="rId1"/>
            <a:stretch/>
          </p:blipFill>
          <p:spPr>
            <a:xfrm>
              <a:off x="2895480" y="3683160"/>
              <a:ext cx="1447560" cy="119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sign" descr=""/>
            <p:cNvPicPr/>
            <p:nvPr/>
          </p:nvPicPr>
          <p:blipFill>
            <a:blip r:embed="rId2"/>
            <a:stretch/>
          </p:blipFill>
          <p:spPr>
            <a:xfrm>
              <a:off x="6602400" y="3915000"/>
              <a:ext cx="20073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H="1">
              <a:off x="4748760" y="3915000"/>
              <a:ext cx="1157760" cy="694440"/>
            </a:xfrm>
            <a:prstGeom prst="leftArrow">
              <a:avLst>
                <a:gd name="adj1" fmla="val 50000"/>
                <a:gd name="adj2" fmla="val 4168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esenting Speeches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102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n creating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scrip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sentation outlin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rearran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e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in thi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960" y="647712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 86 TM B3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7432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od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057400" y="3543480"/>
            <a:ext cx="6629040" cy="1104480"/>
            <a:chOff x="2057400" y="3543480"/>
            <a:chExt cx="6629040" cy="1104480"/>
          </a:xfrm>
        </p:grpSpPr>
        <p:pic>
          <p:nvPicPr>
            <p:cNvPr id="133" name="point" descr=""/>
            <p:cNvPicPr/>
            <p:nvPr/>
          </p:nvPicPr>
          <p:blipFill>
            <a:blip r:embed="rId1"/>
            <a:stretch/>
          </p:blipFill>
          <p:spPr>
            <a:xfrm>
              <a:off x="2057400" y="3604680"/>
              <a:ext cx="1487880" cy="9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books" descr=""/>
            <p:cNvPicPr/>
            <p:nvPr/>
          </p:nvPicPr>
          <p:blipFill>
            <a:blip r:embed="rId2"/>
            <a:stretch/>
          </p:blipFill>
          <p:spPr>
            <a:xfrm>
              <a:off x="4635360" y="3788640"/>
              <a:ext cx="136512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application" descr=""/>
            <p:cNvPicPr/>
            <p:nvPr/>
          </p:nvPicPr>
          <p:blipFill>
            <a:blip r:embed="rId3"/>
            <a:stretch/>
          </p:blipFill>
          <p:spPr>
            <a:xfrm>
              <a:off x="7581600" y="3543480"/>
              <a:ext cx="1104840" cy="11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0800000">
              <a:off x="6292080" y="3921480"/>
              <a:ext cx="920880" cy="551880"/>
            </a:xfrm>
            <a:prstGeom prst="leftArrow">
              <a:avLst>
                <a:gd name="adj1" fmla="val 50000"/>
                <a:gd name="adj2" fmla="val 4171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0520" y="3921840"/>
              <a:ext cx="920160" cy="551880"/>
            </a:xfrm>
            <a:prstGeom prst="rightArrow">
              <a:avLst>
                <a:gd name="adj1" fmla="val 50000"/>
                <a:gd name="adj2" fmla="val 416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6:13:37Z</dcterms:created>
  <dc:creator>Mark Reardon</dc:creator>
  <dc:description/>
  <dc:language>en-US</dc:language>
  <cp:lastModifiedBy>District User</cp:lastModifiedBy>
  <dcterms:modified xsi:type="dcterms:W3CDTF">2007-11-29T20:17:0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