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BEF113-85D0-4540-B67D-9333F8D77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B19B09-8137-4672-B8B9-A44521384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A1AE92-1E84-44CC-9518-86BA0DAE27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29EA03-FF55-42C1-9F9C-F1C66E284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5C32F-EC24-4F44-89ED-FACD49DA6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F8AE5-46B6-4884-B46F-DAB3C25D4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F9D0F-15D5-4676-953E-43BAB3270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2229F-C912-4F33-B6F4-05C0275D6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7CA0D-33E0-4BA8-9279-6BB260B61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B2DF5-A330-49EB-9A99-F96890E7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764C9-4B39-449B-A515-4BA84B43D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F8ED8-BDF0-4A10-8B3A-328B9F33B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2F50D-582A-4C03-8811-6830AE364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77E7-6578-4427-8FB7-1ECE5FDE1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5DAC4-7485-4B07-A50C-8EE5FB1CD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3DC77-F4D7-4F4D-AC05-5A71F5CAF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53C7B-C3B4-4F89-B2F0-E0C5513A5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AE945-6A7E-4B4B-8617-40794800D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677365-D015-483F-958E-D06FE2D3C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EB094C-9DF1-468D-8FD9-23886D69B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734C01-9939-47CD-A79B-80D563B7D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4F856-97B6-4E77-83B8-3FDF36B3D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53085D-3493-4B53-B32B-B910E5A22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7BB5B-3A13-426E-97E1-65A9116252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A513-CC6F-4DA4-A1C5-2209F473154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E7F4-4EB2-4FB6-9B6F-150355C5299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Parts of the Magic Formula</a:t>
            </a:r>
            <a:endParaRPr b="0" lang="en-US" sz="4200" spc="-1" strike="noStrike">
              <a:solidFill>
                <a:srgbClr val="ffffcc"/>
              </a:solidFill>
              <a:latin typeface="Tahoma"/>
            </a:endParaRPr>
          </a:p>
        </p:txBody>
      </p:sp>
      <p:sp>
        <p:nvSpPr>
          <p:cNvPr id="126" name="PlaceHolder 2"/>
          <p:cNvSpPr>
            <a:spLocks noGrp="1"/>
          </p:cNvSpPr>
          <p:nvPr>
            <p:ph/>
          </p:nvPr>
        </p:nvSpPr>
        <p:spPr>
          <a:xfrm>
            <a:off x="0" y="838080"/>
            <a:ext cx="8763120" cy="563904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speech is read out-loud to the class, work with your partner to label the following parts of the speech.  Write the labels in the margin of the speech next to the paragraph where you find them:</a:t>
            </a:r>
            <a:endParaRPr b="0" lang="en-US" sz="24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troduction/Opening</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nection </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view of speech</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dy</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oint</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ive Evidence</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ication</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osing/Conclusion</a:t>
            </a:r>
            <a:endParaRPr b="0" lang="en-US" sz="2400" spc="-1" strike="noStrike">
              <a:solidFill>
                <a:srgbClr val="ffffff"/>
              </a:solidFill>
              <a:latin typeface="Tahoma"/>
            </a:endParaRPr>
          </a:p>
          <a:p>
            <a:pPr lvl="2" marL="1143000" indent="-228600">
              <a:lnSpc>
                <a:spcPct val="8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and Summa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6">
                                            <p:txEl>
                                              <p:pRg st="0" end="0"/>
                                            </p:txEl>
                                          </p:spTgt>
                                        </p:tgtEl>
                                        <p:attrNameLst>
                                          <p:attrName>style.visibility</p:attrName>
                                        </p:attrNameLst>
                                      </p:cBhvr>
                                      <p:to>
                                        <p:strVal val="visible"/>
                                      </p:to>
                                    </p:set>
                                    <p:anim calcmode="lin" valueType="num">
                                      <p:cBhvr additive="base">
                                        <p:cTn id="12"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26">
                                            <p:txEl>
                                              <p:pRg st="2" end="2"/>
                                            </p:txEl>
                                          </p:spTgt>
                                        </p:tgtEl>
                                        <p:attrNameLst>
                                          <p:attrName>style.visibility</p:attrName>
                                        </p:attrNameLst>
                                      </p:cBhvr>
                                      <p:to>
                                        <p:strVal val="visible"/>
                                      </p:to>
                                    </p:set>
                                    <p:anim calcmode="lin" valueType="num">
                                      <p:cBhvr additive="base">
                                        <p:cTn id="16"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26">
                                            <p:txEl>
                                              <p:pRg st="3" end="3"/>
                                            </p:txEl>
                                          </p:spTgt>
                                        </p:tgtEl>
                                        <p:attrNameLst>
                                          <p:attrName>style.visibility</p:attrName>
                                        </p:attrNameLst>
                                      </p:cBhvr>
                                      <p:to>
                                        <p:strVal val="visible"/>
                                      </p:to>
                                    </p:set>
                                    <p:anim calcmode="lin" valueType="num">
                                      <p:cBhvr additive="base">
                                        <p:cTn id="20"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22" nodeType="withEffect" fill="hold" presetClass="entr" presetID="2" presetSubtype="4">
                                  <p:stCondLst>
                                    <p:cond delay="0"/>
                                  </p:stCondLst>
                                  <p:childTnLst>
                                    <p:set>
                                      <p:cBhvr>
                                        <p:cTn id="23" dur="1" fill="hold">
                                          <p:stCondLst>
                                            <p:cond delay="0"/>
                                          </p:stCondLst>
                                        </p:cTn>
                                        <p:tgtEl>
                                          <p:spTgt spid="126">
                                            <p:txEl>
                                              <p:pRg st="4" end="4"/>
                                            </p:txEl>
                                          </p:spTgt>
                                        </p:tgtEl>
                                        <p:attrNameLst>
                                          <p:attrName>style.visibility</p:attrName>
                                        </p:attrNameLst>
                                      </p:cBhvr>
                                      <p:to>
                                        <p:strVal val="visible"/>
                                      </p:to>
                                    </p:set>
                                    <p:anim calcmode="lin" valueType="num">
                                      <p:cBhvr additive="base">
                                        <p:cTn id="24"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26" nodeType="withEffect" fill="hold" presetClass="entr" presetID="2" presetSubtype="4">
                                  <p:stCondLst>
                                    <p:cond delay="0"/>
                                  </p:stCondLst>
                                  <p:childTnLst>
                                    <p:set>
                                      <p:cBhvr>
                                        <p:cTn id="27" dur="1" fill="hold">
                                          <p:stCondLst>
                                            <p:cond delay="0"/>
                                          </p:stCondLst>
                                        </p:cTn>
                                        <p:tgtEl>
                                          <p:spTgt spid="126">
                                            <p:txEl>
                                              <p:pRg st="6" end="6"/>
                                            </p:txEl>
                                          </p:spTgt>
                                        </p:tgtEl>
                                        <p:attrNameLst>
                                          <p:attrName>style.visibility</p:attrName>
                                        </p:attrNameLst>
                                      </p:cBhvr>
                                      <p:to>
                                        <p:strVal val="visible"/>
                                      </p:to>
                                    </p:set>
                                    <p:anim calcmode="lin" valueType="num">
                                      <p:cBhvr additive="base">
                                        <p:cTn id="28"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26">
                                            <p:txEl>
                                              <p:pRg st="6" end="6"/>
                                            </p:txEl>
                                          </p:spTgt>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126">
                                            <p:txEl>
                                              <p:pRg st="7" end="7"/>
                                            </p:txEl>
                                          </p:spTgt>
                                        </p:tgtEl>
                                        <p:attrNameLst>
                                          <p:attrName>style.visibility</p:attrName>
                                        </p:attrNameLst>
                                      </p:cBhvr>
                                      <p:to>
                                        <p:strVal val="visible"/>
                                      </p:to>
                                    </p:set>
                                    <p:anim calcmode="lin" valueType="num">
                                      <p:cBhvr additive="base">
                                        <p:cTn id="32"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26">
                                            <p:txEl>
                                              <p:pRg st="7" end="7"/>
                                            </p:txEl>
                                          </p:spTgt>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26">
                                            <p:txEl>
                                              <p:pRg st="8" end="8"/>
                                            </p:txEl>
                                          </p:spTgt>
                                        </p:tgtEl>
                                        <p:attrNameLst>
                                          <p:attrName>style.visibility</p:attrName>
                                        </p:attrNameLst>
                                      </p:cBhvr>
                                      <p:to>
                                        <p:strVal val="visible"/>
                                      </p:to>
                                    </p:set>
                                    <p:anim calcmode="lin" valueType="num">
                                      <p:cBhvr additive="base">
                                        <p:cTn id="36"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6">
                                            <p:txEl>
                                              <p:pRg st="8" end="8"/>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26">
                                            <p:txEl>
                                              <p:pRg st="9" end="9"/>
                                            </p:txEl>
                                          </p:spTgt>
                                        </p:tgtEl>
                                        <p:attrNameLst>
                                          <p:attrName>style.visibility</p:attrName>
                                        </p:attrNameLst>
                                      </p:cBhvr>
                                      <p:to>
                                        <p:strVal val="visible"/>
                                      </p:to>
                                    </p:set>
                                    <p:anim calcmode="lin" valueType="num">
                                      <p:cBhvr additive="base">
                                        <p:cTn id="40"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26">
                                            <p:txEl>
                                              <p:pRg st="9" end="9"/>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26">
                                            <p:txEl>
                                              <p:pRg st="11" end="11"/>
                                            </p:txEl>
                                          </p:spTgt>
                                        </p:tgtEl>
                                        <p:attrNameLst>
                                          <p:attrName>style.visibility</p:attrName>
                                        </p:attrNameLst>
                                      </p:cBhvr>
                                      <p:to>
                                        <p:strVal val="visible"/>
                                      </p:to>
                                    </p:set>
                                    <p:anim calcmode="lin" valueType="num">
                                      <p:cBhvr additive="base">
                                        <p:cTn id="44" dur="5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26">
                                            <p:txEl>
                                              <p:pRg st="11" end="11"/>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6">
                                            <p:txEl>
                                              <p:pRg st="12" end="12"/>
                                            </p:txEl>
                                          </p:spTgt>
                                        </p:tgtEl>
                                        <p:attrNameLst>
                                          <p:attrName>style.visibility</p:attrName>
                                        </p:attrNameLst>
                                      </p:cBhvr>
                                      <p:to>
                                        <p:strVal val="visible"/>
                                      </p:to>
                                    </p:set>
                                    <p:anim calcmode="lin" valueType="num">
                                      <p:cBhvr additive="base">
                                        <p:cTn id="48" dur="5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
          <p:cNvSpPr/>
          <p:nvPr/>
        </p:nvSpPr>
        <p:spPr>
          <a:xfrm>
            <a:off x="228600" y="228600"/>
            <a:ext cx="8915400" cy="63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MAGIC FORMULA REVEALED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Tahoma"/>
              </a:rPr>
              <a:t>Connection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s is where you grab the audience’s attention &amp; relate to the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ou can do this b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ing a personal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 a true story of someone else’s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the audience picture an imaginative scenari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a familiar or memorable quote from a song, commercial, e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are a shocking statisti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this speech the speaker accounts a personal experi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Picture this: it was my sophomore year of high school. I was a nervous wreck. Our teacher had told us to write a speech on a topic of our choosing, and now it was time to deliver the spee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As I walked to the front of the class room, my palms were sweaty and my heart was pounding; I just knew that I was surely going to trip, or some thing clumsy like that. I reached the front of the class room, turned to face the audience, and found they were all looking at m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Wait, I was the one who was speaking! I read my speech straight off the paper; it was really hard to prepare. I had such a hard time finding a place to start writing, not to mention trying to remember the actual speech when the pressure was on. After that day, I decided that there had to be a better way to approach writing and delivering speech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p:nvPr/>
        </p:nvSpPr>
        <p:spPr>
          <a:xfrm>
            <a:off x="457200" y="152280"/>
            <a:ext cx="8381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Preview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ive them a summary of what you are going to sa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ybe, like me, you’ve also thought, “Man, there’s just got to be a better way to get my ideas down on paper and actually remember what order they go in!” If you’ve ever had a thought l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at, you are in the right place. Today, I’m going to tell you about a tool you can use to brain-storm and deliver effective speeches. It’s called the Magic Formula for presenting.</a:t>
            </a:r>
            <a:endParaRPr b="0" lang="en-US" sz="1800" spc="-1" strike="noStrike">
              <a:solidFill>
                <a:srgbClr val="ffffff"/>
              </a:solidFill>
              <a:latin typeface="Arial"/>
            </a:endParaRPr>
          </a:p>
        </p:txBody>
      </p:sp>
      <p:sp>
        <p:nvSpPr>
          <p:cNvPr id="129" name=""/>
          <p:cNvSpPr/>
          <p:nvPr/>
        </p:nvSpPr>
        <p:spPr>
          <a:xfrm>
            <a:off x="380880" y="3809880"/>
            <a:ext cx="8077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Main Point</a:t>
            </a:r>
            <a:r>
              <a:rPr b="1" i="1" lang="en-US"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r main points should be statements—something you are claim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Using the Magic Formula makes it easier to brain storm and write great speec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
          <p:cNvSpPr/>
          <p:nvPr/>
        </p:nvSpPr>
        <p:spPr>
          <a:xfrm>
            <a:off x="228600" y="304920"/>
            <a:ext cx="84582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2400" spc="-1" strike="noStrike" u="sng">
                <a:solidFill>
                  <a:srgbClr val="ffffff"/>
                </a:solidFill>
                <a:uFillTx/>
                <a:latin typeface="Tahoma"/>
              </a:rPr>
              <a:t>Suppor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is where you share your evidenc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cts, data, dates, quotes from experts, examples, etc.  Here the speaker uses a real life example and she uses expert testimony from her 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ake, for instance, Crystal, who thought that writing speeches was difficult. Her biggest complaint was that it was just too hard to start. Then she found the Magic Formula. It really helped 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Just the other day in my leadership course, my teacher told us about several advantages to using the Magic Formula in developing and delivering presentations. Some of the    advantages she listed were: one, it gives you a place to start when you begin to create a presentation; two, it helps you remember your presentation with just a few notes; three, it helps you build confidence as an effective presenter; finally, it helps you influence other peo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p:nvPr/>
        </p:nvSpPr>
        <p:spPr>
          <a:xfrm>
            <a:off x="304920" y="1295280"/>
            <a:ext cx="84582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i="1" lang="en-US" sz="2400" spc="-1" strike="noStrike" u="sng">
                <a:solidFill>
                  <a:srgbClr val="ffffff"/>
                </a:solidFill>
                <a:uFillTx/>
                <a:latin typeface="Tahoma"/>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w can what you are telling the audience relate to their liv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Using the Magic Formula can help you too. You might use the formula to brainstorm a speech as a group or by your self. It’s hardest to get started, but the formula has questions to help you out. You also might use the formula to outline how you will present the ideas you brainstorm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re are many ways for you to use the formu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228600" y="914400"/>
            <a:ext cx="86868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Review and Clos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m up what you told them in a memorable stat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 you think about writing your next speeches, remember this: using the Magic Formula can make it easier. The most important point I’ll take away from using the Magic Formula is that you’ll get better with practice. You’d be surprised at the magic you can create when you use this formula for presenting your next spee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00:58:45Z</dcterms:created>
  <dc:creator>cowman</dc:creator>
  <dc:description/>
  <dc:language>en-US</dc:language>
  <cp:lastModifiedBy>cowman</cp:lastModifiedBy>
  <dcterms:modified xsi:type="dcterms:W3CDTF">2008-04-07T01:42:59Z</dcterms:modified>
  <cp:revision>6</cp:revision>
  <dc:subject/>
  <dc:title>Parts of the Magic Formula</dc:title>
</cp:coreProperties>
</file>