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4C8E-0A3A-45D2-8C58-9F56C85E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2C31-4786-469D-A2FB-843315C8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FB30-93E1-46A6-9487-6E3B9426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C3DA-A52B-492D-A7AF-85B5E078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99BB-94D5-48D5-AFBD-A2084CF4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3022-5197-45C4-9ECF-499439D3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2AD3-9237-4877-8A61-A76F70CF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2E27-501E-403F-86E8-272DBEF7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2BFA-AC4C-4E93-A975-036E8D83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A320-7662-4B72-A5A9-2FAF4ABB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E64E-9111-4BB9-B128-02AA866B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9D97-C1E6-4892-928B-70EA99A5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12E8-0FFA-4232-878A-6691F81E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33EF-C379-496B-8A33-089EE8E1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0381-517C-4052-AC2B-9AE0A6AB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0086-D8FC-4BD4-BBB5-A5FB6C83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506C-391C-4578-B297-DC56647D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CDDC-61FA-4C05-8A65-235FC849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CD51-9EB5-4B8A-B702-5480FCB8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EFB2-AB5A-4323-ADBE-92DAC359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9916-1C55-422D-8E36-F259947A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85F-EDE0-43A0-874B-C78BA060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5570-B25C-4F41-8D11-41A71984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B9A6-75AD-45D8-B6B2-BB1AC485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6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6711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7d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9c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3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9f0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a217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5f10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a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8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79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f0000"/>
                  </a:gs>
                  <a:gs pos="100000">
                    <a:srgbClr val="9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a217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D0FA-7EC1-4FA0-8383-55DBC33207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6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6711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7d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9c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3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9f0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a217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5f10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a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8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79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f0000"/>
                  </a:gs>
                  <a:gs pos="100000">
                    <a:srgbClr val="9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a217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722F-23BC-4911-91F0-C1479E4F7AE2}" type="slidenum"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dc78"/>
                </a:solidFill>
                <a:latin typeface="Arial"/>
              </a:rPr>
              <a:t>Planning and Implementing a Service Project</a:t>
            </a:r>
            <a:endParaRPr b="0" lang="en-US" sz="48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9e6"/>
                </a:solidFill>
                <a:latin typeface="Arial"/>
              </a:rPr>
              <a:t>Understanding Service Leadership</a:t>
            </a: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6324480" y="6232680"/>
            <a:ext cx="2743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Arial"/>
              </a:rPr>
              <a:t>Leadership Revision Committee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Arial"/>
              </a:rPr>
              <a:t>May 2007</a:t>
            </a:r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9e6"/>
                </a:solidFill>
                <a:latin typeface="Arial"/>
              </a:rPr>
              <a:t>Identify the components of a service plan- the organized components and strategies for executing a service project?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9e6"/>
                </a:solidFill>
                <a:latin typeface="Arial"/>
              </a:rPr>
              <a:t>Choose a service project.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9e6"/>
                </a:solidFill>
                <a:latin typeface="Arial"/>
              </a:rPr>
              <a:t>Students will develop a service project.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9e6"/>
                </a:solidFill>
                <a:latin typeface="Arial"/>
              </a:rPr>
              <a:t>Students will implement a service project.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dc78"/>
                </a:solidFill>
                <a:latin typeface="Arial"/>
              </a:rPr>
              <a:t>What are the components of a service project?</a:t>
            </a:r>
            <a:endParaRPr b="0" lang="en-US" sz="40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Name of the project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9e6"/>
                </a:solidFill>
                <a:latin typeface="Arial"/>
              </a:rPr>
              <a:t>Community Rake Day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Needs assessmen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Project goal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What will be accomplished to meet the identified need?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dc78"/>
                </a:solidFill>
                <a:latin typeface="Arial"/>
              </a:rPr>
              <a:t>What are the components of a service project?</a:t>
            </a:r>
            <a:endParaRPr b="0" lang="en-US" sz="40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Learning goal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What do I hope to learn or gain from this project?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ools or resource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What materials and human power are needed for this project?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dc78"/>
                </a:solidFill>
                <a:latin typeface="Arial"/>
              </a:rPr>
              <a:t>What are the components of a service project?</a:t>
            </a:r>
            <a:endParaRPr b="0" lang="en-US" sz="40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Budge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How much will this project cost and how will it be funded?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trategies or procedure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Who will do what—delegating, advertising, recruiting, set-up, cleanup, etc.?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dc78"/>
                </a:solidFill>
                <a:latin typeface="Arial"/>
              </a:rPr>
              <a:t>What are the components of a service project?</a:t>
            </a:r>
            <a:endParaRPr b="0" lang="en-US" sz="40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imeline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When will things get done?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Reflection question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What do I want to remember to ask myself after the project?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Project Workshee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Needs assessmen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Project goal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Learning goal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ools or resource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Budge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trategies or procedure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imeline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Reflection questions 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5:48:24Z</dcterms:created>
  <dc:creator>Schumaker William</dc:creator>
  <dc:description/>
  <dc:language>en-US</dc:language>
  <cp:lastModifiedBy>I.T. Department</cp:lastModifiedBy>
  <dcterms:modified xsi:type="dcterms:W3CDTF">2012-04-03T18:49:51Z</dcterms:modified>
  <cp:revision>2</cp:revision>
  <dc:subject/>
  <dc:title>Planning and Implementing a Service Project</dc:title>
</cp:coreProperties>
</file>