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BBC-B6FB-4F81-B49C-AC440378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8C7-FB60-4A8B-B6BA-6692CEA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63B-F2E2-4272-9333-C881AFB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7FA-A678-4295-9900-01C8BD1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7A1-5B7B-405F-A2BA-4AF88AA0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34B-B9FE-438D-B1D4-0B81717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34D-52B9-470C-B343-745ACB5E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AFB-187D-4BC0-938B-E377BFD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BE0-FE73-4AA7-AB93-9F640B4A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296-1889-4B2F-94A2-E9A71C5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5FC-FCC7-4612-84A0-BCB4489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887-C2F9-4B32-A396-7CF5953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CFF3-3C20-4B1A-93DB-9B1A8026C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FA Officer Du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Kyle Cor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 Offic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ha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to meet all the chapter members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memorize their parts for official ceremon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National FFA Organization"/>
          <p:cNvPicPr/>
          <p:nvPr/>
        </p:nvPicPr>
        <p:blipFill>
          <a:blip r:embed="rId1"/>
          <a:stretch/>
        </p:blipFill>
        <p:spPr>
          <a:xfrm>
            <a:off x="4784760" y="1371600"/>
            <a:ext cx="384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85840" y="22093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 over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rdinate activities and evaluate the program of activities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the chapter at official functions and in public re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MCj02321720000[1]"/>
          <p:cNvPicPr/>
          <p:nvPr/>
        </p:nvPicPr>
        <p:blipFill>
          <a:blip r:embed="rId1"/>
          <a:stretch/>
        </p:blipFill>
        <p:spPr>
          <a:xfrm>
            <a:off x="457200" y="1371600"/>
            <a:ext cx="3182760" cy="317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8600" y="4800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Rising Su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ce Presid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ume presidents duties if necess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the program of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 all committee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ith president and advisor about go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a chapter resource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MCj0231560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55464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257800" y="5029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p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ost meeting agen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nd present min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program of activities wall up 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retary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on hand for each mee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icial FFA Chapter Secretary's Book including minutes of the previous meet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of the Program of Activities including all standing and special committe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fficial FFA Ma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ational FFA Student Handbook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ies of the chapter constitution and byla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j0280901"/>
          <p:cNvPicPr/>
          <p:nvPr/>
        </p:nvPicPr>
        <p:blipFill>
          <a:blip r:embed="rId1"/>
          <a:stretch/>
        </p:blipFill>
        <p:spPr>
          <a:xfrm>
            <a:off x="6056280" y="914400"/>
            <a:ext cx="261612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324480" y="510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ear of cor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asur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444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rd and be in charge of FFA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monthly treasurer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irman of the “earnings and savings” committ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j0213403"/>
          <p:cNvPicPr/>
          <p:nvPr/>
        </p:nvPicPr>
        <p:blipFill>
          <a:blip r:embed="rId1"/>
          <a:stretch/>
        </p:blipFill>
        <p:spPr>
          <a:xfrm>
            <a:off x="0" y="1295280"/>
            <a:ext cx="4121280" cy="3157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3520" y="4724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Washing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or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harge of public information (radio, newspaper, etc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 a chapter news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the chapter photograp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j0304941"/>
          <p:cNvPicPr/>
          <p:nvPr/>
        </p:nvPicPr>
        <p:blipFill>
          <a:blip r:embed="rId1"/>
          <a:stretch/>
        </p:blipFill>
        <p:spPr>
          <a:xfrm>
            <a:off x="6051600" y="990720"/>
            <a:ext cx="2684520" cy="3954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629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tioned by the fl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6:31:07Z</dcterms:created>
  <dc:creator>Rex Hamner</dc:creator>
  <dc:description/>
  <dc:language>en-US</dc:language>
  <cp:lastModifiedBy>I.T. Department</cp:lastModifiedBy>
  <dcterms:modified xsi:type="dcterms:W3CDTF">2012-04-02T15:25:41Z</dcterms:modified>
  <cp:revision>3</cp:revision>
  <dc:subject/>
  <dc:title>FFA Officer Du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