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CD6-37BF-4CBA-9BFA-2B1866D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84B-052D-40CC-A192-D31D5CAE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CFB-C166-4A53-B6E6-6D2BECD0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CC1-7086-49FE-84C8-7C8BE032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9C6C1-6F2E-4F78-B9A4-941A689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27641-9CF1-48C1-852E-5F00F31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DAD1-F692-4A7C-9DB6-7308ADF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02A3-82EA-4224-B37C-2A74AF0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99F9C-591E-42BA-A8CE-C134A473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B317C-2E0B-4604-9D20-1B6D1493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0548C-F3EA-4DD1-932A-51154B7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80E-E7C2-43DD-81AB-FA442D7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21788-06F7-4D39-8EE0-35551D9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1374-AA96-4C01-A891-A58AC73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B5F7-EE60-4920-B0B2-DA905AE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EF09D-F90D-45ED-853B-83D727B9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EE4C8-C997-4C2C-88AF-3D4AA4DB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29A-9983-4452-8BD1-1B0208A9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F87-363B-4CD7-B3CD-F6C3A94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2DB-B418-4CC6-A1FA-20FB0122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4F5-EAE1-42A6-B3B0-42D92D3C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B98-923A-4EA6-9255-34D6C14F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C47-0C78-4F9F-A9F1-9990CF3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77C-D451-4003-BE59-C2C0879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24B-6E25-42DD-BBD1-1470B7D9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FFF-A35E-476A-9C0A-3C4DC9F797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 Degrees an  FFA Member Can Ear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sed on Individual Accomplish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covery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dues p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 in at least 1 FFA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knowledge of ag car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familiar with FFA Program of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nhand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enrolled in 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plans for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– Creed, Motto, Salute, 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meaning of FFA Em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of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of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received the Greenhand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 hours of a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d in at least 3 chapter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ned $150 on SA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 group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parliamentary 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te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have Chapter Deg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en a member for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yrs. of ag (360 hr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n $1000 in SAEP or work 300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parliamentary 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ch on ag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as chapter officer or a member of 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activities above the chapter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erican Deg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have State De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yrs. of ag – (540 hou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graduated from High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Level SAEP – $7,500 invested or ea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rd of outstanding 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” or better grades in 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4:24:08Z</dcterms:created>
  <dc:creator>Schumaker William</dc:creator>
  <dc:description/>
  <dc:language>en-US</dc:language>
  <cp:lastModifiedBy>I.T. Department</cp:lastModifiedBy>
  <dcterms:modified xsi:type="dcterms:W3CDTF">2012-04-03T18:28:36Z</dcterms:modified>
  <cp:revision>4</cp:revision>
  <dc:subject/>
  <dc:title>5 Degrees an  FFA Member Can Earn Based on Individual Accomplishments</dc:title>
</cp:coreProperties>
</file>