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CEA-C14D-45D9-B016-57FDE0D7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FDF-E60C-4EBB-891F-7D8EC9A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A1F-8E8D-46CE-B88E-0052B7B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D0E-2EAD-44AB-87A4-2C39834E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C5-9913-42C9-9CF1-63EFAB3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839-A3E1-447B-B83F-65F4AFD7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ED2-3A52-4B18-A5D2-0F4A0E5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0E6-E4B3-482B-A33C-192967EF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143-AB07-4FC1-8F17-E36D5E96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C3C-9758-49A3-A7C4-026946C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86D-3DA3-4F06-B8E1-AE9DAA5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9F7-3572-443F-87DF-53E78A2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D7C5-1FD8-43AC-A3DA-84F250EED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The FFA Emblem</a:t>
            </a:r>
            <a:endParaRPr b="0" lang="en-US" sz="5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owl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8600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 knowledge and wis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fa%20on%20blue5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3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words Agricultural Education surrounding FFA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2133720"/>
            <a:ext cx="7848720" cy="1800360"/>
            <a:chOff x="685800" y="2133720"/>
            <a:chExt cx="7848720" cy="1800360"/>
          </a:xfrm>
        </p:grpSpPr>
        <p:sp>
          <p:nvSpPr>
            <p:cNvPr id="78" name=""/>
            <p:cNvSpPr/>
            <p:nvPr/>
          </p:nvSpPr>
          <p:spPr>
            <a:xfrm>
              <a:off x="6858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...tell us that FFA is an important part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2133720"/>
              <a:ext cx="2362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f an agricultural education  progra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is is our FFA emblem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fa%20on%20blue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ear it with pride!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Identify six parts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Describe the meaning of each part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Explain the use of the FFA emblem.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cross section of an ear of corn … </a:t>
            </a:r>
            <a:endParaRPr b="0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represents our common interest in agri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fa%20on%20blue0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eagle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1905120"/>
            <a:ext cx="304812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symbolic of the national scop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F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fa%20on%20blue1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6076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rising sun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124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progress in  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agri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ffa%20on%20blue2a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fa%20on%20blue3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5896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he plow...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990720"/>
            <a:ext cx="47246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...symbolizes lab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nd till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the s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56:04Z</dcterms:created>
  <dc:creator>BILSA</dc:creator>
  <dc:description/>
  <dc:language>en-US</dc:language>
  <cp:lastModifiedBy>District User</cp:lastModifiedBy>
  <dcterms:modified xsi:type="dcterms:W3CDTF">2003-09-04T00:49:47Z</dcterms:modified>
  <cp:revision>6</cp:revision>
  <dc:subject/>
  <dc:title>No Slide Title</dc:title>
</cp:coreProperties>
</file>