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6AE-E073-42F4-9EA6-2C2E0E9E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C49-8500-4C9F-ABE8-A444EBDF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CCF-C63D-4AFA-A417-D44AD5E5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4E8-704B-45C3-BB75-85D7D59E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05E7-BD22-474F-BD68-E527C39B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D8E0-39D5-4E52-A31B-8FD073E8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E071-B9C8-4782-9B16-D90BBCF8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2151-5895-47D4-8FCA-D21C1C00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514F-19DA-471E-B3D3-01414048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F064-E42F-4DE1-9D2D-0D784E95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A7B7-A5C0-4E64-85A0-378BA252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F54-4576-4217-BDB3-12206D6A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640B-6314-43CA-B9F2-8DAC3C0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3295-3D87-4AA7-9B7F-0C6274DD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C713-FE22-4198-9B96-573F6930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4C0-9A30-4C32-9DB6-CD72AF08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BF81-65F4-46BD-BF87-3A2FF622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5B2-D866-4F16-9AE0-938A43D2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FBD-4683-49BD-8549-2A96EB4F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9EA-FACF-4EEE-A3FB-772FD49F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6E6-42FE-4C25-B33C-EBD9C7A6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2C7-AA17-44DB-B6B1-06597BB9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962-A114-4B00-9431-94CC4903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B55-62C6-4937-A154-C82991CE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0589-59D6-4E04-8160-7AD55DE8CD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D4F5-A4EE-40B9-B5C3-2875AC372D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er material: any material that is branched or clustered and fill space between major components in the design.  It usually remains subordinate to other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iller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2" name="Picture 3" descr="P1050262"/>
          <p:cNvPicPr/>
          <p:nvPr/>
        </p:nvPicPr>
        <p:blipFill>
          <a:blip r:embed="rId1"/>
          <a:stretch/>
        </p:blipFill>
        <p:spPr>
          <a:xfrm>
            <a:off x="4572000" y="609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P1050282"/>
          <p:cNvPicPr/>
          <p:nvPr/>
        </p:nvPicPr>
        <p:blipFill>
          <a:blip r:embed="rId2"/>
          <a:stretch/>
        </p:blipFill>
        <p:spPr>
          <a:xfrm>
            <a:off x="4572000" y="33526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iller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5" name="Picture 4" descr="F:\photos\Floral Curriculum\plants\P1050547.JPG"/>
          <p:cNvPicPr/>
          <p:nvPr/>
        </p:nvPicPr>
        <p:blipFill>
          <a:blip r:embed="rId1"/>
          <a:stretch/>
        </p:blipFill>
        <p:spPr>
          <a:xfrm>
            <a:off x="44956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photos\Floral Curriculum\flowers\P1050756.JPG"/>
          <p:cNvPicPr/>
          <p:nvPr/>
        </p:nvPicPr>
        <p:blipFill>
          <a:blip r:embed="rId2"/>
          <a:stretch/>
        </p:blipFill>
        <p:spPr>
          <a:xfrm>
            <a:off x="38088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material :  any flower with a spike or spike-like inflorescence with an elongated stem; elongated or linear shaped fol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99" name="Picture 3" descr="P1050287"/>
          <p:cNvPicPr/>
          <p:nvPr/>
        </p:nvPicPr>
        <p:blipFill>
          <a:blip r:embed="rId1"/>
          <a:stretch/>
        </p:blipFill>
        <p:spPr>
          <a:xfrm>
            <a:off x="4648320" y="4572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1050304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oliage—linear shap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2" name="Picture 6" descr="F:\photos\Floral Curriculum\plants\P1050769.JPG"/>
          <p:cNvPicPr/>
          <p:nvPr/>
        </p:nvPicPr>
        <p:blipFill>
          <a:blip r:embed="rId1"/>
          <a:stretch/>
        </p:blipFill>
        <p:spPr>
          <a:xfrm>
            <a:off x="5105520" y="121932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material:  any material whose shape is its most distinctive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6" name="Picture 3" descr="P1050548"/>
          <p:cNvPicPr/>
          <p:nvPr/>
        </p:nvPicPr>
        <p:blipFill>
          <a:blip r:embed="rId1"/>
          <a:stretch/>
        </p:blipFill>
        <p:spPr>
          <a:xfrm>
            <a:off x="4648320" y="533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1050560"/>
          <p:cNvPicPr/>
          <p:nvPr/>
        </p:nvPicPr>
        <p:blipFill>
          <a:blip r:embed="rId2"/>
          <a:stretch/>
        </p:blipFill>
        <p:spPr>
          <a:xfrm>
            <a:off x="1600200" y="1371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1050598"/>
          <p:cNvPicPr/>
          <p:nvPr/>
        </p:nvPicPr>
        <p:blipFill>
          <a:blip r:embed="rId3"/>
          <a:stretch/>
        </p:blipFill>
        <p:spPr>
          <a:xfrm>
            <a:off x="4419720" y="35053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1050281"/>
          <p:cNvPicPr/>
          <p:nvPr/>
        </p:nvPicPr>
        <p:blipFill>
          <a:blip r:embed="rId4"/>
          <a:stretch/>
        </p:blipFill>
        <p:spPr>
          <a:xfrm>
            <a:off x="838080" y="441972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material: a single, rounded material at the top of a stem used for adding volume to a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14" name="Picture 3" descr="P1050328"/>
          <p:cNvPicPr/>
          <p:nvPr/>
        </p:nvPicPr>
        <p:blipFill>
          <a:blip r:embed="rId1"/>
          <a:stretch/>
        </p:blipFill>
        <p:spPr>
          <a:xfrm>
            <a:off x="403848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P1050289"/>
          <p:cNvPicPr/>
          <p:nvPr/>
        </p:nvPicPr>
        <p:blipFill>
          <a:blip r:embed="rId2"/>
          <a:stretch/>
        </p:blipFill>
        <p:spPr>
          <a:xfrm>
            <a:off x="47242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1050270"/>
          <p:cNvPicPr/>
          <p:nvPr/>
        </p:nvPicPr>
        <p:blipFill>
          <a:blip r:embed="rId3"/>
          <a:stretch/>
        </p:blipFill>
        <p:spPr>
          <a:xfrm>
            <a:off x="304920" y="12193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1050255"/>
          <p:cNvPicPr/>
          <p:nvPr/>
        </p:nvPicPr>
        <p:blipFill>
          <a:blip r:embed="rId4"/>
          <a:stretch/>
        </p:blipFill>
        <p:spPr>
          <a:xfrm>
            <a:off x="609480" y="39625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20:52:52Z</dcterms:created>
  <dc:creator>Snake River</dc:creator>
  <dc:description/>
  <dc:language>en-US</dc:language>
  <cp:lastModifiedBy>PattJust</cp:lastModifiedBy>
  <dcterms:modified xsi:type="dcterms:W3CDTF">2009-06-14T01:07:47Z</dcterms:modified>
  <cp:revision>13</cp:revision>
  <dc:subject/>
  <dc:title>Flower &amp; Foliage Forms</dc:title>
</cp:coreProperties>
</file>