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715-B895-4D1B-A883-B05A5C56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AC0-D492-4905-8621-A15CCB1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462-DAC2-4502-8958-DB27434D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24F-85EC-4980-8CD7-32FDD241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0D64-33C6-4789-ADC7-9C740FC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668-623C-4C94-BF1A-1092086F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8CC8-8593-4062-8677-7708C00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62C3-7EB2-498D-A704-7F85C73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37F4-D06F-4AE9-A30A-4EC293F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C1D5-B526-43FE-B3B0-D4767D02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C7B-B738-4EE6-87FC-343E9E2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956-117E-4B81-8C2B-6869239C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E39-45A2-4016-ABB9-D03054F7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200-8E93-4B03-9B31-AC03A28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1A6F-47B6-4153-BF01-C25388F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E81D-8150-44C4-9100-C782653E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EF8-42E3-4F58-B193-9E81B7F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0D9-C57A-4241-A25D-8B0C95C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B3B-8A7B-4AA7-AA46-BAE6959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AB1-4A25-48D1-A75C-344D8EFE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8BA-642D-4D0F-AF92-3B206842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A38-372F-4221-BCEB-D16F263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589-6D50-4459-B137-8F309DC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3DC-CBF9-4018-A7B5-2B29F5E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72A-E835-46DA-8F41-9EA4424646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C0CE-EE02-4EE3-ABD6-B6927A0A77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r material: any material that is branched or clustered and fill space between major components in the design.  It usually remains subordinate to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iller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2" name="Picture 3" descr="P1050262"/>
          <p:cNvPicPr/>
          <p:nvPr/>
        </p:nvPicPr>
        <p:blipFill>
          <a:blip r:embed="rId1"/>
          <a:stretch/>
        </p:blipFill>
        <p:spPr>
          <a:xfrm>
            <a:off x="457200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50282"/>
          <p:cNvPicPr/>
          <p:nvPr/>
        </p:nvPicPr>
        <p:blipFill>
          <a:blip r:embed="rId2"/>
          <a:stretch/>
        </p:blipFill>
        <p:spPr>
          <a:xfrm>
            <a:off x="4572000" y="3352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iller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5" name="Picture 4" descr="F:\photos\Floral Curriculum\plants\P1050547.JPG"/>
          <p:cNvPicPr/>
          <p:nvPr/>
        </p:nvPicPr>
        <p:blipFill>
          <a:blip r:embed="rId1"/>
          <a:stretch/>
        </p:blipFill>
        <p:spPr>
          <a:xfrm>
            <a:off x="44956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photos\Floral Curriculum\flowers\P1050756.JPG"/>
          <p:cNvPicPr/>
          <p:nvPr/>
        </p:nvPicPr>
        <p:blipFill>
          <a:blip r:embed="rId2"/>
          <a:stretch/>
        </p:blipFill>
        <p:spPr>
          <a:xfrm>
            <a:off x="3808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terial :  any flower with a spike or spike-like inflorescence with an elongated stem; elongated or linear shaped fol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9" name="Picture 3" descr="P1050287"/>
          <p:cNvPicPr/>
          <p:nvPr/>
        </p:nvPicPr>
        <p:blipFill>
          <a:blip r:embed="rId1"/>
          <a:stretch/>
        </p:blipFill>
        <p:spPr>
          <a:xfrm>
            <a:off x="46483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50304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oliage—linear shap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6" descr="F:\photos\Floral Curriculum\plants\P1050769.JPG"/>
          <p:cNvPicPr/>
          <p:nvPr/>
        </p:nvPicPr>
        <p:blipFill>
          <a:blip r:embed="rId1"/>
          <a:stretch/>
        </p:blipFill>
        <p:spPr>
          <a:xfrm>
            <a:off x="5105520" y="12193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material:  any material whose shape is its most distinctiv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3" descr="P1050548"/>
          <p:cNvPicPr/>
          <p:nvPr/>
        </p:nvPicPr>
        <p:blipFill>
          <a:blip r:embed="rId1"/>
          <a:stretch/>
        </p:blipFill>
        <p:spPr>
          <a:xfrm>
            <a:off x="4648320" y="533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1050560"/>
          <p:cNvPicPr/>
          <p:nvPr/>
        </p:nvPicPr>
        <p:blipFill>
          <a:blip r:embed="rId2"/>
          <a:stretch/>
        </p:blipFill>
        <p:spPr>
          <a:xfrm>
            <a:off x="160020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1050598"/>
          <p:cNvPicPr/>
          <p:nvPr/>
        </p:nvPicPr>
        <p:blipFill>
          <a:blip r:embed="rId3"/>
          <a:stretch/>
        </p:blipFill>
        <p:spPr>
          <a:xfrm>
            <a:off x="4419720" y="3505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1050281"/>
          <p:cNvPicPr/>
          <p:nvPr/>
        </p:nvPicPr>
        <p:blipFill>
          <a:blip r:embed="rId4"/>
          <a:stretch/>
        </p:blipFill>
        <p:spPr>
          <a:xfrm>
            <a:off x="838080" y="4419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material: a single, rounded material at the top of a stem used for adding volume to 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4" name="Picture 3" descr="P1050328"/>
          <p:cNvPicPr/>
          <p:nvPr/>
        </p:nvPicPr>
        <p:blipFill>
          <a:blip r:embed="rId1"/>
          <a:stretch/>
        </p:blipFill>
        <p:spPr>
          <a:xfrm>
            <a:off x="40384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1050289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1050270"/>
          <p:cNvPicPr/>
          <p:nvPr/>
        </p:nvPicPr>
        <p:blipFill>
          <a:blip r:embed="rId3"/>
          <a:stretch/>
        </p:blipFill>
        <p:spPr>
          <a:xfrm>
            <a:off x="304920" y="12193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1050255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0:52:52Z</dcterms:created>
  <dc:creator>Snake River</dc:creator>
  <dc:description/>
  <dc:language>en-US</dc:language>
  <cp:lastModifiedBy>PattJust</cp:lastModifiedBy>
  <dcterms:modified xsi:type="dcterms:W3CDTF">2009-06-14T01:07:47Z</dcterms:modified>
  <cp:revision>13</cp:revision>
  <dc:subject/>
  <dc:title>Flower &amp; Foliage Forms</dc:title>
</cp:coreProperties>
</file>